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94D2-D4C3-4364-B8C4-7D3542067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EE8B7-559E-4A12-B2EF-8F0FF8581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6F3E-14AF-4AA4-9DAA-ECF19E8DB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BBE3-6D74-4CF7-AB61-E9469B2DE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DEC98-CD8E-4CB2-9756-597B52B90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A228E-D5E2-47D1-B81A-B0240F84B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4CA65-3D80-4CB1-8196-47F939FAB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EBF75-BA82-4938-836D-F6F996F9B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69A05-06AB-4DD0-A23A-12FD590F7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7FC5C-2C56-470E-8FE8-9F409667F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9ECF1-AA8C-414E-BE9B-EE8C7F4D8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47E2-B739-4B22-82CF-DDBD4EAEE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E3AA1-BD34-4FD1-A3B5-2051A7A94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E9923-EBC0-4DF3-88DF-EDB390A61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DCCA2-CF25-41B4-B4A6-D8E07177E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0893B-4EE1-433A-B247-F56BF8457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3003C-ED32-4E71-8F95-48DF1B754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AF3B-6791-4AFC-8FA6-0000BDD27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12DE-626A-4C62-9735-D438D5C33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1F474-D85A-4E1A-BE9C-1D07DB4B7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38B6-0914-4477-8F30-327922887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6EC1-0E90-4193-AB59-4CB7CC3DD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A6C2-6C92-4063-B2A8-65B70971D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2CB4-0E26-4B1B-89F1-6478A7B10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8D904-4C8C-48B5-BD8A-D0327A9930E1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990720" y="6248520"/>
            <a:ext cx="76975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&lt;footer&gt;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Parallelizing John the Ripper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       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Spring 2004: GCMPS 240A: Project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50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3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arallelizing</a:t>
            </a:r>
            <a:br>
              <a:rPr sz="2800"/>
            </a:b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John the Ripper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By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Andy Pippin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Brendon Hall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Wilson Chen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A832C-4370-4297-ADC3-E4DEBF5EE5F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Result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752480" y="2238480"/>
            <a:ext cx="6248520" cy="4187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A3BA-9037-4A2D-A37B-3D302EE4B9D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Conclusion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chieved nearly linear speedup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ork sharing provides good trade-off between load balancing and complexity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9FF9-7292-4E37-92B3-AF1BB450133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Introduction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urpose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reate a tool for system administrators so they can quickly scan for weak password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nderstand how to parallelize existing serial progra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B015-3D80-4D42-AF98-C9505814BA1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assword Cracking Method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rute-forc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nfallible, though time consuming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8 character passwords with 95 different characters = 6 trillion unique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ctiona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uses pre-defined word list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ossible”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ules can be incorporat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FF1D-6625-405D-9C32-2A7E6046DD2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revious Work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ablecrack (SDSC, 1997) and Teracrack (SDSC, 2000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yan Lim (UNL, 2003) parallelized John the Ripper (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) for brute-force attack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for cracking single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28D8-7D80-4917-92DD-4B26E2F35BB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Our Approach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arallelize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for dictionary style attack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Check for weak passwords quickl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inimize modifications to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core cod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ncentrate on an efficient parallel implementa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73A8-063E-453C-B9F2-2E73B5D916A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UNIX Password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2 - NIST wanted a cryptographic algorithm for non-classified informa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4 - IBM submitted “Lucifer” (128-bit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6 - Data Encryption Standard (56-bit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idely adopted by industr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un Microsystem’s uses DES in their distributed password scheme: NI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Example of an /etc/passwd entry using DE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user:HFnZbS4XGNtEM:12015:12:John Doe,,,COMS,Graduate:/cs/student/user:/bin/tcsh</a:t>
            </a: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6715-EB60-4408-941D-35B545C03B0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arallelization Scheme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stribute the Dictiona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ess memory, but more coordina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stribute the password fil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quires more memory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oad balancing issu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assumes every password is of the same difficulty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7EB8-1C47-4CE7-A162-92337C28E25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Our Method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‘Poker Dealer’ (work shar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and out encrypted password as requir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quires each process to have complete dictionary in memor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asswords with the same salt are given to one processo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5B75-CD4F-406B-8314-8A571D31C59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erformance Metric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racks/Sec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reported by </a:t>
            </a: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Jt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arallel version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adds value reported by each worker process, recalculates to account for communication tim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F15B-9A13-45B1-B9EC-F6A236B1848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1T21:57:01Z</dcterms:created>
  <dc:creator/>
  <dc:description/>
  <dc:language>en-US</dc:language>
  <cp:lastModifiedBy>Admin</cp:lastModifiedBy>
  <dcterms:modified xsi:type="dcterms:W3CDTF">2004-06-02T06:57:17Z</dcterms:modified>
  <cp:revision>17</cp:revision>
  <dc:subject/>
  <dc:title>Parallelizing "John the Ripper"Ripper"</dc:title>
</cp:coreProperties>
</file>