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2EE60-05BA-453C-A908-31BF9402C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3A8DC-3E0D-4EC9-8465-44179A5EC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1E366-3A21-4305-B638-A1D250F36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4D7DA-E286-4048-81C9-F78297FB3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B807C-733E-448E-9274-F3C77A378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6025B-E259-42E4-BB48-3219E2B4E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2CF6D-C726-45D9-9539-30E115E62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CA076-5529-42F6-B826-55FEEB8EA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7B3F7-07EC-4AB8-B833-83F12C013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7AE2E-1F97-4CD5-9215-85DCF2018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733CC-CFF1-493A-8FF7-BAF83D4FB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2E260-03F5-41A2-B86F-CA0F8AC21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0F65C-8570-425D-B99B-9E8535958F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19200" y="1400040"/>
          <a:ext cx="6105600" cy="405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9200" y="1400040"/>
                    <a:ext cx="610560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3:31Z</dcterms:created>
  <dc:creator>Oliver Craemer</dc:creator>
  <dc:description/>
  <dc:language>en-US</dc:language>
  <cp:lastModifiedBy>Oliver Craemer</cp:lastModifiedBy>
  <dcterms:modified xsi:type="dcterms:W3CDTF">2005-01-06T09:23:42Z</dcterms:modified>
  <cp:revision>1</cp:revision>
  <dc:subject/>
  <dc:title>Slide 1</dc:title>
</cp:coreProperties>
</file>