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8097D-1FB5-4F9C-8DC2-5C8929C3C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72CDA-8608-4DDE-A665-36A0830AA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A4357-590F-4308-A6E1-BAC0ED116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3621F-0BC6-4C25-B9F8-A61578121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3814E-E534-4649-AE56-3A3AF5DB4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30144-62F9-4A86-B234-841740C56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CC5AC-A2F2-4A01-9D33-E15F06903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791BD-896D-4BDC-AE37-0576A4B88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B11DC-D332-4E7C-8177-589FC091F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C484A-4F42-41A1-98EF-A6660EA91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681BD-2050-47BE-AA29-3C77920E3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F7D5F-BE68-4B8C-996A-2C0CA037A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78D48-AD1E-48BC-A7E2-6B7946D9F2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1295280"/>
            <a:ext cx="6858000" cy="22100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895480" y="1828800"/>
            <a:ext cx="3124440" cy="160020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819520" y="3048120"/>
            <a:ext cx="335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Graph based execution 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1828800"/>
            <a:ext cx="1981440" cy="160020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38080" y="2819520"/>
            <a:ext cx="2608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Program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1371600"/>
            <a:ext cx="304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Domain Specific 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14400" y="1981080"/>
            <a:ext cx="6094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Ja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600200" y="1981080"/>
            <a:ext cx="6094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Rub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86000" y="1981080"/>
            <a:ext cx="3808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971800" y="1981080"/>
            <a:ext cx="53352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jPD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81280" y="1981080"/>
            <a:ext cx="60984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P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267080" y="1981080"/>
            <a:ext cx="99072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Pagef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34120" y="1981080"/>
            <a:ext cx="45720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221160" y="1905120"/>
            <a:ext cx="112572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IoC-confi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212160" y="2362320"/>
            <a:ext cx="1063080" cy="520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Hibernat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mappin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213240" y="3048120"/>
            <a:ext cx="32256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971800" y="2438280"/>
            <a:ext cx="2895480" cy="3070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Graph Oriented Programm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6" name=""/>
          <p:cNvGrpSpPr/>
          <p:nvPr/>
        </p:nvGrpSpPr>
        <p:grpSpPr>
          <a:xfrm>
            <a:off x="3276000" y="304920"/>
            <a:ext cx="1981080" cy="1143000"/>
            <a:chOff x="3276000" y="304920"/>
            <a:chExt cx="1981080" cy="1143000"/>
          </a:xfrm>
        </p:grpSpPr>
        <p:sp>
          <p:nvSpPr>
            <p:cNvPr id="237" name=""/>
            <p:cNvSpPr/>
            <p:nvPr/>
          </p:nvSpPr>
          <p:spPr>
            <a:xfrm flipH="1" rot="16200000">
              <a:off x="3694680" y="-113760"/>
              <a:ext cx="1143000" cy="1981080"/>
            </a:xfrm>
            <a:prstGeom prst="can">
              <a:avLst>
                <a:gd name="adj" fmla="val 14662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962520" y="762120"/>
              <a:ext cx="914400" cy="457200"/>
            </a:xfrm>
            <a:prstGeom prst="rightArrow">
              <a:avLst>
                <a:gd name="adj1" fmla="val 50000"/>
                <a:gd name="adj2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689280" y="457200"/>
              <a:ext cx="1249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msg que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2819520" y="2743200"/>
            <a:ext cx="533160" cy="0"/>
          </a:xfrm>
          <a:prstGeom prst="line">
            <a:avLst/>
          </a:prstGeom>
          <a:ln w="25560">
            <a:solidFill>
              <a:srgbClr val="77b5c3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352680" y="2438280"/>
            <a:ext cx="2057400" cy="60984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77b5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generatePd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410080" y="2743200"/>
            <a:ext cx="533520" cy="0"/>
          </a:xfrm>
          <a:prstGeom prst="line">
            <a:avLst/>
          </a:prstGeom>
          <a:ln w="25560">
            <a:solidFill>
              <a:srgbClr val="77b5c3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219320" y="1828800"/>
            <a:ext cx="160020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e : 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819520" y="1981080"/>
            <a:ext cx="609480" cy="45720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2133720" y="482760"/>
            <a:ext cx="1371240" cy="812160"/>
            <a:chOff x="2133720" y="482760"/>
            <a:chExt cx="1371240" cy="812160"/>
          </a:xfrm>
        </p:grpSpPr>
        <p:sp>
          <p:nvSpPr>
            <p:cNvPr id="246" name=""/>
            <p:cNvSpPr/>
            <p:nvPr/>
          </p:nvSpPr>
          <p:spPr>
            <a:xfrm>
              <a:off x="2133720" y="482760"/>
              <a:ext cx="1371240" cy="812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133720" y="482760"/>
              <a:ext cx="685440" cy="60876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>
              <a:off x="2818800" y="482760"/>
              <a:ext cx="685800" cy="60876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>
              <a:off x="2133720" y="888840"/>
              <a:ext cx="489600" cy="4060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015360" y="888840"/>
              <a:ext cx="489600" cy="4060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2133720" y="457200"/>
            <a:ext cx="1371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execute</a:t>
            </a:r>
            <a:br>
              <a:rPr sz="1400"/>
            </a:b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n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2513880" y="1295280"/>
            <a:ext cx="228600" cy="53352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5410080" y="609480"/>
            <a:ext cx="1165680" cy="609840"/>
            <a:chOff x="5410080" y="609480"/>
            <a:chExt cx="1165680" cy="609840"/>
          </a:xfrm>
        </p:grpSpPr>
        <p:sp>
          <p:nvSpPr>
            <p:cNvPr id="254" name=""/>
            <p:cNvSpPr/>
            <p:nvPr/>
          </p:nvSpPr>
          <p:spPr>
            <a:xfrm>
              <a:off x="5410080" y="609480"/>
              <a:ext cx="1143000" cy="609840"/>
            </a:xfrm>
            <a:prstGeom prst="flowChartAlternate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433480" y="609480"/>
              <a:ext cx="1142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comma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execu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438280" y="1219320"/>
            <a:ext cx="4724640" cy="32763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Executable software artifa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895480" y="1905120"/>
            <a:ext cx="1295640" cy="12952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Doma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Jav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class fil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95480" y="3352680"/>
            <a:ext cx="144792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Scrip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ant script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343400" y="1905120"/>
            <a:ext cx="2286000" cy="12952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Executab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Busines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Proc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jPDL XML files +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java class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495680" y="3352680"/>
            <a:ext cx="160020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Pagef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webapp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configur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248520" y="3352680"/>
            <a:ext cx="38088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467480" y="1600200"/>
            <a:ext cx="129564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7480" y="2590920"/>
            <a:ext cx="1295640" cy="76176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160020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 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62120" y="2590920"/>
            <a:ext cx="1295280" cy="76176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252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 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8640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36232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6629400" y="2133720"/>
            <a:ext cx="838080" cy="30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629400" y="2438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 flipV="1">
            <a:off x="2057400" y="2133720"/>
            <a:ext cx="838080" cy="30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2057400" y="2438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410080" y="4114800"/>
            <a:ext cx="30492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5105520" y="4114800"/>
            <a:ext cx="30456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429000" y="4114800"/>
            <a:ext cx="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1523880" y="762120"/>
            <a:ext cx="1295280" cy="914400"/>
            <a:chOff x="1523880" y="762120"/>
            <a:chExt cx="1295280" cy="914400"/>
          </a:xfrm>
        </p:grpSpPr>
        <p:sp>
          <p:nvSpPr>
            <p:cNvPr id="79" name=""/>
            <p:cNvSpPr/>
            <p:nvPr/>
          </p:nvSpPr>
          <p:spPr>
            <a:xfrm>
              <a:off x="1523880" y="762120"/>
              <a:ext cx="129528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523880" y="1143360"/>
              <a:ext cx="1295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5257800" y="762120"/>
            <a:ext cx="1371240" cy="914400"/>
            <a:chOff x="5257800" y="762120"/>
            <a:chExt cx="1371240" cy="914400"/>
          </a:xfrm>
        </p:grpSpPr>
        <p:sp>
          <p:nvSpPr>
            <p:cNvPr id="82" name=""/>
            <p:cNvSpPr/>
            <p:nvPr/>
          </p:nvSpPr>
          <p:spPr>
            <a:xfrm>
              <a:off x="5257800" y="762120"/>
              <a:ext cx="137124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rans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257800" y="1143360"/>
              <a:ext cx="1371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2819520" y="838080"/>
            <a:ext cx="2438280" cy="152280"/>
            <a:chOff x="2819520" y="838080"/>
            <a:chExt cx="2438280" cy="152280"/>
          </a:xfrm>
        </p:grpSpPr>
        <p:sp>
          <p:nvSpPr>
            <p:cNvPr id="85" name=""/>
            <p:cNvSpPr/>
            <p:nvPr/>
          </p:nvSpPr>
          <p:spPr>
            <a:xfrm>
              <a:off x="2819520" y="838080"/>
              <a:ext cx="30456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124080" y="914400"/>
              <a:ext cx="2133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819160" y="1447920"/>
            <a:ext cx="2438280" cy="152280"/>
            <a:chOff x="2819160" y="1447920"/>
            <a:chExt cx="2438280" cy="152280"/>
          </a:xfrm>
        </p:grpSpPr>
        <p:sp>
          <p:nvSpPr>
            <p:cNvPr id="88" name=""/>
            <p:cNvSpPr/>
            <p:nvPr/>
          </p:nvSpPr>
          <p:spPr>
            <a:xfrm flipH="1">
              <a:off x="4952880" y="1447920"/>
              <a:ext cx="30456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>
              <a:off x="2819160" y="1524240"/>
              <a:ext cx="2133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3505320" y="609480"/>
            <a:ext cx="18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leavingTransi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819520" y="1219320"/>
            <a:ext cx="18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destin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838080" y="3809880"/>
            <a:ext cx="2819520" cy="838440"/>
            <a:chOff x="838080" y="3809880"/>
            <a:chExt cx="2819520" cy="838440"/>
          </a:xfrm>
        </p:grpSpPr>
        <p:sp>
          <p:nvSpPr>
            <p:cNvPr id="93" name=""/>
            <p:cNvSpPr/>
            <p:nvPr/>
          </p:nvSpPr>
          <p:spPr>
            <a:xfrm>
              <a:off x="838080" y="3809880"/>
              <a:ext cx="2819520" cy="838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38080" y="4191120"/>
              <a:ext cx="2819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914400" y="4267080"/>
              <a:ext cx="274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990720" y="4952880"/>
            <a:ext cx="2590200" cy="914400"/>
            <a:chOff x="990720" y="4952880"/>
            <a:chExt cx="2590200" cy="914400"/>
          </a:xfrm>
        </p:grpSpPr>
        <p:sp>
          <p:nvSpPr>
            <p:cNvPr id="97" name=""/>
            <p:cNvSpPr/>
            <p:nvPr/>
          </p:nvSpPr>
          <p:spPr>
            <a:xfrm>
              <a:off x="990720" y="4952880"/>
              <a:ext cx="251424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rans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990720" y="5333760"/>
              <a:ext cx="2514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066680" y="5410080"/>
              <a:ext cx="251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tak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1981080" y="2286000"/>
            <a:ext cx="4343040" cy="914400"/>
            <a:chOff x="1981080" y="2286000"/>
            <a:chExt cx="4343040" cy="914400"/>
          </a:xfrm>
        </p:grpSpPr>
        <p:grpSp>
          <p:nvGrpSpPr>
            <p:cNvPr id="101" name=""/>
            <p:cNvGrpSpPr/>
            <p:nvPr/>
          </p:nvGrpSpPr>
          <p:grpSpPr>
            <a:xfrm>
              <a:off x="1981080" y="2286000"/>
              <a:ext cx="1599840" cy="914400"/>
              <a:chOff x="1981080" y="2286000"/>
              <a:chExt cx="1599840" cy="914400"/>
            </a:xfrm>
          </p:grpSpPr>
          <p:sp>
            <p:nvSpPr>
              <p:cNvPr id="102" name=""/>
              <p:cNvSpPr/>
              <p:nvPr/>
            </p:nvSpPr>
            <p:spPr>
              <a:xfrm>
                <a:off x="1981080" y="2286000"/>
                <a:ext cx="1553040" cy="9144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BE" sz="1600" spc="-1" strike="noStrike">
                    <a:solidFill>
                      <a:srgbClr val="000000"/>
                    </a:solidFill>
                    <a:latin typeface="Verdana"/>
                  </a:rPr>
                  <a:t>Execu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981080" y="2666880"/>
                <a:ext cx="15530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2027880" y="2743200"/>
                <a:ext cx="15530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" name=""/>
            <p:cNvGrpSpPr/>
            <p:nvPr/>
          </p:nvGrpSpPr>
          <p:grpSpPr>
            <a:xfrm>
              <a:off x="5029200" y="2286000"/>
              <a:ext cx="1294920" cy="914400"/>
              <a:chOff x="5029200" y="2286000"/>
              <a:chExt cx="1294920" cy="914400"/>
            </a:xfrm>
          </p:grpSpPr>
          <p:sp>
            <p:nvSpPr>
              <p:cNvPr id="106" name=""/>
              <p:cNvSpPr/>
              <p:nvPr/>
            </p:nvSpPr>
            <p:spPr>
              <a:xfrm>
                <a:off x="5029200" y="2286000"/>
                <a:ext cx="1294920" cy="9144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BE" sz="1600" spc="-1" strike="noStrike">
                    <a:solidFill>
                      <a:srgbClr val="000000"/>
                    </a:solidFill>
                    <a:latin typeface="Verdana"/>
                  </a:rPr>
                  <a:t>Nod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5029200" y="2667240"/>
                <a:ext cx="12949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8" name=""/>
            <p:cNvSpPr/>
            <p:nvPr/>
          </p:nvSpPr>
          <p:spPr>
            <a:xfrm>
              <a:off x="3581280" y="2743200"/>
              <a:ext cx="30492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886200" y="2819520"/>
              <a:ext cx="1143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00400" y="2514600"/>
              <a:ext cx="1838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5415120" y="4343400"/>
            <a:ext cx="2662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724280" y="3809880"/>
            <a:ext cx="2666880" cy="838080"/>
            <a:chOff x="4724280" y="3809880"/>
            <a:chExt cx="2666880" cy="838080"/>
          </a:xfrm>
        </p:grpSpPr>
        <p:sp>
          <p:nvSpPr>
            <p:cNvPr id="113" name=""/>
            <p:cNvSpPr/>
            <p:nvPr/>
          </p:nvSpPr>
          <p:spPr>
            <a:xfrm>
              <a:off x="4724280" y="3809880"/>
              <a:ext cx="266220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Exec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724280" y="4190760"/>
              <a:ext cx="2662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00240" y="4267080"/>
              <a:ext cx="2590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event(String event) : 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990720" y="1828800"/>
            <a:ext cx="6705360" cy="152388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2971800" y="457200"/>
            <a:ext cx="2819520" cy="838080"/>
            <a:chOff x="2971800" y="457200"/>
            <a:chExt cx="2819520" cy="838080"/>
          </a:xfrm>
        </p:grpSpPr>
        <p:sp>
          <p:nvSpPr>
            <p:cNvPr id="118" name=""/>
            <p:cNvSpPr/>
            <p:nvPr/>
          </p:nvSpPr>
          <p:spPr>
            <a:xfrm>
              <a:off x="2971800" y="457200"/>
              <a:ext cx="281952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971800" y="838080"/>
              <a:ext cx="2819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048120" y="914040"/>
              <a:ext cx="274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219320" y="1905120"/>
            <a:ext cx="1447560" cy="838080"/>
            <a:chOff x="1219320" y="1905120"/>
            <a:chExt cx="1447560" cy="838080"/>
          </a:xfrm>
        </p:grpSpPr>
        <p:sp>
          <p:nvSpPr>
            <p:cNvPr id="122" name=""/>
            <p:cNvSpPr/>
            <p:nvPr/>
          </p:nvSpPr>
          <p:spPr>
            <a:xfrm>
              <a:off x="12193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Start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2193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2582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2819520" y="1905120"/>
            <a:ext cx="1447560" cy="838080"/>
            <a:chOff x="2819520" y="1905120"/>
            <a:chExt cx="1447560" cy="838080"/>
          </a:xfrm>
        </p:grpSpPr>
        <p:sp>
          <p:nvSpPr>
            <p:cNvPr id="126" name=""/>
            <p:cNvSpPr/>
            <p:nvPr/>
          </p:nvSpPr>
          <p:spPr>
            <a:xfrm>
              <a:off x="28195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Decis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8195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84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4419720" y="1905120"/>
            <a:ext cx="1447560" cy="838080"/>
            <a:chOff x="4419720" y="1905120"/>
            <a:chExt cx="1447560" cy="838080"/>
          </a:xfrm>
        </p:grpSpPr>
        <p:sp>
          <p:nvSpPr>
            <p:cNvPr id="130" name=""/>
            <p:cNvSpPr/>
            <p:nvPr/>
          </p:nvSpPr>
          <p:spPr>
            <a:xfrm>
              <a:off x="44197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4197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4586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6019920" y="1905120"/>
            <a:ext cx="1447560" cy="838080"/>
            <a:chOff x="6019920" y="1905120"/>
            <a:chExt cx="1447560" cy="838080"/>
          </a:xfrm>
        </p:grpSpPr>
        <p:sp>
          <p:nvSpPr>
            <p:cNvPr id="134" name=""/>
            <p:cNvSpPr/>
            <p:nvPr/>
          </p:nvSpPr>
          <p:spPr>
            <a:xfrm>
              <a:off x="60199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End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0199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0588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2057400" y="1676520"/>
            <a:ext cx="4572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05740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50532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10552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62940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343400" y="1295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114800" y="1523880"/>
            <a:ext cx="457200" cy="15264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2971800"/>
            <a:ext cx="327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An example process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2666880" y="2286000"/>
            <a:ext cx="175284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e : 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143000" y="304920"/>
            <a:ext cx="1676520" cy="1143000"/>
          </a:xfrm>
          <a:custGeom>
            <a:avLst/>
            <a:gdLst/>
            <a:ahLst/>
            <a:rect l="l" t="t" r="r" b="b"/>
            <a:pathLst>
              <a:path w="1440" h="288">
                <a:moveTo>
                  <a:pt x="0" y="288"/>
                </a:moveTo>
                <a:cubicBezTo>
                  <a:pt x="276" y="284"/>
                  <a:pt x="552" y="280"/>
                  <a:pt x="720" y="240"/>
                </a:cubicBezTo>
                <a:cubicBezTo>
                  <a:pt x="888" y="200"/>
                  <a:pt x="888" y="88"/>
                  <a:pt x="1008" y="48"/>
                </a:cubicBezTo>
                <a:cubicBezTo>
                  <a:pt x="1128" y="8"/>
                  <a:pt x="1284" y="4"/>
                  <a:pt x="144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743200"/>
            <a:ext cx="152280" cy="91440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3429000" y="1219320"/>
            <a:ext cx="4952880" cy="4267080"/>
            <a:chOff x="3429000" y="1219320"/>
            <a:chExt cx="4952880" cy="4267080"/>
          </a:xfrm>
        </p:grpSpPr>
        <p:grpSp>
          <p:nvGrpSpPr>
            <p:cNvPr id="149" name=""/>
            <p:cNvGrpSpPr/>
            <p:nvPr/>
          </p:nvGrpSpPr>
          <p:grpSpPr>
            <a:xfrm>
              <a:off x="3429000" y="1219320"/>
              <a:ext cx="4952880" cy="4267080"/>
              <a:chOff x="3429000" y="1219320"/>
              <a:chExt cx="4952880" cy="4267080"/>
            </a:xfrm>
          </p:grpSpPr>
          <p:sp>
            <p:nvSpPr>
              <p:cNvPr id="150" name=""/>
              <p:cNvSpPr/>
              <p:nvPr/>
            </p:nvSpPr>
            <p:spPr>
              <a:xfrm>
                <a:off x="640080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952880" y="12193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startSale : Start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5943600" y="1828800"/>
                <a:ext cx="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876920" y="2438280"/>
                <a:ext cx="2057400" cy="60984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(amount&gt;5000) : Decis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342900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oubleCheck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632448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eliver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6324480" y="48769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 : </a:t>
                </a:r>
                <a:br>
                  <a:rPr sz="1600"/>
                </a:b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315200" y="4267080"/>
                <a:ext cx="0" cy="60984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5486400" y="3962520"/>
                <a:ext cx="838080" cy="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>
                <a:off x="502920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0" name=""/>
            <p:cNvSpPr/>
            <p:nvPr/>
          </p:nvSpPr>
          <p:spPr>
            <a:xfrm>
              <a:off x="4818240" y="3048120"/>
              <a:ext cx="4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557400" y="30481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"/>
          <p:cNvGrpSpPr/>
          <p:nvPr/>
        </p:nvGrpSpPr>
        <p:grpSpPr>
          <a:xfrm>
            <a:off x="1905120" y="1219320"/>
            <a:ext cx="4952880" cy="4267080"/>
            <a:chOff x="1905120" y="1219320"/>
            <a:chExt cx="4952880" cy="4267080"/>
          </a:xfrm>
        </p:grpSpPr>
        <p:grpSp>
          <p:nvGrpSpPr>
            <p:cNvPr id="163" name=""/>
            <p:cNvGrpSpPr/>
            <p:nvPr/>
          </p:nvGrpSpPr>
          <p:grpSpPr>
            <a:xfrm>
              <a:off x="1905120" y="1219320"/>
              <a:ext cx="4952880" cy="4267080"/>
              <a:chOff x="1905120" y="1219320"/>
              <a:chExt cx="4952880" cy="4267080"/>
            </a:xfrm>
          </p:grpSpPr>
          <p:sp>
            <p:nvSpPr>
              <p:cNvPr id="164" name=""/>
              <p:cNvSpPr/>
              <p:nvPr/>
            </p:nvSpPr>
            <p:spPr>
              <a:xfrm>
                <a:off x="487692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3429000" y="12193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startSale : Start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4419720" y="1828800"/>
                <a:ext cx="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3353040" y="2438280"/>
                <a:ext cx="2057400" cy="60984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(amount&gt;5000) : Decis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90512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oubleCheck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480060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eliver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4800600" y="48769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 : </a:t>
                </a:r>
                <a:br>
                  <a:rPr sz="1600"/>
                </a:b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5791320" y="4267080"/>
                <a:ext cx="0" cy="60984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962520" y="3962520"/>
                <a:ext cx="838080" cy="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flipH="1">
                <a:off x="350532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4" name=""/>
            <p:cNvSpPr/>
            <p:nvPr/>
          </p:nvSpPr>
          <p:spPr>
            <a:xfrm>
              <a:off x="3294360" y="3048120"/>
              <a:ext cx="4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033520" y="30481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685800" y="2209680"/>
            <a:ext cx="2057400" cy="1219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Hidden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When tak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transition ‘yes’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Call my Jav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ean MyStats.upd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743200" y="3200400"/>
            <a:ext cx="914400" cy="1522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553080" y="1523880"/>
            <a:ext cx="2057400" cy="1219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Hidden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When enter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Node ‘deliver’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Call my Jav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ean Deliveries.sta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6629040" y="2743200"/>
            <a:ext cx="609480" cy="3808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"/>
          <p:cNvGrpSpPr/>
          <p:nvPr/>
        </p:nvGrpSpPr>
        <p:grpSpPr>
          <a:xfrm>
            <a:off x="3505320" y="1447920"/>
            <a:ext cx="4876200" cy="3886200"/>
            <a:chOff x="3505320" y="1447920"/>
            <a:chExt cx="4876200" cy="3886200"/>
          </a:xfrm>
        </p:grpSpPr>
        <p:sp>
          <p:nvSpPr>
            <p:cNvPr id="181" name=""/>
            <p:cNvSpPr/>
            <p:nvPr/>
          </p:nvSpPr>
          <p:spPr>
            <a:xfrm>
              <a:off x="6400800" y="2819520"/>
              <a:ext cx="380520" cy="68580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876560" y="144792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tartSale : Start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943600" y="205740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876560" y="2438280"/>
              <a:ext cx="2057040" cy="38124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: For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505320" y="3505320"/>
              <a:ext cx="2057040" cy="45720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endBill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24480" y="3505320"/>
              <a:ext cx="2057040" cy="45720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getQuotes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5028840" y="2819520"/>
              <a:ext cx="380520" cy="68580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432320" y="2819520"/>
              <a:ext cx="762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bill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569280" y="2819520"/>
              <a:ext cx="1006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shipp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505320" y="434340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waitForMoney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324480" y="434340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electTransporter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495680" y="4952880"/>
              <a:ext cx="0" cy="38124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495680" y="396252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315200" y="4952880"/>
              <a:ext cx="0" cy="38124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315200" y="396252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1447920" y="1371600"/>
            <a:ext cx="175248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root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" y="2514600"/>
            <a:ext cx="167652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billing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514600" y="2514600"/>
            <a:ext cx="167652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shipping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200400" y="1676520"/>
            <a:ext cx="1676520" cy="914400"/>
          </a:xfrm>
          <a:custGeom>
            <a:avLst/>
            <a:gdLst/>
            <a:ahLst/>
            <a:rect l="l" t="t" r="r" b="b"/>
            <a:pathLst>
              <a:path w="1056" h="576">
                <a:moveTo>
                  <a:pt x="0" y="0"/>
                </a:moveTo>
                <a:cubicBezTo>
                  <a:pt x="196" y="12"/>
                  <a:pt x="392" y="24"/>
                  <a:pt x="528" y="96"/>
                </a:cubicBezTo>
                <a:cubicBezTo>
                  <a:pt x="664" y="168"/>
                  <a:pt x="728" y="352"/>
                  <a:pt x="816" y="432"/>
                </a:cubicBezTo>
                <a:cubicBezTo>
                  <a:pt x="904" y="512"/>
                  <a:pt x="980" y="544"/>
                  <a:pt x="1056" y="576"/>
                </a:cubicBezTo>
              </a:path>
            </a:pathLst>
          </a:custGeom>
          <a:noFill/>
          <a:ln w="25560">
            <a:solidFill>
              <a:srgbClr val="b2b2b2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191120" y="2971800"/>
            <a:ext cx="2133360" cy="609480"/>
          </a:xfrm>
          <a:custGeom>
            <a:avLst/>
            <a:gdLst/>
            <a:ahLst/>
            <a:rect l="l" t="t" r="r" b="b"/>
            <a:pathLst>
              <a:path w="1440" h="384">
                <a:moveTo>
                  <a:pt x="0" y="0"/>
                </a:moveTo>
                <a:cubicBezTo>
                  <a:pt x="60" y="40"/>
                  <a:pt x="120" y="80"/>
                  <a:pt x="288" y="96"/>
                </a:cubicBezTo>
                <a:cubicBezTo>
                  <a:pt x="456" y="112"/>
                  <a:pt x="816" y="48"/>
                  <a:pt x="1008" y="96"/>
                </a:cubicBezTo>
                <a:cubicBezTo>
                  <a:pt x="1200" y="144"/>
                  <a:pt x="1320" y="264"/>
                  <a:pt x="1440" y="38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1828440" y="1981080"/>
            <a:ext cx="304920" cy="5335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590920" y="1981080"/>
            <a:ext cx="304560" cy="5335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04920" y="762120"/>
            <a:ext cx="4038480" cy="25146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: Process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133720" y="2946240"/>
            <a:ext cx="1371600" cy="1549440"/>
          </a:xfrm>
          <a:custGeom>
            <a:avLst/>
            <a:gdLst/>
            <a:ahLst/>
            <a:rect l="l" t="t" r="r" b="b"/>
            <a:pathLst>
              <a:path w="864" h="1072">
                <a:moveTo>
                  <a:pt x="0" y="16"/>
                </a:moveTo>
                <a:cubicBezTo>
                  <a:pt x="32" y="8"/>
                  <a:pt x="64" y="0"/>
                  <a:pt x="96" y="64"/>
                </a:cubicBezTo>
                <a:cubicBezTo>
                  <a:pt x="128" y="128"/>
                  <a:pt x="160" y="272"/>
                  <a:pt x="192" y="400"/>
                </a:cubicBezTo>
                <a:cubicBezTo>
                  <a:pt x="224" y="528"/>
                  <a:pt x="232" y="728"/>
                  <a:pt x="288" y="832"/>
                </a:cubicBezTo>
                <a:cubicBezTo>
                  <a:pt x="344" y="936"/>
                  <a:pt x="432" y="984"/>
                  <a:pt x="528" y="1024"/>
                </a:cubicBezTo>
                <a:cubicBezTo>
                  <a:pt x="624" y="1064"/>
                  <a:pt x="744" y="1068"/>
                  <a:pt x="864" y="1072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"/>
          <p:cNvGrpSpPr/>
          <p:nvPr/>
        </p:nvGrpSpPr>
        <p:grpSpPr>
          <a:xfrm>
            <a:off x="1828800" y="990720"/>
            <a:ext cx="5486400" cy="1371600"/>
            <a:chOff x="1828800" y="990720"/>
            <a:chExt cx="5486400" cy="1371600"/>
          </a:xfrm>
        </p:grpSpPr>
        <p:sp>
          <p:nvSpPr>
            <p:cNvPr id="206" name=""/>
            <p:cNvSpPr/>
            <p:nvPr/>
          </p:nvSpPr>
          <p:spPr>
            <a:xfrm>
              <a:off x="1828800" y="990720"/>
              <a:ext cx="5257800" cy="1371600"/>
            </a:xfrm>
            <a:prstGeom prst="leftRightArrow">
              <a:avLst>
                <a:gd name="adj1" fmla="val 64583"/>
                <a:gd name="adj2" fmla="val 59896"/>
              </a:avLst>
            </a:prstGeom>
            <a:solidFill>
              <a:srgbClr val="b0d4d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981080" y="1371960"/>
              <a:ext cx="17528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Programming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Languag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733920" y="1371960"/>
              <a:ext cx="1752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Libraries 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&amp; Utiliti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562720" y="1371960"/>
              <a:ext cx="1752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BPM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Suit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1295280" y="3505320"/>
            <a:ext cx="5791320" cy="2729880"/>
            <a:chOff x="1295280" y="3505320"/>
            <a:chExt cx="5791320" cy="2729880"/>
          </a:xfrm>
        </p:grpSpPr>
        <p:sp>
          <p:nvSpPr>
            <p:cNvPr id="211" name=""/>
            <p:cNvSpPr/>
            <p:nvPr/>
          </p:nvSpPr>
          <p:spPr>
            <a:xfrm>
              <a:off x="2971800" y="5562720"/>
              <a:ext cx="3733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V="1">
              <a:off x="3124080" y="3505320"/>
              <a:ext cx="0" cy="2209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352680" y="3505320"/>
              <a:ext cx="3353040" cy="1828800"/>
            </a:xfrm>
            <a:prstGeom prst="rect">
              <a:avLst/>
            </a:prstGeom>
            <a:solidFill>
              <a:srgbClr val="b0d4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52680" y="3505320"/>
              <a:ext cx="3276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Graph based languages / 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Graph Oriented Programm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809880" y="4191120"/>
              <a:ext cx="14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Product 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24280" y="4648320"/>
              <a:ext cx="14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Product 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191120" y="44960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105520" y="49532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410080" y="5715000"/>
              <a:ext cx="1676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Application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  Doma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295280" y="4876920"/>
              <a:ext cx="17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Programming languag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295280" y="4283280"/>
              <a:ext cx="17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Libraries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&amp; Utiliti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295280" y="3810240"/>
              <a:ext cx="1752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BPM Suit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048120" y="518184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048120" y="457200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048120" y="396252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2743200" y="380880"/>
            <a:ext cx="3521160" cy="182880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Service Orchestration Eng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(e.g. BPE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523880" y="2438280"/>
            <a:ext cx="5715000" cy="60984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nterprise Service Bus (ES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&lt;XML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209680" y="3276720"/>
            <a:ext cx="121932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A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733920" y="3276720"/>
            <a:ext cx="121896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B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257800" y="3276720"/>
            <a:ext cx="121932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C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419720" y="762120"/>
            <a:ext cx="1752480" cy="137160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svc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A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B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C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/svc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81952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34340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79132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429000" y="1447920"/>
            <a:ext cx="990720" cy="990360"/>
          </a:xfrm>
          <a:custGeom>
            <a:avLst/>
            <a:gdLst/>
            <a:ahLst/>
            <a:rect l="l" t="t" r="r" b="b"/>
            <a:pathLst>
              <a:path w="688" h="624">
                <a:moveTo>
                  <a:pt x="688" y="0"/>
                </a:moveTo>
                <a:cubicBezTo>
                  <a:pt x="456" y="20"/>
                  <a:pt x="224" y="40"/>
                  <a:pt x="112" y="144"/>
                </a:cubicBezTo>
                <a:cubicBezTo>
                  <a:pt x="0" y="248"/>
                  <a:pt x="8" y="436"/>
                  <a:pt x="16" y="62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0T07:47:36Z</dcterms:created>
  <dc:creator>Tom Baeyens</dc:creator>
  <dc:description/>
  <dc:language>en-US</dc:language>
  <cp:lastModifiedBy>Tom Baeyens</cp:lastModifiedBy>
  <dcterms:modified xsi:type="dcterms:W3CDTF">2006-03-03T15:53:32Z</dcterms:modified>
  <cp:revision>38</cp:revision>
  <dc:subject/>
  <dc:title>PowerPoint Presentation</dc:title>
</cp:coreProperties>
</file>