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19058"/>
        <c:axId val="95489544"/>
      </c:barChart>
      <c:catAx>
        <c:axId val="180190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489544"/>
        <c:crosses val="autoZero"/>
        <c:auto val="1"/>
        <c:lblAlgn val="ctr"/>
        <c:lblOffset val="100"/>
        <c:noMultiLvlLbl val="0"/>
      </c:catAx>
      <c:valAx>
        <c:axId val="95489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190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F88E-6DD9-4FB6-B702-1941151B7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8110-44D1-474C-86A9-BCF38DA73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DC2C-E7B6-485B-8919-355468246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AA5-5E0F-44D5-9B62-0AD13EA1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BFC-D5C9-40E7-9196-32A9A04A9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52F3-5F2D-45BF-B48B-AA6E65BE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8ADB-000D-41AD-8934-492AA3C7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12D07-13C2-4BA1-9DD8-8DDEB302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DD00-BF71-4D10-B264-EC8D4B8D6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51A9-F5BF-4889-AA77-CA8A6B01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752B-51EF-4E6C-A8E6-326B01EE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8AFA-8197-4027-963B-FB4F28DFF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69C9E9-F1F9-4B43-BD05-8FDCB29F62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