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75212"/>
        <c:axId val="97750384"/>
      </c:barChart>
      <c:catAx>
        <c:axId val="96275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50384"/>
        <c:crosses val="autoZero"/>
        <c:auto val="1"/>
        <c:lblAlgn val="ctr"/>
        <c:lblOffset val="100"/>
        <c:noMultiLvlLbl val="0"/>
      </c:catAx>
      <c:valAx>
        <c:axId val="97750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75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3E3-C408-4E49-AD52-3AAEA84B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1F3-ED51-4D55-95F6-A8F406FC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016-4EE6-4716-9473-9D35B777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EC3-D39F-46A1-B4E5-80DD30DA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9A7-1F12-497C-85AA-2E1B9494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4AD-D487-4F88-9722-A6A770E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6E8-9009-43BE-B984-DF9FC35F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CB0-0C3E-498B-A825-CA967D2D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240-4618-487D-ACCB-A32279A7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4FF-FF11-4DFB-8E71-6EC1C962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F8C-FEEA-49AA-98AA-A98553AC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CF1-502F-4F7F-B437-C7916415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D1A11-246B-4BA3-B080-CE168C7599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