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91793"/>
        <c:axId val="37029759"/>
      </c:barChart>
      <c:catAx>
        <c:axId val="51791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29759"/>
        <c:crosses val="autoZero"/>
        <c:auto val="1"/>
        <c:lblAlgn val="ctr"/>
        <c:lblOffset val="100"/>
        <c:noMultiLvlLbl val="0"/>
      </c:catAx>
      <c:valAx>
        <c:axId val="37029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91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F3A-B5CE-4B1E-A451-34D9F0A4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9A3-F67E-4986-88ED-4438265D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5D8-F58F-4689-AC55-4A04358C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288-30AA-411D-A4FC-4A0B5851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1FD-13E8-4DF9-8D35-96238E3A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50F-1816-4DE8-BAA2-EDB38D79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27D-4A81-4FC9-80A0-8EA5C528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237-9E47-48C7-9486-C663B2C3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696-E524-45E0-B7C4-211E8938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DBF-1FD2-431D-9F8D-3DD8317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F03-CB73-4CA5-83E1-91605EB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1D2-2620-4050-AA7F-EEC069E3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1BDA4-3CB6-4709-9199-FDB359960D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