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054DEE-E439-4D0C-AB96-B19D8C98BD0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ed: LL (1 packet only, drop due to arp), IF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: collision de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: Carier Sense threshold, Receive Threshold. Packets above CSThresh are able to cause a coll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Q: can be any queue, droptail or priorit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say it’s GT-ITM transit-stub network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more abs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 link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2E1-D79A-4D3F-B48F-1CCDE75B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1F6-F876-4049-8CAA-F7BFA848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812-0D8F-4C3E-BAD5-ED6EA8F4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609-5F69-4BB9-804D-F9FA4BEA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112E-6E67-4E82-8FAE-58E3F4B5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DDE6-0BBD-4B15-A2DC-B1045431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5D8F-1F4A-45E9-BFFE-AC04BF37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CCC8-C2D4-4BCF-B299-3796EF4C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9469-3982-4CB4-865F-F0BFCE4E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CCAA-1483-4A8B-9A27-8546486C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FB3D-097F-46DB-AD10-B0166A6F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B118-12F5-498B-9772-FB866708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2239-9365-44D5-9983-1F19D1FA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2A06-0BE4-4208-A51B-C930EE0A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D0E5-B052-4944-843A-B9246283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4E55-F73E-4357-A090-DABAD9E3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68FD-A816-40D0-A92A-8DDD3443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A8C9-D54F-4049-8E4D-37099D27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A82-DBFA-49D1-8F8F-A4AD40DE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9B8F-8732-473D-8FA5-DE5A51C0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C8D-7866-4EFA-9EF4-2C26C461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EEF-419F-4C28-BE27-18C0DDC3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AEB-683C-452A-A77C-87D3E06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55C-52C7-4990-9581-D6B92838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074C-0C08-4A36-A0DC-D8EDE94A9DF1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AA8A-B995-4D96-84E2-DDA8EFC07447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D171-0573-4349-8024-2C74EB51427C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1ADC-328E-4DB2-B8AB-5189164A1DE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t II: 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A870-A948-4A73-9B6A-2F9779E1F2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mplement OTcl methods in C++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p point: OTcl method cmd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nd all arguments after cmd{} call to TclObject::comma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85C-D90C-4396-A9C9-EDE2ABE15A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61760"/>
            <a:ext cx="77724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TcpAgent::command(int argc,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const char*const* argv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argc == 3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f (strcmp(argv[1], 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advance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) == 0) {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int newseq = atoi(argv[2]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…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(TCL_OK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return (Agent::command(argc, argv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694-842C-4168-BB86-6517E12D6E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comma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752400" y="1936800"/>
            <a:ext cx="10749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73400" y="1963800"/>
            <a:ext cx="24591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Object::unknown{}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08640" y="1963800"/>
            <a:ext cx="1706760" cy="45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$tcp cmd send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2" idx="3"/>
            <a:endCxn id="313" idx="1"/>
          </p:cNvCxnSpPr>
          <p:nvPr/>
        </p:nvCxnSpPr>
        <p:spPr>
          <a:xfrm>
            <a:off x="1827000" y="2185920"/>
            <a:ext cx="134640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1734480" y="1827360"/>
            <a:ext cx="142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su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ocedu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3" idx="3"/>
            <a:endCxn id="314" idx="1"/>
          </p:cNvCxnSpPr>
          <p:nvPr/>
        </p:nvCxnSpPr>
        <p:spPr>
          <a:xfrm>
            <a:off x="5632560" y="2193480"/>
            <a:ext cx="676800" cy="108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201840" y="3240000"/>
            <a:ext cx="2444760" cy="498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4" idx="2"/>
            <a:endCxn id="318" idx="0"/>
          </p:cNvCxnSpPr>
          <p:nvPr/>
        </p:nvCxnSpPr>
        <p:spPr>
          <a:xfrm rot="5400000">
            <a:off x="5384160" y="1461600"/>
            <a:ext cx="818280" cy="2739240"/>
          </a:xfrm>
          <a:prstGeom prst="bentConnector3">
            <a:avLst>
              <a:gd name="adj1" fmla="val 4986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3562200" y="4102200"/>
            <a:ext cx="1721160" cy="833400"/>
          </a:xfrm>
          <a:prstGeom prst="diamond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tch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nd”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18" idx="2"/>
            <a:endCxn id="320" idx="0"/>
          </p:cNvCxnSpPr>
          <p:nvPr/>
        </p:nvCxnSpPr>
        <p:spPr>
          <a:xfrm flipH="1">
            <a:off x="4421880" y="3738600"/>
            <a:ext cx="2520" cy="364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5315040" y="5388120"/>
            <a:ext cx="2820960" cy="674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turn Agent::comma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54240" y="5415120"/>
            <a:ext cx="2109600" cy="498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ocess and retur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20" idx="1"/>
            <a:endCxn id="323" idx="0"/>
          </p:cNvCxnSpPr>
          <p:nvPr/>
        </p:nvCxnSpPr>
        <p:spPr>
          <a:xfrm flipV="1" rot="10800000">
            <a:off x="2309040" y="4519080"/>
            <a:ext cx="1253160" cy="896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20" idx="3"/>
            <a:endCxn id="322" idx="0"/>
          </p:cNvCxnSpPr>
          <p:nvPr/>
        </p:nvCxnSpPr>
        <p:spPr>
          <a:xfrm>
            <a:off x="5283360" y="4519080"/>
            <a:ext cx="1443600" cy="86940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326" name=""/>
          <p:cNvSpPr/>
          <p:nvPr/>
        </p:nvSpPr>
        <p:spPr>
          <a:xfrm>
            <a:off x="3088440" y="41846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176440" y="4186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8800" y="1654200"/>
            <a:ext cx="8082000" cy="9810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32640" y="159552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71400" y="2946240"/>
            <a:ext cx="8080560" cy="33879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12040" y="298116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 sp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F05-EF22-4532-9920-1C47F89326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9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lobal procedures: new{}, delete{}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delete $tc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975-2AC2-40D6-9163-17818D79BC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8159040" y="399888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00000" y="34448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9800" y="3939840"/>
            <a:ext cx="8082000" cy="12600"/>
          </a:xfrm>
          <a:prstGeom prst="line">
            <a:avLst/>
          </a:prstGeom>
          <a:ln w="381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clObject: Creation and Dele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968400" y="2406600"/>
            <a:ext cx="1519200" cy="604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nvoke paren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ruct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846000" y="1716120"/>
            <a:ext cx="1774800" cy="2020680"/>
            <a:chOff x="846000" y="1716120"/>
            <a:chExt cx="1774800" cy="2020680"/>
          </a:xfrm>
        </p:grpSpPr>
        <p:sp>
          <p:nvSpPr>
            <p:cNvPr id="340" name=""/>
            <p:cNvSpPr/>
            <p:nvPr/>
          </p:nvSpPr>
          <p:spPr>
            <a:xfrm>
              <a:off x="846000" y="1720800"/>
              <a:ext cx="1774800" cy="2016000"/>
            </a:xfrm>
            <a:custGeom>
              <a:avLst/>
              <a:gdLst>
                <a:gd name="textAreaLeft" fmla="*/ 86400 w 1774800"/>
                <a:gd name="textAreaRight" fmla="*/ 1688400 w 1774800"/>
                <a:gd name="textAreaTop" fmla="*/ 86400 h 2016000"/>
                <a:gd name="textAreaBottom" fmla="*/ 1929600 h 2016000"/>
              </a:gdLst>
              <a:ahLst/>
              <a:rect l="textAreaLeft" t="textAreaTop" r="textAreaRight" b="textAreaBottom"/>
              <a:pathLst>
                <a:path w="21600" h="24535">
                  <a:moveTo>
                    <a:pt x="3600" y="0"/>
                  </a:moveTo>
                  <a:arcTo wR="3600" hR="3600" stAng="16200000" swAng="-5400000"/>
                  <a:lnTo>
                    <a:pt x="0" y="20935"/>
                  </a:lnTo>
                  <a:arcTo wR="3600" hR="3600" stAng="10800000" swAng="-5400000"/>
                  <a:lnTo>
                    <a:pt x="18000" y="245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8720" y="171612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gent/TCP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487240" y="1706400"/>
            <a:ext cx="2777040" cy="2021040"/>
            <a:chOff x="2487240" y="1706400"/>
            <a:chExt cx="2777040" cy="2021040"/>
          </a:xfrm>
        </p:grpSpPr>
        <p:grpSp>
          <p:nvGrpSpPr>
            <p:cNvPr id="343" name=""/>
            <p:cNvGrpSpPr/>
            <p:nvPr/>
          </p:nvGrpSpPr>
          <p:grpSpPr>
            <a:xfrm>
              <a:off x="3489480" y="1706400"/>
              <a:ext cx="1774800" cy="2021040"/>
              <a:chOff x="3489480" y="1706400"/>
              <a:chExt cx="1774800" cy="2021040"/>
            </a:xfrm>
          </p:grpSpPr>
          <p:sp>
            <p:nvSpPr>
              <p:cNvPr id="344" name=""/>
              <p:cNvSpPr/>
              <p:nvPr/>
            </p:nvSpPr>
            <p:spPr>
              <a:xfrm>
                <a:off x="348948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65220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2487240" y="2409840"/>
              <a:ext cx="2653200" cy="604800"/>
              <a:chOff x="2487240" y="2409840"/>
              <a:chExt cx="2653200" cy="604800"/>
            </a:xfrm>
          </p:grpSpPr>
          <p:sp>
            <p:nvSpPr>
              <p:cNvPr id="347" name=""/>
              <p:cNvSpPr/>
              <p:nvPr/>
            </p:nvSpPr>
            <p:spPr>
              <a:xfrm>
                <a:off x="3621240" y="240984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48" name=""/>
              <p:cNvCxnSpPr>
                <a:stCxn id="338" idx="3"/>
                <a:endCxn id="347" idx="1"/>
              </p:cNvCxnSpPr>
              <p:nvPr/>
            </p:nvCxnSpPr>
            <p:spPr>
              <a:xfrm>
                <a:off x="2487240" y="2709360"/>
                <a:ext cx="113436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9" name=""/>
          <p:cNvGrpSpPr/>
          <p:nvPr/>
        </p:nvGrpSpPr>
        <p:grpSpPr>
          <a:xfrm>
            <a:off x="5140440" y="1706400"/>
            <a:ext cx="3046320" cy="2021040"/>
            <a:chOff x="5140440" y="1706400"/>
            <a:chExt cx="3046320" cy="2021040"/>
          </a:xfrm>
        </p:grpSpPr>
        <p:grpSp>
          <p:nvGrpSpPr>
            <p:cNvPr id="350" name=""/>
            <p:cNvGrpSpPr/>
            <p:nvPr/>
          </p:nvGrpSpPr>
          <p:grpSpPr>
            <a:xfrm>
              <a:off x="6411960" y="1706400"/>
              <a:ext cx="1774800" cy="2021040"/>
              <a:chOff x="6411960" y="1706400"/>
              <a:chExt cx="1774800" cy="2021040"/>
            </a:xfrm>
          </p:grpSpPr>
          <p:sp>
            <p:nvSpPr>
              <p:cNvPr id="351" name=""/>
              <p:cNvSpPr/>
              <p:nvPr/>
            </p:nvSpPr>
            <p:spPr>
              <a:xfrm>
                <a:off x="6411960" y="17114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74320" y="170640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140440" y="2413080"/>
              <a:ext cx="2923920" cy="604800"/>
              <a:chOff x="5140440" y="2413080"/>
              <a:chExt cx="2923920" cy="604800"/>
            </a:xfrm>
          </p:grpSpPr>
          <p:sp>
            <p:nvSpPr>
              <p:cNvPr id="354" name=""/>
              <p:cNvSpPr/>
              <p:nvPr/>
            </p:nvSpPr>
            <p:spPr>
              <a:xfrm>
                <a:off x="6545160" y="2413080"/>
                <a:ext cx="1519200" cy="60480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reate C++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objec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55" name=""/>
              <p:cNvCxnSpPr>
                <a:stCxn id="347" idx="3"/>
                <a:endCxn id="354" idx="1"/>
              </p:cNvCxnSpPr>
              <p:nvPr/>
            </p:nvCxnSpPr>
            <p:spPr>
              <a:xfrm>
                <a:off x="5140440" y="2712600"/>
                <a:ext cx="1405440" cy="3960"/>
              </a:xfrm>
              <a:prstGeom prst="straightConnector1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56" name=""/>
          <p:cNvGrpSpPr/>
          <p:nvPr/>
        </p:nvGrpSpPr>
        <p:grpSpPr>
          <a:xfrm>
            <a:off x="6480000" y="2715840"/>
            <a:ext cx="1872000" cy="3548160"/>
            <a:chOff x="6480000" y="2715840"/>
            <a:chExt cx="1872000" cy="3548160"/>
          </a:xfrm>
        </p:grpSpPr>
        <p:grpSp>
          <p:nvGrpSpPr>
            <p:cNvPr id="357" name=""/>
            <p:cNvGrpSpPr/>
            <p:nvPr/>
          </p:nvGrpSpPr>
          <p:grpSpPr>
            <a:xfrm>
              <a:off x="6480000" y="4243320"/>
              <a:ext cx="1774800" cy="2020680"/>
              <a:chOff x="6480000" y="4243320"/>
              <a:chExt cx="1774800" cy="2020680"/>
            </a:xfrm>
          </p:grpSpPr>
          <p:sp>
            <p:nvSpPr>
              <p:cNvPr id="358" name=""/>
              <p:cNvSpPr/>
              <p:nvPr/>
            </p:nvSpPr>
            <p:spPr>
              <a:xfrm>
                <a:off x="6480000" y="424800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42720" y="424332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AgentTCP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6602400" y="2715840"/>
              <a:ext cx="1749600" cy="2848320"/>
              <a:chOff x="6602400" y="2715840"/>
              <a:chExt cx="1749600" cy="2848320"/>
            </a:xfrm>
          </p:grpSpPr>
          <p:sp>
            <p:nvSpPr>
              <p:cNvPr id="361" name=""/>
              <p:cNvSpPr/>
              <p:nvPr/>
            </p:nvSpPr>
            <p:spPr>
              <a:xfrm>
                <a:off x="6602400" y="4940280"/>
                <a:ext cx="1519200" cy="623880"/>
              </a:xfrm>
              <a:prstGeom prst="rect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invoke parent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cxnSp>
            <p:nvCxnSpPr>
              <p:cNvPr id="362" name=""/>
              <p:cNvCxnSpPr>
                <a:stCxn id="354" idx="3"/>
                <a:endCxn id="361" idx="3"/>
              </p:cNvCxnSpPr>
              <p:nvPr/>
            </p:nvCxnSpPr>
            <p:spPr>
              <a:xfrm>
                <a:off x="8064000" y="2715840"/>
                <a:ext cx="57960" cy="2537640"/>
              </a:xfrm>
              <a:prstGeom prst="bentConnector3">
                <a:avLst>
                  <a:gd name="adj1" fmla="val 500000"/>
                </a:avLst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63" name=""/>
          <p:cNvGrpSpPr/>
          <p:nvPr/>
        </p:nvGrpSpPr>
        <p:grpSpPr>
          <a:xfrm>
            <a:off x="3514680" y="4259160"/>
            <a:ext cx="3087720" cy="2020680"/>
            <a:chOff x="3514680" y="4259160"/>
            <a:chExt cx="3087720" cy="2020680"/>
          </a:xfrm>
        </p:grpSpPr>
        <p:sp>
          <p:nvSpPr>
            <p:cNvPr id="364" name=""/>
            <p:cNvSpPr/>
            <p:nvPr/>
          </p:nvSpPr>
          <p:spPr>
            <a:xfrm>
              <a:off x="3648240" y="4944960"/>
              <a:ext cx="1519200" cy="6112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voke paren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nstructo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514680" y="4259160"/>
              <a:ext cx="1774800" cy="2020680"/>
              <a:chOff x="3514680" y="4259160"/>
              <a:chExt cx="1774800" cy="2020680"/>
            </a:xfrm>
          </p:grpSpPr>
          <p:sp>
            <p:nvSpPr>
              <p:cNvPr id="366" name=""/>
              <p:cNvSpPr/>
              <p:nvPr/>
            </p:nvSpPr>
            <p:spPr>
              <a:xfrm>
                <a:off x="3514680" y="4263840"/>
                <a:ext cx="1774800" cy="2016000"/>
              </a:xfrm>
              <a:custGeom>
                <a:avLst/>
                <a:gdLst>
                  <a:gd name="textAreaLeft" fmla="*/ 86400 w 1774800"/>
                  <a:gd name="textAreaRight" fmla="*/ 1688400 w 1774800"/>
                  <a:gd name="textAreaTop" fmla="*/ 86400 h 2016000"/>
                  <a:gd name="textAreaBottom" fmla="*/ 1929600 h 2016000"/>
                </a:gdLst>
                <a:ahLst/>
                <a:rect l="textAreaLeft" t="textAreaTop" r="textAreaRight" b="textAreaBottom"/>
                <a:pathLst>
                  <a:path w="21600" h="24535">
                    <a:moveTo>
                      <a:pt x="3600" y="0"/>
                    </a:moveTo>
                    <a:arcTo wR="3600" hR="3600" stAng="16200000" swAng="-5400000"/>
                    <a:lnTo>
                      <a:pt x="0" y="20935"/>
                    </a:lnTo>
                    <a:arcTo wR="3600" hR="3600" stAng="10800000" swAng="-5400000"/>
                    <a:lnTo>
                      <a:pt x="18000" y="2453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523320" y="4259160"/>
                <a:ext cx="173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parent (Agent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68" name=""/>
            <p:cNvCxnSpPr>
              <a:stCxn id="361" idx="1"/>
              <a:endCxn id="364" idx="3"/>
            </p:cNvCxnSpPr>
            <p:nvPr/>
          </p:nvCxnSpPr>
          <p:spPr>
            <a:xfrm flipH="1" flipV="1">
              <a:off x="5167440" y="5250600"/>
              <a:ext cx="1435320" cy="252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69" name=""/>
          <p:cNvGrpSpPr/>
          <p:nvPr/>
        </p:nvGrpSpPr>
        <p:grpSpPr>
          <a:xfrm>
            <a:off x="855360" y="4255920"/>
            <a:ext cx="2792880" cy="2016360"/>
            <a:chOff x="855360" y="4255920"/>
            <a:chExt cx="2792880" cy="2016360"/>
          </a:xfrm>
        </p:grpSpPr>
        <p:sp>
          <p:nvSpPr>
            <p:cNvPr id="370" name=""/>
            <p:cNvSpPr/>
            <p:nvPr/>
          </p:nvSpPr>
          <p:spPr>
            <a:xfrm>
              <a:off x="976320" y="5102280"/>
              <a:ext cx="1519200" cy="9144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o nothing,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855360" y="4255920"/>
              <a:ext cx="1793880" cy="2016360"/>
              <a:chOff x="855360" y="4255920"/>
              <a:chExt cx="1793880" cy="2016360"/>
            </a:xfrm>
          </p:grpSpPr>
          <p:sp>
            <p:nvSpPr>
              <p:cNvPr id="372" name=""/>
              <p:cNvSpPr/>
              <p:nvPr/>
            </p:nvSpPr>
            <p:spPr>
              <a:xfrm>
                <a:off x="855360" y="4255920"/>
                <a:ext cx="1774440" cy="2016360"/>
              </a:xfrm>
              <a:custGeom>
                <a:avLst/>
                <a:gdLst>
                  <a:gd name="textAreaLeft" fmla="*/ 86400 w 1774440"/>
                  <a:gd name="textAreaRight" fmla="*/ 1688040 w 1774440"/>
                  <a:gd name="textAreaTop" fmla="*/ 86400 h 2016360"/>
                  <a:gd name="textAreaBottom" fmla="*/ 1929960 h 2016360"/>
                </a:gdLst>
                <a:ahLst/>
                <a:rect l="textAreaLeft" t="textAreaTop" r="textAreaRight" b="textAreaBottom"/>
                <a:pathLst>
                  <a:path w="21600" h="24544">
                    <a:moveTo>
                      <a:pt x="3600" y="0"/>
                    </a:moveTo>
                    <a:arcTo wR="3600" hR="3600" stAng="16200000" swAng="-5400000"/>
                    <a:lnTo>
                      <a:pt x="0" y="20944"/>
                    </a:lnTo>
                    <a:arcTo wR="3600" hR="3600" stAng="10800000" swAng="-5400000"/>
                    <a:lnTo>
                      <a:pt x="18000" y="2454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69760" y="4317840"/>
                <a:ext cx="1779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TclObject (C++)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Tahoma"/>
                  </a:rPr>
                  <a:t>constructor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cxnSp>
          <p:nvCxnSpPr>
            <p:cNvPr id="374" name=""/>
            <p:cNvCxnSpPr>
              <a:stCxn id="364" idx="1"/>
              <a:endCxn id="370" idx="3"/>
            </p:cNvCxnSpPr>
            <p:nvPr/>
          </p:nvCxnSpPr>
          <p:spPr>
            <a:xfrm flipV="1" rot="10800000">
              <a:off x="2494800" y="5250960"/>
              <a:ext cx="1153440" cy="30888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375" name=""/>
          <p:cNvGrpSpPr/>
          <p:nvPr/>
        </p:nvGrpSpPr>
        <p:grpSpPr>
          <a:xfrm>
            <a:off x="2495520" y="5556240"/>
            <a:ext cx="2671920" cy="604800"/>
            <a:chOff x="2495520" y="5556240"/>
            <a:chExt cx="2671920" cy="604800"/>
          </a:xfrm>
        </p:grpSpPr>
        <p:sp>
          <p:nvSpPr>
            <p:cNvPr id="376" name=""/>
            <p:cNvSpPr/>
            <p:nvPr/>
          </p:nvSpPr>
          <p:spPr>
            <a:xfrm>
              <a:off x="3648240" y="55562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77" name=""/>
            <p:cNvCxnSpPr>
              <a:stCxn id="370" idx="3"/>
              <a:endCxn id="376" idx="1"/>
            </p:cNvCxnSpPr>
            <p:nvPr/>
          </p:nvCxnSpPr>
          <p:spPr>
            <a:xfrm>
              <a:off x="2495520" y="5559120"/>
              <a:ext cx="1153440" cy="300600"/>
            </a:xfrm>
            <a:prstGeom prst="bentConnector3">
              <a:avLst>
                <a:gd name="adj1" fmla="val 49984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78" name=""/>
          <p:cNvGrpSpPr/>
          <p:nvPr/>
        </p:nvGrpSpPr>
        <p:grpSpPr>
          <a:xfrm>
            <a:off x="5167440" y="5564160"/>
            <a:ext cx="2954160" cy="592200"/>
            <a:chOff x="5167440" y="5564160"/>
            <a:chExt cx="2954160" cy="592200"/>
          </a:xfrm>
        </p:grpSpPr>
        <p:sp>
          <p:nvSpPr>
            <p:cNvPr id="379" name=""/>
            <p:cNvSpPr/>
            <p:nvPr/>
          </p:nvSpPr>
          <p:spPr>
            <a:xfrm>
              <a:off x="6602400" y="5564160"/>
              <a:ext cx="1519200" cy="592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bind variabl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and retur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0" name=""/>
            <p:cNvCxnSpPr>
              <a:stCxn id="376" idx="3"/>
              <a:endCxn id="379" idx="1"/>
            </p:cNvCxnSpPr>
            <p:nvPr/>
          </p:nvCxnSpPr>
          <p:spPr>
            <a:xfrm>
              <a:off x="5167440" y="5859000"/>
              <a:ext cx="1435320" cy="252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1" name=""/>
          <p:cNvGrpSpPr/>
          <p:nvPr/>
        </p:nvGrpSpPr>
        <p:grpSpPr>
          <a:xfrm>
            <a:off x="6545160" y="3017880"/>
            <a:ext cx="1995120" cy="2843280"/>
            <a:chOff x="6545160" y="3017880"/>
            <a:chExt cx="1995120" cy="2843280"/>
          </a:xfrm>
        </p:grpSpPr>
        <p:sp>
          <p:nvSpPr>
            <p:cNvPr id="382" name=""/>
            <p:cNvSpPr/>
            <p:nvPr/>
          </p:nvSpPr>
          <p:spPr>
            <a:xfrm>
              <a:off x="6545160" y="301788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reate OTc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hadow object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9" idx="3"/>
              <a:endCxn id="382" idx="3"/>
            </p:cNvCxnSpPr>
            <p:nvPr/>
          </p:nvCxnSpPr>
          <p:spPr>
            <a:xfrm flipH="1" flipV="1">
              <a:off x="8063640" y="3320640"/>
              <a:ext cx="57960" cy="2540880"/>
            </a:xfrm>
            <a:prstGeom prst="bentConnector3">
              <a:avLst>
                <a:gd name="adj1" fmla="val -727500"/>
              </a:avLst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4" name=""/>
          <p:cNvGrpSpPr/>
          <p:nvPr/>
        </p:nvGrpSpPr>
        <p:grpSpPr>
          <a:xfrm>
            <a:off x="3621240" y="3014640"/>
            <a:ext cx="2923920" cy="604800"/>
            <a:chOff x="3621240" y="3014640"/>
            <a:chExt cx="2923920" cy="604800"/>
          </a:xfrm>
        </p:grpSpPr>
        <p:sp>
          <p:nvSpPr>
            <p:cNvPr id="385" name=""/>
            <p:cNvSpPr/>
            <p:nvPr/>
          </p:nvSpPr>
          <p:spPr>
            <a:xfrm>
              <a:off x="3621240" y="3014640"/>
              <a:ext cx="1519200" cy="6048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6" name=""/>
            <p:cNvCxnSpPr>
              <a:stCxn id="382" idx="1"/>
              <a:endCxn id="385" idx="3"/>
            </p:cNvCxnSpPr>
            <p:nvPr/>
          </p:nvCxnSpPr>
          <p:spPr>
            <a:xfrm flipH="1" flipV="1">
              <a:off x="5140080" y="3317040"/>
              <a:ext cx="140544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87" name=""/>
          <p:cNvGrpSpPr/>
          <p:nvPr/>
        </p:nvGrpSpPr>
        <p:grpSpPr>
          <a:xfrm>
            <a:off x="968400" y="3011400"/>
            <a:ext cx="2652480" cy="617760"/>
            <a:chOff x="968400" y="3011400"/>
            <a:chExt cx="2652480" cy="617760"/>
          </a:xfrm>
        </p:grpSpPr>
        <p:sp>
          <p:nvSpPr>
            <p:cNvPr id="388" name=""/>
            <p:cNvSpPr/>
            <p:nvPr/>
          </p:nvSpPr>
          <p:spPr>
            <a:xfrm>
              <a:off x="968400" y="3011400"/>
              <a:ext cx="1519200" cy="61776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complete 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initializatio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389" name=""/>
            <p:cNvCxnSpPr>
              <a:stCxn id="385" idx="1"/>
              <a:endCxn id="388" idx="3"/>
            </p:cNvCxnSpPr>
            <p:nvPr/>
          </p:nvCxnSpPr>
          <p:spPr>
            <a:xfrm flipH="1">
              <a:off x="2486880" y="3317400"/>
              <a:ext cx="1134360" cy="3960"/>
            </a:xfrm>
            <a:prstGeom prst="straightConnector1">
              <a:avLst/>
            </a:prstGeom>
            <a:ln w="9360">
              <a:solidFill>
                <a:srgbClr val="ff9933"/>
              </a:solidFill>
              <a:miter/>
              <a:tailEnd len="med" type="triangle" w="med"/>
            </a:ln>
          </p:spPr>
        </p:cxnSp>
      </p:grpSp>
      <p:grpSp>
        <p:nvGrpSpPr>
          <p:cNvPr id="390" name=""/>
          <p:cNvGrpSpPr/>
          <p:nvPr/>
        </p:nvGrpSpPr>
        <p:grpSpPr>
          <a:xfrm>
            <a:off x="3294000" y="2568600"/>
            <a:ext cx="2903400" cy="1976400"/>
            <a:chOff x="3294000" y="2568600"/>
            <a:chExt cx="2903400" cy="1976400"/>
          </a:xfrm>
        </p:grpSpPr>
        <p:sp>
          <p:nvSpPr>
            <p:cNvPr id="391" name=""/>
            <p:cNvSpPr/>
            <p:nvPr/>
          </p:nvSpPr>
          <p:spPr>
            <a:xfrm>
              <a:off x="3294000" y="2568600"/>
              <a:ext cx="2849400" cy="1976400"/>
            </a:xfrm>
            <a:prstGeom prst="cloudCallout">
              <a:avLst>
                <a:gd name="adj1" fmla="val 58800"/>
                <a:gd name="adj2" fmla="val -34416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5160" y="2936880"/>
              <a:ext cx="262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hich C++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object to create?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– </a:t>
              </a:r>
              <a:r>
                <a:rPr b="0" lang="en-US" sz="2400" spc="-1" strike="noStrike">
                  <a:solidFill>
                    <a:srgbClr val="ff5050"/>
                  </a:solidFill>
                  <a:latin typeface="Tahoma"/>
                </a:rPr>
                <a:t>TclClas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71A-F5E6-49C8-8FD3-8CF1886BD2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685800" y="1744560"/>
            <a:ext cx="4648320" cy="4046760"/>
            <a:chOff x="685800" y="1744560"/>
            <a:chExt cx="4648320" cy="4046760"/>
          </a:xfrm>
        </p:grpSpPr>
        <p:grpSp>
          <p:nvGrpSpPr>
            <p:cNvPr id="395" name=""/>
            <p:cNvGrpSpPr/>
            <p:nvPr/>
          </p:nvGrpSpPr>
          <p:grpSpPr>
            <a:xfrm>
              <a:off x="3810240" y="2438280"/>
              <a:ext cx="1523880" cy="3353040"/>
              <a:chOff x="3810240" y="2438280"/>
              <a:chExt cx="1523880" cy="3353040"/>
            </a:xfrm>
          </p:grpSpPr>
          <p:sp>
            <p:nvSpPr>
              <p:cNvPr id="396" name=""/>
              <p:cNvSpPr/>
              <p:nvPr/>
            </p:nvSpPr>
            <p:spPr>
              <a:xfrm>
                <a:off x="381024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1024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810240" y="5257800"/>
                <a:ext cx="152388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85800" y="2438280"/>
              <a:ext cx="1371600" cy="3353040"/>
              <a:chOff x="685800" y="2438280"/>
              <a:chExt cx="1371600" cy="3353040"/>
            </a:xfrm>
          </p:grpSpPr>
          <p:sp>
            <p:nvSpPr>
              <p:cNvPr id="400" name=""/>
              <p:cNvSpPr/>
              <p:nvPr/>
            </p:nvSpPr>
            <p:spPr>
              <a:xfrm>
                <a:off x="685800" y="24382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l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85800" y="42670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85800" y="525780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TcpAgen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5800" y="3352680"/>
                <a:ext cx="1371600" cy="53352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NsObject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286000" y="27432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0" y="3657600"/>
              <a:ext cx="76212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86000" y="449568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10040" y="5486400"/>
              <a:ext cx="1371600" cy="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21920" y="3386160"/>
              <a:ext cx="44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??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71600" y="29718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71600" y="3886200"/>
              <a:ext cx="0" cy="3808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7160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96040" y="2971800"/>
              <a:ext cx="0" cy="129528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96040" y="4800600"/>
              <a:ext cx="0" cy="457200"/>
            </a:xfrm>
            <a:prstGeom prst="line">
              <a:avLst/>
            </a:prstGeom>
            <a:ln w="572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051200" y="1744560"/>
              <a:ext cx="4282920" cy="509040"/>
              <a:chOff x="1051200" y="1744560"/>
              <a:chExt cx="4282920" cy="509040"/>
            </a:xfrm>
          </p:grpSpPr>
          <p:sp>
            <p:nvSpPr>
              <p:cNvPr id="415" name=""/>
              <p:cNvSpPr/>
              <p:nvPr/>
            </p:nvSpPr>
            <p:spPr>
              <a:xfrm>
                <a:off x="4163400" y="1785960"/>
                <a:ext cx="81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OTc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51200" y="1793880"/>
                <a:ext cx="428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++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209680" y="1744560"/>
                <a:ext cx="1564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irroring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2271600" y="1805040"/>
            <a:ext cx="6492960" cy="302004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Static class TcpClass : public TclClass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public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pClass() : TclClass(“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gent/TCP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”) {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TclObject* create(int, const char*const*) {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return (new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cpAgent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())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} class_tcp;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12F-DE68-45A3-AE3D-5B087E2457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Class: Mechanis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at runtime start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5479920" y="3800520"/>
            <a:ext cx="2797200" cy="890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plitObject::register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eate and register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Tcl class Agent/TCP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197000" y="3470400"/>
            <a:ext cx="2016000" cy="13208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init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or each staticall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fined TclClas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983200" y="2716200"/>
            <a:ext cx="1789200" cy="4460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pClass::bind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22" idx="3"/>
            <a:endCxn id="423" idx="1"/>
          </p:cNvCxnSpPr>
          <p:nvPr/>
        </p:nvCxnSpPr>
        <p:spPr>
          <a:xfrm flipV="1">
            <a:off x="3212640" y="2939400"/>
            <a:ext cx="2770920" cy="1191240"/>
          </a:xfrm>
          <a:prstGeom prst="bentConnector3">
            <a:avLst>
              <a:gd name="adj1" fmla="val 4996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469320" y="364176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.g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72200" y="5214960"/>
            <a:ext cx="3213000" cy="7286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gent/TCP::create-shadow{}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clClass::create_shadow(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21" idx="0"/>
          </p:cNvCxnSpPr>
          <p:nvPr/>
        </p:nvCxnSpPr>
        <p:spPr>
          <a:xfrm>
            <a:off x="6878160" y="3161880"/>
            <a:ext cx="1080" cy="6390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1" idx="2"/>
            <a:endCxn id="426" idx="0"/>
          </p:cNvCxnSpPr>
          <p:nvPr/>
        </p:nvCxnSpPr>
        <p:spPr>
          <a:xfrm>
            <a:off x="6878160" y="4690800"/>
            <a:ext cx="1080" cy="52416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26" idx="1"/>
            <a:endCxn id="422" idx="3"/>
          </p:cNvCxnSpPr>
          <p:nvPr/>
        </p:nvCxnSpPr>
        <p:spPr>
          <a:xfrm rot="10800000">
            <a:off x="3212280" y="4129920"/>
            <a:ext cx="2059920" cy="1450080"/>
          </a:xfrm>
          <a:prstGeom prst="bentConnector3">
            <a:avLst>
              <a:gd name="adj1" fmla="val 4995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9993-2D2A-40EB-91D8-B049AAD4E5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ngleton class with a handle to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voke OTcl proced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btain OTcl evaluation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ss a result string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turn success/failure code to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120-6EF6-4023-BC13-46412C224D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l&amp; tcl = 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::instance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argc == 2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if (strcmp(argv[1], “now”) == 0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f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%g”, clock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rror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“command not found”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ERROR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 else if (argc == 3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eval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argv[2]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clock_ = atof(</a:t>
            </a:r>
            <a:r>
              <a:rPr b="1" lang="en-US" sz="2000" spc="-1" strike="noStrike">
                <a:solidFill>
                  <a:srgbClr val="40458c"/>
                </a:solidFill>
                <a:latin typeface="Courier New"/>
              </a:rPr>
              <a:t>tcl.result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()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return TCL_OK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CEC1-DFD5-408D-9941-3C76770144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TclComman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59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 implementation of global OTcl comman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class RandomCommand : public TclCommand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public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RandomCommand() : TclCommand("ns-random") {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virtual int command(int argc, const char*const* argv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nt RandomCommand::command(int argc, const char*const* argv)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&amp; tcl = Tcl::instance(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if (argc == 1) {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sprintf(tcl.buffer(), "%u", Random::random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tcl.result(tcl.buffer())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5B7-467F-40BC-8429-CD414048BE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lit object: C++/OTcl link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930E-5D54-48A3-89F5-E23E0C29FF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-load OTcl scripts at ns runtime start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cursively load 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~ns/tcl/lib/ns-lib.tcl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utoconf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address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ource ns-node.tc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......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ad everything into a single C++ st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xecute this string at runtime startu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::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tclcl/tcl-object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_AppInit(): load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~ns/tcl/lib/ns-lib.tc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2A1-CC00-45BF-8E59-270C973A58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mbeddedTc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w i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2c++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: provided by TclCL, converts tcl scripts into a C++ static character arr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file.in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sh8.0 bin/tcl-expand.tcl tcl/lib/ns-lib.tcl | tcl2c++ et_ns_lib &gt; gen/ns_tcl.c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60F-2E16-4140-83B9-61A47F961C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nified interpreted (OTcl) and compiled (C++) class hierarch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mless access (procedure call and variable access) between OTcl and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Cla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mechanism that makes TclObject wor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cl: primitives to access Tcl interpret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8F0B-F3E8-423B-B208-E9AA859DA5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8E5-8CCB-4934-9323-B68C314D14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Intern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ete event schedul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twork topolog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low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C33A-2EC2-4E43-9103-61B82C0963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crete Event Schedul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197080" y="2639880"/>
            <a:ext cx="533520" cy="1143000"/>
            <a:chOff x="2197080" y="2639880"/>
            <a:chExt cx="533520" cy="1143000"/>
          </a:xfrm>
        </p:grpSpPr>
        <p:sp>
          <p:nvSpPr>
            <p:cNvPr id="448" name=""/>
            <p:cNvSpPr/>
            <p:nvPr/>
          </p:nvSpPr>
          <p:spPr>
            <a:xfrm>
              <a:off x="2197080" y="26398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97080" y="28684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97080" y="30970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197080" y="33256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97080" y="3554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925800" y="1793880"/>
            <a:ext cx="4056120" cy="45972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ime_, uid_, next_, handler_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96480" y="2300400"/>
            <a:ext cx="1734120" cy="398880"/>
            <a:chOff x="996480" y="2300400"/>
            <a:chExt cx="1734120" cy="398880"/>
          </a:xfrm>
        </p:grpSpPr>
        <p:sp>
          <p:nvSpPr>
            <p:cNvPr id="455" name=""/>
            <p:cNvSpPr/>
            <p:nvPr/>
          </p:nvSpPr>
          <p:spPr>
            <a:xfrm>
              <a:off x="2197080" y="2411280"/>
              <a:ext cx="533520" cy="2286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96480" y="230040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head_ -&gt;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2197080" y="3097080"/>
            <a:ext cx="5335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96480" y="252900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head_ -&gt;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97080" y="3782880"/>
            <a:ext cx="533520" cy="2286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4541400"/>
            <a:ext cx="777240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ree types of schedul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st: simple linked list, order-preserving, O(N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eap: O(log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alendar: hash-based, fastest, O(1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439520" y="2260440"/>
            <a:ext cx="3030480" cy="893160"/>
            <a:chOff x="4439520" y="2260440"/>
            <a:chExt cx="3030480" cy="893160"/>
          </a:xfrm>
        </p:grpSpPr>
        <p:sp>
          <p:nvSpPr>
            <p:cNvPr id="462" name=""/>
            <p:cNvSpPr/>
            <p:nvPr/>
          </p:nvSpPr>
          <p:spPr>
            <a:xfrm>
              <a:off x="4439520" y="2693880"/>
              <a:ext cx="303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andler_ -&gt; handle()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3" name=""/>
            <p:cNvCxnSpPr>
              <a:stCxn id="453" idx="2"/>
              <a:endCxn id="462" idx="0"/>
            </p:cNvCxnSpPr>
            <p:nvPr/>
          </p:nvCxnSpPr>
          <p:spPr>
            <a:xfrm>
              <a:off x="5954400" y="2260440"/>
              <a:ext cx="1080" cy="43416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3925800" y="3151080"/>
            <a:ext cx="4056120" cy="1007640"/>
            <a:chOff x="3925800" y="3151080"/>
            <a:chExt cx="4056120" cy="1007640"/>
          </a:xfrm>
        </p:grpSpPr>
        <p:sp>
          <p:nvSpPr>
            <p:cNvPr id="465" name=""/>
            <p:cNvSpPr/>
            <p:nvPr/>
          </p:nvSpPr>
          <p:spPr>
            <a:xfrm>
              <a:off x="3925800" y="3699000"/>
              <a:ext cx="40561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ime_, uid_, next_, handler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63040" y="3209760"/>
              <a:ext cx="13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schedul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67" name=""/>
            <p:cNvCxnSpPr>
              <a:stCxn id="462" idx="2"/>
              <a:endCxn id="465" idx="0"/>
            </p:cNvCxnSpPr>
            <p:nvPr/>
          </p:nvCxnSpPr>
          <p:spPr>
            <a:xfrm>
              <a:off x="5954400" y="3151080"/>
              <a:ext cx="1080" cy="5486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cxnSp>
        <p:nvCxnSpPr>
          <p:cNvPr id="468" name=""/>
          <p:cNvCxnSpPr>
            <a:stCxn id="455" idx="3"/>
            <a:endCxn id="453" idx="1"/>
          </p:cNvCxnSpPr>
          <p:nvPr/>
        </p:nvCxnSpPr>
        <p:spPr>
          <a:xfrm flipV="1">
            <a:off x="2730600" y="2026440"/>
            <a:ext cx="1219680" cy="49932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69" name=""/>
          <p:cNvGrpSpPr/>
          <p:nvPr/>
        </p:nvGrpSpPr>
        <p:grpSpPr>
          <a:xfrm>
            <a:off x="2730240" y="3211200"/>
            <a:ext cx="1219320" cy="859680"/>
            <a:chOff x="2730240" y="3211200"/>
            <a:chExt cx="1219320" cy="859680"/>
          </a:xfrm>
        </p:grpSpPr>
        <p:sp>
          <p:nvSpPr>
            <p:cNvPr id="470" name=""/>
            <p:cNvSpPr/>
            <p:nvPr/>
          </p:nvSpPr>
          <p:spPr>
            <a:xfrm>
              <a:off x="2778120" y="367200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inser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5" idx="1"/>
              <a:endCxn id="457" idx="3"/>
            </p:cNvCxnSpPr>
            <p:nvPr/>
          </p:nvCxnSpPr>
          <p:spPr>
            <a:xfrm flipH="1" flipV="1">
              <a:off x="2730240" y="3211200"/>
              <a:ext cx="1219680" cy="721440"/>
            </a:xfrm>
            <a:prstGeom prst="straightConnector1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50B-0FA8-4133-97DB-8CA7350036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259092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133720" y="2133720"/>
            <a:ext cx="5638320" cy="914400"/>
            <a:chOff x="2133720" y="2133720"/>
            <a:chExt cx="5638320" cy="914400"/>
          </a:xfrm>
        </p:grpSpPr>
        <p:sp>
          <p:nvSpPr>
            <p:cNvPr id="475" name=""/>
            <p:cNvSpPr/>
            <p:nvPr/>
          </p:nvSpPr>
          <p:spPr>
            <a:xfrm>
              <a:off x="213372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781680" y="213372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33460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82920" y="239544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499320" y="2514600"/>
            <a:ext cx="3691800" cy="3352320"/>
            <a:chOff x="499320" y="2514600"/>
            <a:chExt cx="3691800" cy="3352320"/>
          </a:xfrm>
        </p:grpSpPr>
        <p:sp>
          <p:nvSpPr>
            <p:cNvPr id="480" name=""/>
            <p:cNvSpPr/>
            <p:nvPr/>
          </p:nvSpPr>
          <p:spPr>
            <a:xfrm>
              <a:off x="2133720" y="4190760"/>
              <a:ext cx="30492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895840" y="3657240"/>
              <a:ext cx="304560" cy="91404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4240" y="3276360"/>
              <a:ext cx="2666880" cy="259056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1600" y="380988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57400" y="327636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71600" y="4495680"/>
              <a:ext cx="304920" cy="30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440" y="464796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76520" y="46479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438640" y="4114440"/>
              <a:ext cx="457200" cy="2282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583280" y="502416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02000" y="441468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7200" y="471924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320" y="426204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1600200" y="2514600"/>
              <a:ext cx="533520" cy="15998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24440" y="2514600"/>
              <a:ext cx="838080" cy="129528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809880" y="3276720"/>
            <a:ext cx="12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cast N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5253840" y="2475000"/>
            <a:ext cx="3691800" cy="3441600"/>
            <a:chOff x="5253840" y="2475000"/>
            <a:chExt cx="3691800" cy="3441600"/>
          </a:xfrm>
        </p:grpSpPr>
        <p:sp>
          <p:nvSpPr>
            <p:cNvPr id="497" name=""/>
            <p:cNvSpPr/>
            <p:nvPr/>
          </p:nvSpPr>
          <p:spPr>
            <a:xfrm flipH="1">
              <a:off x="6306840" y="2527200"/>
              <a:ext cx="469800" cy="1828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253840" y="3249720"/>
              <a:ext cx="3691800" cy="2666880"/>
              <a:chOff x="5253840" y="3249720"/>
              <a:chExt cx="3691800" cy="2666880"/>
            </a:xfrm>
          </p:grpSpPr>
          <p:sp>
            <p:nvSpPr>
              <p:cNvPr id="499" name=""/>
              <p:cNvSpPr/>
              <p:nvPr/>
            </p:nvSpPr>
            <p:spPr>
              <a:xfrm>
                <a:off x="7269120" y="370692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031240" y="347832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278400" y="3326040"/>
                <a:ext cx="2667240" cy="2590560"/>
              </a:xfrm>
              <a:prstGeom prst="ellipse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21400" y="4849920"/>
                <a:ext cx="1158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ast Classifier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126120" y="4545000"/>
                <a:ext cx="30492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92600" y="4697640"/>
                <a:ext cx="53352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7574040" y="3858840"/>
                <a:ext cx="45720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337440" y="3854520"/>
                <a:ext cx="98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408800" y="3397320"/>
                <a:ext cx="740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dmux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61720" y="4768920"/>
                <a:ext cx="698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entry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53840" y="4311720"/>
                <a:ext cx="111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Node entry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288040" y="3249720"/>
                <a:ext cx="138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Multicast Node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59640" y="4240440"/>
                <a:ext cx="30456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269120" y="4773600"/>
                <a:ext cx="304920" cy="914400"/>
              </a:xfrm>
              <a:custGeom>
                <a:avLst/>
                <a:gdLst/>
                <a:ahLst/>
                <a:rect l="l" t="t" r="r" b="b"/>
                <a:pathLst>
                  <a:path w="192" h="576">
                    <a:moveTo>
                      <a:pt x="0" y="96"/>
                    </a:moveTo>
                    <a:lnTo>
                      <a:pt x="192" y="0"/>
                    </a:lnTo>
                    <a:lnTo>
                      <a:pt x="192" y="576"/>
                    </a:lnTo>
                    <a:lnTo>
                      <a:pt x="0" y="48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64200" y="4240080"/>
                <a:ext cx="304920" cy="2286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964200" y="4926240"/>
                <a:ext cx="304920" cy="30456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002360" y="560700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multiclassifier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31040" y="4697640"/>
                <a:ext cx="22860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759800" y="2475000"/>
              <a:ext cx="952560" cy="14238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2BB-E77E-4283-A9AE-3DE7355439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twork Topology: Lin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2787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1797120" y="1828800"/>
            <a:ext cx="5638320" cy="914400"/>
            <a:chOff x="1797120" y="1828800"/>
            <a:chExt cx="5638320" cy="914400"/>
          </a:xfrm>
        </p:grpSpPr>
        <p:sp>
          <p:nvSpPr>
            <p:cNvPr id="521" name=""/>
            <p:cNvSpPr/>
            <p:nvPr/>
          </p:nvSpPr>
          <p:spPr>
            <a:xfrm>
              <a:off x="1797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445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98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6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70640" y="3352680"/>
            <a:ext cx="8811360" cy="2743200"/>
            <a:chOff x="170640" y="3352680"/>
            <a:chExt cx="8811360" cy="2743200"/>
          </a:xfrm>
        </p:grpSpPr>
        <p:sp>
          <p:nvSpPr>
            <p:cNvPr id="526" name=""/>
            <p:cNvSpPr/>
            <p:nvPr/>
          </p:nvSpPr>
          <p:spPr>
            <a:xfrm>
              <a:off x="14749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8465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181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55800" y="5410080"/>
              <a:ext cx="139860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3720" y="5424480"/>
              <a:ext cx="7984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897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61320" y="4572000"/>
              <a:ext cx="10666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17720" y="3809880"/>
              <a:ext cx="7162560" cy="22860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41400" y="4724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648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93680" y="480060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416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132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848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56400" y="4800600"/>
              <a:ext cx="3049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028000" y="4800600"/>
              <a:ext cx="3808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88480" y="4075200"/>
              <a:ext cx="89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0640" y="4334040"/>
              <a:ext cx="82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79800" y="5029200"/>
              <a:ext cx="0" cy="3808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68800" y="5665680"/>
              <a:ext cx="290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017360" y="3352680"/>
              <a:ext cx="60948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51680" y="3352680"/>
              <a:ext cx="228600" cy="457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09680" y="4370400"/>
              <a:ext cx="4127400" cy="162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256400" y="5541840"/>
              <a:ext cx="118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tracing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42840" y="5635800"/>
              <a:ext cx="18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7c1eb"/>
                  </a:solidFill>
                  <a:latin typeface="Tahoma"/>
                </a:rPr>
                <a:t>sim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636560" y="2286000"/>
            <a:ext cx="6324480" cy="1066680"/>
            <a:chOff x="1636560" y="2286000"/>
            <a:chExt cx="6324480" cy="1066680"/>
          </a:xfrm>
        </p:grpSpPr>
        <p:grpSp>
          <p:nvGrpSpPr>
            <p:cNvPr id="552" name=""/>
            <p:cNvGrpSpPr/>
            <p:nvPr/>
          </p:nvGrpSpPr>
          <p:grpSpPr>
            <a:xfrm>
              <a:off x="1636560" y="2286000"/>
              <a:ext cx="6324480" cy="1066680"/>
              <a:chOff x="1636560" y="2286000"/>
              <a:chExt cx="6324480" cy="1066680"/>
            </a:xfrm>
          </p:grpSpPr>
          <p:sp>
            <p:nvSpPr>
              <p:cNvPr id="553" name=""/>
              <p:cNvSpPr/>
              <p:nvPr/>
            </p:nvSpPr>
            <p:spPr>
              <a:xfrm>
                <a:off x="1636560" y="335268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636560" y="3200400"/>
                <a:ext cx="63244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1712520" y="2286000"/>
                <a:ext cx="10666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437160" y="2286000"/>
                <a:ext cx="1523880" cy="914400"/>
              </a:xfrm>
              <a:prstGeom prst="line">
                <a:avLst/>
              </a:prstGeom>
              <a:ln w="9360">
                <a:solidFill>
                  <a:srgbClr val="40458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3803040" y="2757600"/>
              <a:ext cx="174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duplex link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681-25BB-43BC-B3C4-6FF6AEAEE7E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561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89720" y="2209680"/>
            <a:ext cx="3691800" cy="3353040"/>
            <a:chOff x="189720" y="2209680"/>
            <a:chExt cx="3691800" cy="3353040"/>
          </a:xfrm>
        </p:grpSpPr>
        <p:sp>
          <p:nvSpPr>
            <p:cNvPr id="566" name=""/>
            <p:cNvSpPr/>
            <p:nvPr/>
          </p:nvSpPr>
          <p:spPr>
            <a:xfrm>
              <a:off x="182412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8624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21464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2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47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884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12904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27368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9240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7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89720" y="3957480"/>
              <a:ext cx="111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81484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58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128680" y="3848040"/>
            <a:ext cx="7010280" cy="1333440"/>
            <a:chOff x="2128680" y="3848040"/>
            <a:chExt cx="7010280" cy="1333440"/>
          </a:xfrm>
        </p:grpSpPr>
        <p:sp>
          <p:nvSpPr>
            <p:cNvPr id="586" name=""/>
            <p:cNvSpPr/>
            <p:nvPr/>
          </p:nvSpPr>
          <p:spPr>
            <a:xfrm>
              <a:off x="4443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7976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queue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1640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eq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33680" y="4781520"/>
              <a:ext cx="83664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op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56080" y="478152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rpT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5304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91120" y="4292640"/>
              <a:ext cx="650880" cy="2667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ttl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63760" y="3848040"/>
              <a:ext cx="4370400" cy="1333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117680" y="4381560"/>
              <a:ext cx="92160" cy="8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09840" y="4425840"/>
              <a:ext cx="233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9400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3064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7280" y="442584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03920" y="4425840"/>
              <a:ext cx="18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442000" y="4425840"/>
              <a:ext cx="2318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478720" y="3892680"/>
              <a:ext cx="660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n1 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73600" y="4033800"/>
              <a:ext cx="68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head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13040" y="4559400"/>
              <a:ext cx="0" cy="22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70320" y="4915080"/>
              <a:ext cx="1857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2128680" y="4419360"/>
              <a:ext cx="1981080" cy="1522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6E0-2A0E-447B-8CE9-E4005F3F81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uting (con’t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824120" y="1828800"/>
            <a:ext cx="5638320" cy="914400"/>
            <a:chOff x="1824120" y="1828800"/>
            <a:chExt cx="5638320" cy="914400"/>
          </a:xfrm>
        </p:grpSpPr>
        <p:sp>
          <p:nvSpPr>
            <p:cNvPr id="609" name=""/>
            <p:cNvSpPr/>
            <p:nvPr/>
          </p:nvSpPr>
          <p:spPr>
            <a:xfrm>
              <a:off x="182412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72080" y="1828800"/>
              <a:ext cx="990360" cy="91440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2500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0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3320" y="2090520"/>
              <a:ext cx="5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n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33520" y="2209680"/>
            <a:ext cx="3352680" cy="3353040"/>
            <a:chOff x="533520" y="2209680"/>
            <a:chExt cx="3352680" cy="3353040"/>
          </a:xfrm>
        </p:grpSpPr>
        <p:sp>
          <p:nvSpPr>
            <p:cNvPr id="614" name=""/>
            <p:cNvSpPr/>
            <p:nvPr/>
          </p:nvSpPr>
          <p:spPr>
            <a:xfrm>
              <a:off x="1828800" y="388620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590920" y="335268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19320" y="2971800"/>
              <a:ext cx="266688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5248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06668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3520" y="4343400"/>
              <a:ext cx="5331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37160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13372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7836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9708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228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29528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19520" y="2209680"/>
              <a:ext cx="83808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1826640" y="3954600"/>
            <a:ext cx="326880" cy="779760"/>
            <a:chOff x="1826640" y="3954600"/>
            <a:chExt cx="326880" cy="779760"/>
          </a:xfrm>
        </p:grpSpPr>
        <p:sp>
          <p:nvSpPr>
            <p:cNvPr id="630" name=""/>
            <p:cNvSpPr/>
            <p:nvPr/>
          </p:nvSpPr>
          <p:spPr>
            <a:xfrm>
              <a:off x="182664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664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33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15000" y="350532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ddr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00800" y="2971800"/>
              <a:ext cx="115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Port Classifier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26320" y="4719600"/>
              <a:ext cx="98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classifier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45040" y="4110120"/>
              <a:ext cx="74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mux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50600" y="44146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entry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648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65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38480" y="563868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Link n1-n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40458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301-98BB-4633-8D62-92C1E32448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cl and C++: The Dual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106640" y="1843200"/>
            <a:ext cx="323676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88960" y="255744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17560" y="225252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22480" y="255744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717560" y="24051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22480" y="24051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81440" y="38289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5284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62320" y="41338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67240" y="44388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57400" y="443880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804760" y="39816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86000" y="398160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31856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67240" y="4286160"/>
            <a:ext cx="228600" cy="1526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1843200"/>
            <a:ext cx="3625920" cy="396216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89680" y="2489040"/>
            <a:ext cx="38124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18280" y="21844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23200" y="248904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118280" y="2336760"/>
            <a:ext cx="15264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423200" y="233676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38840" y="306720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024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19720" y="3371760"/>
            <a:ext cx="380880" cy="152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24640" y="3676680"/>
            <a:ext cx="38088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14800" y="3676680"/>
            <a:ext cx="381240" cy="152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862160" y="321948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43400" y="3219480"/>
            <a:ext cx="30492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2430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24640" y="3524400"/>
            <a:ext cx="228600" cy="152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48840" y="5283360"/>
            <a:ext cx="7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14480" y="528804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67240" y="3092400"/>
            <a:ext cx="167616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104" y="408"/>
                  <a:pt x="208" y="160"/>
                  <a:pt x="384" y="80"/>
                </a:cubicBezTo>
                <a:cubicBezTo>
                  <a:pt x="560" y="0"/>
                  <a:pt x="944" y="160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62320" y="3905280"/>
            <a:ext cx="2158920" cy="1028520"/>
          </a:xfrm>
          <a:custGeom>
            <a:avLst/>
            <a:gdLst/>
            <a:ahLst/>
            <a:rect l="l" t="t" r="r" b="b"/>
            <a:pathLst>
              <a:path w="1360" h="648">
                <a:moveTo>
                  <a:pt x="0" y="432"/>
                </a:moveTo>
                <a:cubicBezTo>
                  <a:pt x="472" y="540"/>
                  <a:pt x="944" y="648"/>
                  <a:pt x="1152" y="576"/>
                </a:cubicBezTo>
                <a:cubicBezTo>
                  <a:pt x="1360" y="504"/>
                  <a:pt x="1232" y="96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71800" y="3905280"/>
            <a:ext cx="2082960" cy="1028520"/>
          </a:xfrm>
          <a:custGeom>
            <a:avLst/>
            <a:gdLst/>
            <a:ahLst/>
            <a:rect l="l" t="t" r="r" b="b"/>
            <a:pathLst>
              <a:path w="1312" h="648">
                <a:moveTo>
                  <a:pt x="0" y="432"/>
                </a:moveTo>
                <a:cubicBezTo>
                  <a:pt x="448" y="540"/>
                  <a:pt x="896" y="648"/>
                  <a:pt x="1104" y="576"/>
                </a:cubicBezTo>
                <a:cubicBezTo>
                  <a:pt x="1312" y="504"/>
                  <a:pt x="1280" y="252"/>
                  <a:pt x="1248" y="0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28800" y="3016080"/>
            <a:ext cx="1905120" cy="1117800"/>
          </a:xfrm>
          <a:custGeom>
            <a:avLst/>
            <a:gdLst/>
            <a:ahLst/>
            <a:rect l="l" t="t" r="r" b="b"/>
            <a:pathLst>
              <a:path w="1200" h="704">
                <a:moveTo>
                  <a:pt x="0" y="704"/>
                </a:moveTo>
                <a:cubicBezTo>
                  <a:pt x="68" y="432"/>
                  <a:pt x="136" y="160"/>
                  <a:pt x="336" y="80"/>
                </a:cubicBezTo>
                <a:cubicBezTo>
                  <a:pt x="536" y="0"/>
                  <a:pt x="868" y="112"/>
                  <a:pt x="1200" y="224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86000" y="2787480"/>
            <a:ext cx="1676520" cy="1041480"/>
          </a:xfrm>
          <a:custGeom>
            <a:avLst/>
            <a:gdLst/>
            <a:ahLst/>
            <a:rect l="l" t="t" r="r" b="b"/>
            <a:pathLst>
              <a:path w="1056" h="656">
                <a:moveTo>
                  <a:pt x="0" y="656"/>
                </a:moveTo>
                <a:cubicBezTo>
                  <a:pt x="80" y="408"/>
                  <a:pt x="160" y="160"/>
                  <a:pt x="336" y="80"/>
                </a:cubicBezTo>
                <a:cubicBezTo>
                  <a:pt x="512" y="0"/>
                  <a:pt x="784" y="88"/>
                  <a:pt x="1056" y="176"/>
                </a:cubicBezTo>
              </a:path>
            </a:pathLst>
          </a:custGeom>
          <a:noFill/>
          <a:ln w="9360">
            <a:solidFill>
              <a:srgbClr val="40458c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03640" y="2765520"/>
            <a:ext cx="115164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C++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37040" y="2725560"/>
            <a:ext cx="121860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ure OTc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8800" y="4998960"/>
            <a:ext cx="2468520" cy="6426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++/OTcl split object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654200"/>
            <a:ext cx="7504200" cy="4692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11640" y="5904000"/>
            <a:ext cx="51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42F-606A-4431-B36D-F8E116F2C9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661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674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895480" y="3505320"/>
            <a:ext cx="1447920" cy="606960"/>
            <a:chOff x="2895480" y="3505320"/>
            <a:chExt cx="1447920" cy="606960"/>
          </a:xfrm>
        </p:grpSpPr>
        <p:grpSp>
          <p:nvGrpSpPr>
            <p:cNvPr id="686" name=""/>
            <p:cNvGrpSpPr/>
            <p:nvPr/>
          </p:nvGrpSpPr>
          <p:grpSpPr>
            <a:xfrm>
              <a:off x="2895480" y="3505320"/>
              <a:ext cx="1447920" cy="313200"/>
              <a:chOff x="2895480" y="3505320"/>
              <a:chExt cx="1447920" cy="313200"/>
            </a:xfrm>
          </p:grpSpPr>
          <p:sp>
            <p:nvSpPr>
              <p:cNvPr id="687" name=""/>
              <p:cNvSpPr/>
              <p:nvPr/>
            </p:nvSpPr>
            <p:spPr>
              <a:xfrm>
                <a:off x="3124080" y="3505320"/>
                <a:ext cx="121932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35680" y="3511440"/>
                <a:ext cx="106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2895480" y="3657600"/>
                <a:ext cx="228600" cy="7632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2958480" y="3805200"/>
              <a:ext cx="82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gents_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69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0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1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543800" y="3505320"/>
            <a:ext cx="1600200" cy="606960"/>
            <a:chOff x="7543800" y="3505320"/>
            <a:chExt cx="1600200" cy="606960"/>
          </a:xfrm>
        </p:grpSpPr>
        <p:sp>
          <p:nvSpPr>
            <p:cNvPr id="720" name=""/>
            <p:cNvSpPr/>
            <p:nvPr/>
          </p:nvSpPr>
          <p:spPr>
            <a:xfrm flipV="1">
              <a:off x="7543800" y="3657600"/>
              <a:ext cx="228600" cy="763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7606800" y="3505320"/>
              <a:ext cx="1537200" cy="606960"/>
              <a:chOff x="7606800" y="3505320"/>
              <a:chExt cx="1537200" cy="606960"/>
            </a:xfrm>
          </p:grpSpPr>
          <p:sp>
            <p:nvSpPr>
              <p:cNvPr id="722" name=""/>
              <p:cNvSpPr/>
              <p:nvPr/>
            </p:nvSpPr>
            <p:spPr>
              <a:xfrm>
                <a:off x="7772400" y="3505320"/>
                <a:ext cx="1371600" cy="385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00840" y="3527280"/>
                <a:ext cx="1343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/TCPSink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606800" y="3805200"/>
                <a:ext cx="82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58c"/>
                    </a:solidFill>
                    <a:latin typeface="Tahoma"/>
                  </a:rPr>
                  <a:t>agents_</a:t>
                </a:r>
                <a:endParaRPr b="0" lang="en-US" sz="1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26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29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B03-0A8B-4366-A540-21AB6BDFB9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: Traffic Generat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733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73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192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74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5848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26320" y="471960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classifier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45040" y="4110120"/>
            <a:ext cx="74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dmux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767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777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785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606800" y="3805200"/>
            <a:ext cx="8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s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794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797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3920760" y="2960640"/>
            <a:ext cx="1486800" cy="620640"/>
            <a:chOff x="3920760" y="2960640"/>
            <a:chExt cx="1486800" cy="620640"/>
          </a:xfrm>
        </p:grpSpPr>
        <p:sp>
          <p:nvSpPr>
            <p:cNvPr id="800" name=""/>
            <p:cNvSpPr/>
            <p:nvPr/>
          </p:nvSpPr>
          <p:spPr>
            <a:xfrm>
              <a:off x="3978360" y="2960640"/>
              <a:ext cx="1355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20760" y="2967120"/>
              <a:ext cx="148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58c"/>
                  </a:solidFill>
                  <a:latin typeface="Tahoma"/>
                </a:rPr>
                <a:t>Application/FTP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4266720" y="3276720"/>
              <a:ext cx="381240" cy="304560"/>
            </a:xfrm>
            <a:prstGeom prst="line">
              <a:avLst/>
            </a:prstGeom>
            <a:ln w="9360">
              <a:solidFill>
                <a:srgbClr val="40458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C24-278F-4676-A4A0-46241A7151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umbing: Packet Flo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1821960" y="3954600"/>
            <a:ext cx="326880" cy="779760"/>
            <a:chOff x="1821960" y="3954600"/>
            <a:chExt cx="326880" cy="779760"/>
          </a:xfrm>
        </p:grpSpPr>
        <p:sp>
          <p:nvSpPr>
            <p:cNvPr id="805" name=""/>
            <p:cNvSpPr/>
            <p:nvPr/>
          </p:nvSpPr>
          <p:spPr>
            <a:xfrm>
              <a:off x="1821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821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2814480" y="2286000"/>
            <a:ext cx="3657600" cy="144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24120" y="1828800"/>
            <a:ext cx="99036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472080" y="1828800"/>
            <a:ext cx="990720" cy="914400"/>
          </a:xfrm>
          <a:prstGeom prst="ellipse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2536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73680" y="209088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n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062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47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97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28480" y="2209680"/>
            <a:ext cx="3353040" cy="3353040"/>
            <a:chOff x="528480" y="2209680"/>
            <a:chExt cx="3353040" cy="3353040"/>
          </a:xfrm>
        </p:grpSpPr>
        <p:sp>
          <p:nvSpPr>
            <p:cNvPr id="816" name=""/>
            <p:cNvSpPr/>
            <p:nvPr/>
          </p:nvSpPr>
          <p:spPr>
            <a:xfrm>
              <a:off x="1824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585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14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62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8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366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128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1290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814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25" name=""/>
          <p:cNvSpPr/>
          <p:nvPr/>
        </p:nvSpPr>
        <p:spPr>
          <a:xfrm>
            <a:off x="1824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7328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35680" y="351144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289548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15000" y="350532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ddr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400800" y="2971800"/>
            <a:ext cx="115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Port Classifier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250600" y="441468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entry_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5181480" y="2209680"/>
            <a:ext cx="3353040" cy="3353040"/>
            <a:chOff x="5181480" y="2209680"/>
            <a:chExt cx="3353040" cy="3353040"/>
          </a:xfrm>
        </p:grpSpPr>
        <p:sp>
          <p:nvSpPr>
            <p:cNvPr id="834" name=""/>
            <p:cNvSpPr/>
            <p:nvPr/>
          </p:nvSpPr>
          <p:spPr>
            <a:xfrm>
              <a:off x="6477120" y="3886200"/>
              <a:ext cx="30456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238880" y="3352680"/>
              <a:ext cx="304920" cy="914400"/>
            </a:xfrm>
            <a:custGeom>
              <a:avLst/>
              <a:gdLst/>
              <a:ahLst/>
              <a:rect l="l" t="t" r="r" b="b"/>
              <a:pathLst>
                <a:path w="192" h="576">
                  <a:moveTo>
                    <a:pt x="0" y="96"/>
                  </a:moveTo>
                  <a:lnTo>
                    <a:pt x="192" y="0"/>
                  </a:lnTo>
                  <a:lnTo>
                    <a:pt x="192" y="576"/>
                  </a:lnTo>
                  <a:lnTo>
                    <a:pt x="0" y="480"/>
                  </a:lnTo>
                  <a:lnTo>
                    <a:pt x="0" y="96"/>
                  </a:lnTo>
                  <a:close/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67280" y="2971800"/>
              <a:ext cx="2667240" cy="2590920"/>
            </a:xfrm>
            <a:prstGeom prst="ellipse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15000" y="419112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181480" y="4343400"/>
              <a:ext cx="53352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19920" y="4343400"/>
              <a:ext cx="457200" cy="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6781680" y="3809520"/>
              <a:ext cx="457200" cy="228600"/>
            </a:xfrm>
            <a:prstGeom prst="line">
              <a:avLst/>
            </a:prstGeom>
            <a:ln w="9360">
              <a:solidFill>
                <a:srgbClr val="b7c1e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943600" y="2209680"/>
              <a:ext cx="533520" cy="160020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67480" y="2209680"/>
              <a:ext cx="838440" cy="1295640"/>
            </a:xfrm>
            <a:prstGeom prst="line">
              <a:avLst/>
            </a:prstGeom>
            <a:ln w="9360">
              <a:solidFill>
                <a:srgbClr val="b7c1e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6474960" y="3954600"/>
            <a:ext cx="326880" cy="779760"/>
            <a:chOff x="6474960" y="3954600"/>
            <a:chExt cx="326880" cy="779760"/>
          </a:xfrm>
        </p:grpSpPr>
        <p:sp>
          <p:nvSpPr>
            <p:cNvPr id="844" name=""/>
            <p:cNvSpPr/>
            <p:nvPr/>
          </p:nvSpPr>
          <p:spPr>
            <a:xfrm>
              <a:off x="6474960" y="39546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74960" y="43354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7c1eb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6477120" y="4343400"/>
            <a:ext cx="304560" cy="0"/>
          </a:xfrm>
          <a:prstGeom prst="line">
            <a:avLst/>
          </a:prstGeom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295280" cy="45720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038480" y="419112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0-n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133720" y="4343040"/>
            <a:ext cx="1828800" cy="22860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038480" y="5638680"/>
            <a:ext cx="113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Link n1-n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533520" y="4343400"/>
            <a:ext cx="6705360" cy="1676520"/>
            <a:chOff x="533520" y="4343400"/>
            <a:chExt cx="6705360" cy="1676520"/>
          </a:xfrm>
        </p:grpSpPr>
        <p:sp>
          <p:nvSpPr>
            <p:cNvPr id="852" name=""/>
            <p:cNvSpPr/>
            <p:nvPr/>
          </p:nvSpPr>
          <p:spPr>
            <a:xfrm>
              <a:off x="5257800" y="4572000"/>
              <a:ext cx="1981080" cy="1219320"/>
            </a:xfrm>
            <a:custGeom>
              <a:avLst/>
              <a:gdLst/>
              <a:ahLst/>
              <a:rect l="l" t="t" r="r" b="b"/>
              <a:pathLst>
                <a:path w="1248" h="768">
                  <a:moveTo>
                    <a:pt x="960" y="0"/>
                  </a:moveTo>
                  <a:lnTo>
                    <a:pt x="1248" y="0"/>
                  </a:lnTo>
                  <a:lnTo>
                    <a:pt x="1248" y="768"/>
                  </a:lnTo>
                  <a:lnTo>
                    <a:pt x="0" y="768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962520" y="5562720"/>
              <a:ext cx="1295280" cy="457200"/>
            </a:xfrm>
            <a:prstGeom prst="rect">
              <a:avLst/>
            </a:prstGeom>
            <a:noFill/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3520" y="4343400"/>
              <a:ext cx="3504960" cy="144792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2208" y="912"/>
                  </a:move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7221240" y="3538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7c1eb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772400" y="3505320"/>
            <a:ext cx="12193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737120" y="350028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7c1eb"/>
                </a:solidFill>
                <a:latin typeface="Tahoma"/>
              </a:rPr>
              <a:t>Agent/TCPSink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b7c1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652200" y="3195720"/>
            <a:ext cx="5460480" cy="318240"/>
            <a:chOff x="3652200" y="3195720"/>
            <a:chExt cx="5460480" cy="318240"/>
          </a:xfrm>
        </p:grpSpPr>
        <p:sp>
          <p:nvSpPr>
            <p:cNvPr id="860" name=""/>
            <p:cNvSpPr/>
            <p:nvPr/>
          </p:nvSpPr>
          <p:spPr>
            <a:xfrm>
              <a:off x="3652200" y="32068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1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240040" y="319572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b7c1eb"/>
                  </a:solidFill>
                  <a:latin typeface="Tahoma"/>
                </a:rPr>
                <a:t>dst_=0.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14400" y="2438280"/>
            <a:ext cx="7327800" cy="1905120"/>
            <a:chOff x="914400" y="2438280"/>
            <a:chExt cx="7327800" cy="1905120"/>
          </a:xfrm>
        </p:grpSpPr>
        <p:sp>
          <p:nvSpPr>
            <p:cNvPr id="863" name=""/>
            <p:cNvSpPr/>
            <p:nvPr/>
          </p:nvSpPr>
          <p:spPr>
            <a:xfrm>
              <a:off x="914400" y="2489040"/>
              <a:ext cx="259092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651640" y="2438280"/>
              <a:ext cx="2590560" cy="1854360"/>
            </a:xfrm>
            <a:custGeom>
              <a:avLst/>
              <a:gdLst/>
              <a:ahLst/>
              <a:rect l="l" t="t" r="r" b="b"/>
              <a:pathLst>
                <a:path w="1880" h="1168">
                  <a:moveTo>
                    <a:pt x="1880" y="640"/>
                  </a:moveTo>
                  <a:cubicBezTo>
                    <a:pt x="1684" y="464"/>
                    <a:pt x="1488" y="288"/>
                    <a:pt x="1208" y="208"/>
                  </a:cubicBezTo>
                  <a:cubicBezTo>
                    <a:pt x="928" y="128"/>
                    <a:pt x="400" y="0"/>
                    <a:pt x="200" y="160"/>
                  </a:cubicBezTo>
                  <a:cubicBezTo>
                    <a:pt x="0" y="320"/>
                    <a:pt x="4" y="744"/>
                    <a:pt x="8" y="1168"/>
                  </a:cubicBezTo>
                </a:path>
              </a:pathLst>
            </a:custGeom>
            <a:noFill/>
            <a:ln w="9360">
              <a:solidFill>
                <a:srgbClr val="b7c1e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978360" y="2960640"/>
            <a:ext cx="13557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920760" y="296712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Application/FTP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266720" y="3276720"/>
            <a:ext cx="381240" cy="304560"/>
          </a:xfrm>
          <a:prstGeom prst="line">
            <a:avLst/>
          </a:prstGeom>
          <a:ln w="9360">
            <a:solidFill>
              <a:srgbClr val="40458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200400" y="33526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7432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26668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447920" y="259092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914400" y="2895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62120" y="34290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39625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447920" y="4114800"/>
            <a:ext cx="30456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09680" y="43434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895480" y="42670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581280" y="419112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495680" y="4038480"/>
            <a:ext cx="30492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1814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095880" y="41148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858000" y="3657600"/>
            <a:ext cx="30492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848720" y="3352680"/>
            <a:ext cx="30456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229600" y="31240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77240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315200" y="26668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816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95880" y="2514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638680" y="2895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244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38680" y="39625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562720" y="35053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010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62920" y="49528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010280" y="43434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553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199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562720" y="556272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581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124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666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096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7524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380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556272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8088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880" y="480060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4038480"/>
            <a:ext cx="7596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914400" y="40384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38280" y="35812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3352680"/>
            <a:ext cx="7632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3200400" y="3124080"/>
            <a:ext cx="304920" cy="381240"/>
            <a:chOff x="3200400" y="3124080"/>
            <a:chExt cx="304920" cy="381240"/>
          </a:xfrm>
        </p:grpSpPr>
        <p:sp>
          <p:nvSpPr>
            <p:cNvPr id="915" name=""/>
            <p:cNvSpPr/>
            <p:nvPr/>
          </p:nvSpPr>
          <p:spPr>
            <a:xfrm>
              <a:off x="3200400" y="31240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00400" y="3352680"/>
              <a:ext cx="304920" cy="152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254-9600-434E-B7B4-BC714AE376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1058760" y="26528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058760" y="3338640"/>
            <a:ext cx="175284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2797200" y="2251080"/>
            <a:ext cx="766800" cy="3888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822400" y="3338640"/>
            <a:ext cx="741600" cy="2757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562200" y="2209680"/>
            <a:ext cx="2143080" cy="3888720"/>
            <a:chOff x="3562200" y="2209680"/>
            <a:chExt cx="2143080" cy="3888720"/>
          </a:xfrm>
        </p:grpSpPr>
        <p:sp>
          <p:nvSpPr>
            <p:cNvPr id="923" name=""/>
            <p:cNvSpPr/>
            <p:nvPr/>
          </p:nvSpPr>
          <p:spPr>
            <a:xfrm>
              <a:off x="3562200" y="28954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62200" y="35812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c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562200" y="42670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rtp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562200" y="49528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race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562200" y="2209680"/>
              <a:ext cx="214308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cmn heade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562200" y="5638680"/>
              <a:ext cx="2143080" cy="459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...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5705640" y="1980720"/>
            <a:ext cx="2666520" cy="3353400"/>
            <a:chOff x="5705640" y="1980720"/>
            <a:chExt cx="2666520" cy="3353400"/>
          </a:xfrm>
        </p:grpSpPr>
        <p:sp>
          <p:nvSpPr>
            <p:cNvPr id="930" name=""/>
            <p:cNvSpPr/>
            <p:nvPr/>
          </p:nvSpPr>
          <p:spPr>
            <a:xfrm>
              <a:off x="6619680" y="198108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619680" y="25909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19680" y="32767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19680" y="39625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19680" y="4648320"/>
              <a:ext cx="175248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5705640" y="1980720"/>
              <a:ext cx="91404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705640" y="2895480"/>
              <a:ext cx="91404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A8B-8D7A-4CA0-966E-F8A1EBF215B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6EF-E173-40B5-9496-BE0824678E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bstract the Real Worl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 head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bile n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reless chann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rwarding and rou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iz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1CC3-D29A-4874-A96E-BD43F93ACDB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60066"/>
                </a:solidFill>
                <a:latin typeface="Tahoma"/>
              </a:rPr>
              <a:t>Wireless Packe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1238400" y="22050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238400" y="2890800"/>
            <a:ext cx="1752480" cy="6858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0458c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2990880" y="1824120"/>
            <a:ext cx="609480" cy="3808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002040" y="2889360"/>
            <a:ext cx="598320" cy="3278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5689440" y="1593360"/>
            <a:ext cx="2667240" cy="3353400"/>
            <a:chOff x="5689440" y="1593360"/>
            <a:chExt cx="2667240" cy="3353400"/>
          </a:xfrm>
        </p:grpSpPr>
        <p:sp>
          <p:nvSpPr>
            <p:cNvPr id="947" name=""/>
            <p:cNvSpPr/>
            <p:nvPr/>
          </p:nvSpPr>
          <p:spPr>
            <a:xfrm>
              <a:off x="6603840" y="159372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ts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603840" y="22035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ptyp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603840" y="28893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uid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3840" y="35751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siz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03840" y="4260960"/>
              <a:ext cx="1752840" cy="6858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40458c"/>
                  </a:solidFill>
                  <a:latin typeface="Tahoma"/>
                </a:rPr>
                <a:t>iface_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5689440" y="1593360"/>
              <a:ext cx="914400" cy="22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689440" y="2508120"/>
              <a:ext cx="914400" cy="24386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600360" y="1822320"/>
            <a:ext cx="2088360" cy="4345560"/>
            <a:chOff x="3600360" y="1822320"/>
            <a:chExt cx="2088360" cy="4345560"/>
          </a:xfrm>
        </p:grpSpPr>
        <p:grpSp>
          <p:nvGrpSpPr>
            <p:cNvPr id="955" name=""/>
            <p:cNvGrpSpPr/>
            <p:nvPr/>
          </p:nvGrpSpPr>
          <p:grpSpPr>
            <a:xfrm>
              <a:off x="3600360" y="1822320"/>
              <a:ext cx="2088360" cy="1828800"/>
              <a:chOff x="3600360" y="1822320"/>
              <a:chExt cx="2088360" cy="1828800"/>
            </a:xfrm>
          </p:grpSpPr>
          <p:sp>
            <p:nvSpPr>
              <p:cNvPr id="956" name=""/>
              <p:cNvSpPr/>
              <p:nvPr/>
            </p:nvSpPr>
            <p:spPr>
              <a:xfrm>
                <a:off x="3600360" y="25081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IP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600360" y="3193920"/>
                <a:ext cx="208836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600360" y="1822320"/>
                <a:ext cx="2088360" cy="685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cmn header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3600360" y="3651120"/>
              <a:ext cx="2088360" cy="2516760"/>
              <a:chOff x="3600360" y="3651120"/>
              <a:chExt cx="2088360" cy="2516760"/>
            </a:xfrm>
          </p:grpSpPr>
          <p:sp>
            <p:nvSpPr>
              <p:cNvPr id="960" name=""/>
              <p:cNvSpPr/>
              <p:nvPr/>
            </p:nvSpPr>
            <p:spPr>
              <a:xfrm>
                <a:off x="3600360" y="365112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LL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600360" y="43365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MAC 802_11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600360" y="5708160"/>
                <a:ext cx="2088360" cy="45972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......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600360" y="5022360"/>
                <a:ext cx="2088360" cy="685440"/>
              </a:xfrm>
              <a:prstGeom prst="rect">
                <a:avLst/>
              </a:prstGeom>
              <a:solidFill>
                <a:srgbClr val="ccff33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40458c"/>
                    </a:solidFill>
                    <a:latin typeface="Tahoma"/>
                  </a:rPr>
                  <a:t>ARP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4" name=""/>
          <p:cNvGrpSpPr/>
          <p:nvPr/>
        </p:nvGrpSpPr>
        <p:grpSpPr>
          <a:xfrm>
            <a:off x="5715000" y="3657600"/>
            <a:ext cx="1710720" cy="2502000"/>
            <a:chOff x="5715000" y="3657600"/>
            <a:chExt cx="1710720" cy="2502000"/>
          </a:xfrm>
        </p:grpSpPr>
        <p:sp>
          <p:nvSpPr>
            <p:cNvPr id="965" name=""/>
            <p:cNvSpPr/>
            <p:nvPr/>
          </p:nvSpPr>
          <p:spPr>
            <a:xfrm>
              <a:off x="5715000" y="3657600"/>
              <a:ext cx="295200" cy="250200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65160 h 2502000"/>
                <a:gd name="textAreaBottom" fmla="*/ 2436840 h 250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04440" y="4454640"/>
              <a:ext cx="142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wireless 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headers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45F-272A-409F-A5CF-629D3CE01B0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ordinates (x,y,z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ve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ed, direction, starting/ending location, time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EF8E-73A9-42EC-B8BF-940CE2B12D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rtrait of A Mobile No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0" name=""/>
          <p:cNvSpPr/>
          <p:nvPr/>
        </p:nvSpPr>
        <p:spPr>
          <a:xfrm>
            <a:off x="1084320" y="1757520"/>
            <a:ext cx="3124080" cy="1793880"/>
          </a:xfrm>
          <a:prstGeom prst="rect">
            <a:avLst/>
          </a:prstGeom>
          <a:solidFill>
            <a:srgbClr val="ffffff"/>
          </a:solidFill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008000" y="269064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106640" y="176544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7c1eb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348000" y="3649680"/>
            <a:ext cx="838080" cy="398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P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27400" y="5162400"/>
            <a:ext cx="1206360" cy="64152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pagation and antenna models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68240" y="1609560"/>
            <a:ext cx="3706920" cy="4364280"/>
          </a:xfrm>
          <a:prstGeom prst="rect">
            <a:avLst/>
          </a:prstGeom>
          <a:noFill/>
          <a:ln w="9360">
            <a:solidFill>
              <a:srgbClr val="b7c1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99840" y="56498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7c1eb"/>
                </a:solidFill>
                <a:latin typeface="Tahoma"/>
              </a:rPr>
              <a:t>MobileNo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28800" y="4818240"/>
            <a:ext cx="106668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28800" y="5342040"/>
            <a:ext cx="106668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2133720" y="4178160"/>
            <a:ext cx="457200" cy="457200"/>
            <a:chOff x="2133720" y="4178160"/>
            <a:chExt cx="457200" cy="457200"/>
          </a:xfrm>
        </p:grpSpPr>
        <p:sp>
          <p:nvSpPr>
            <p:cNvPr id="981" name=""/>
            <p:cNvSpPr/>
            <p:nvPr/>
          </p:nvSpPr>
          <p:spPr>
            <a:xfrm>
              <a:off x="2133720" y="417816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133720" y="433044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133720" y="448272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1828800" y="3701880"/>
            <a:ext cx="106668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25400" y="6095880"/>
            <a:ext cx="3276720" cy="276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HANNE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122800" y="2654280"/>
            <a:ext cx="533520" cy="3049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13240" y="3263760"/>
            <a:ext cx="15264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856040" y="3832200"/>
            <a:ext cx="1067040" cy="276480"/>
          </a:xfrm>
          <a:prstGeom prst="rect">
            <a:avLst/>
          </a:prstGeom>
          <a:solidFill>
            <a:srgbClr val="9966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L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5160960" y="4357800"/>
            <a:ext cx="457200" cy="457200"/>
            <a:chOff x="5160960" y="4357800"/>
            <a:chExt cx="457200" cy="457200"/>
          </a:xfrm>
        </p:grpSpPr>
        <p:sp>
          <p:nvSpPr>
            <p:cNvPr id="990" name=""/>
            <p:cNvSpPr/>
            <p:nvPr/>
          </p:nvSpPr>
          <p:spPr>
            <a:xfrm>
              <a:off x="5160960" y="4357800"/>
              <a:ext cx="457200" cy="45720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160960" y="451008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160960" y="4662360"/>
              <a:ext cx="4572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4856040" y="5016600"/>
            <a:ext cx="106704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MA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856040" y="5549760"/>
            <a:ext cx="1067040" cy="276480"/>
          </a:xfrm>
          <a:prstGeom prst="rect">
            <a:avLst/>
          </a:prstGeom>
          <a:solidFill>
            <a:srgbClr val="ff505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H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10200" y="1863720"/>
            <a:ext cx="3133800" cy="4034160"/>
            <a:chOff x="6010200" y="1863720"/>
            <a:chExt cx="3133800" cy="4034160"/>
          </a:xfrm>
        </p:grpSpPr>
        <p:sp>
          <p:nvSpPr>
            <p:cNvPr id="996" name=""/>
            <p:cNvSpPr/>
            <p:nvPr/>
          </p:nvSpPr>
          <p:spPr>
            <a:xfrm>
              <a:off x="6010200" y="1863720"/>
              <a:ext cx="287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Classifier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Forwarding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10200" y="2549520"/>
              <a:ext cx="290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Agent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Protocol Entit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010200" y="3159000"/>
              <a:ext cx="256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Node Entry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010200" y="374652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LL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Link layer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010200" y="4356000"/>
              <a:ext cx="31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IFQ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Interface queu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010200" y="496584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MAC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Mac object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10200" y="5499000"/>
              <a:ext cx="297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58c"/>
                  </a:solidFill>
                  <a:latin typeface="Tahoma"/>
                </a:rPr>
                <a:t>PHY</a:t>
              </a:r>
              <a:r>
                <a:rPr b="0" lang="en-US" sz="2000" spc="-1" strike="noStrike">
                  <a:solidFill>
                    <a:srgbClr val="40458c"/>
                  </a:solidFill>
                  <a:latin typeface="Tahoma"/>
                </a:rPr>
                <a:t>: Net interface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cxnSp>
        <p:nvCxnSpPr>
          <p:cNvPr id="1003" name=""/>
          <p:cNvCxnSpPr>
            <a:stCxn id="984" idx="1"/>
            <a:endCxn id="971" idx="2"/>
          </p:cNvCxnSpPr>
          <p:nvPr/>
        </p:nvCxnSpPr>
        <p:spPr>
          <a:xfrm rot="10800000">
            <a:off x="1007280" y="2766960"/>
            <a:ext cx="821520" cy="1078200"/>
          </a:xfrm>
          <a:prstGeom prst="bentConnector3">
            <a:avLst>
              <a:gd name="adj1" fmla="val 119508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4" name=""/>
          <p:cNvCxnSpPr>
            <a:stCxn id="979" idx="2"/>
            <a:endCxn id="985" idx="0"/>
          </p:cNvCxnSpPr>
          <p:nvPr/>
        </p:nvCxnSpPr>
        <p:spPr>
          <a:xfrm>
            <a:off x="2362320" y="5625720"/>
            <a:ext cx="2160" cy="47052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5" name=""/>
          <p:cNvCxnSpPr>
            <a:stCxn id="979" idx="3"/>
            <a:endCxn id="974" idx="1"/>
          </p:cNvCxnSpPr>
          <p:nvPr/>
        </p:nvCxnSpPr>
        <p:spPr>
          <a:xfrm>
            <a:off x="2895480" y="5484960"/>
            <a:ext cx="332640" cy="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6" name=""/>
          <p:cNvCxnSpPr>
            <a:stCxn id="978" idx="2"/>
            <a:endCxn id="979" idx="0"/>
          </p:cNvCxnSpPr>
          <p:nvPr/>
        </p:nvCxnSpPr>
        <p:spPr>
          <a:xfrm>
            <a:off x="2361960" y="5102280"/>
            <a:ext cx="1080" cy="240480"/>
          </a:xfrm>
          <a:prstGeom prst="straightConnector1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07" name=""/>
          <p:cNvCxnSpPr>
            <a:stCxn id="981" idx="2"/>
            <a:endCxn id="978" idx="0"/>
          </p:cNvCxnSpPr>
          <p:nvPr/>
        </p:nvCxnSpPr>
        <p:spPr>
          <a:xfrm>
            <a:off x="2361960" y="4635360"/>
            <a:ext cx="1080" cy="183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08" name=""/>
          <p:cNvCxnSpPr>
            <a:stCxn id="984" idx="2"/>
            <a:endCxn id="981" idx="0"/>
          </p:cNvCxnSpPr>
          <p:nvPr/>
        </p:nvCxnSpPr>
        <p:spPr>
          <a:xfrm>
            <a:off x="2361960" y="3985920"/>
            <a:ext cx="1080" cy="192600"/>
          </a:xfrm>
          <a:prstGeom prst="straightConnector1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09" name=""/>
          <p:cNvSpPr/>
          <p:nvPr/>
        </p:nvSpPr>
        <p:spPr>
          <a:xfrm rot="5400000">
            <a:off x="1155600" y="26636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rot="5400000">
            <a:off x="1733400" y="2287440"/>
            <a:ext cx="754200" cy="201600"/>
          </a:xfrm>
          <a:custGeom>
            <a:avLst/>
            <a:gdLst>
              <a:gd name="textAreaLeft" fmla="*/ 173880 w 754200"/>
              <a:gd name="textAreaRight" fmla="*/ 580320 w 754200"/>
              <a:gd name="textAreaTop" fmla="*/ 46440 h 201600"/>
              <a:gd name="textAreaBottom" fmla="*/ 155160 h 20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1" name=""/>
          <p:cNvCxnSpPr>
            <a:stCxn id="971" idx="6"/>
            <a:endCxn id="1009" idx="1"/>
          </p:cNvCxnSpPr>
          <p:nvPr/>
        </p:nvCxnSpPr>
        <p:spPr>
          <a:xfrm flipV="1">
            <a:off x="1160640" y="2765160"/>
            <a:ext cx="259200" cy="21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2" name=""/>
          <p:cNvSpPr/>
          <p:nvPr/>
        </p:nvSpPr>
        <p:spPr>
          <a:xfrm rot="5400000">
            <a:off x="5075640" y="1971000"/>
            <a:ext cx="577800" cy="160200"/>
          </a:xfrm>
          <a:custGeom>
            <a:avLst/>
            <a:gdLst>
              <a:gd name="textAreaLeft" fmla="*/ 133200 w 577800"/>
              <a:gd name="textAreaRight" fmla="*/ 444600 w 577800"/>
              <a:gd name="textAreaTop" fmla="*/ 36720 h 160200"/>
              <a:gd name="textAreaBottom" fmla="*/ 123480 h 16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780" y="21600"/>
                </a:lnTo>
                <a:lnTo>
                  <a:pt x="5820" y="21600"/>
                </a:lnTo>
                <a:close/>
              </a:path>
            </a:pathLst>
          </a:cu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3" name=""/>
          <p:cNvCxnSpPr>
            <a:stCxn id="984" idx="3"/>
            <a:endCxn id="973" idx="1"/>
          </p:cNvCxnSpPr>
          <p:nvPr/>
        </p:nvCxnSpPr>
        <p:spPr>
          <a:xfrm>
            <a:off x="2895120" y="3844800"/>
            <a:ext cx="453240" cy="86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014" name=""/>
          <p:cNvSpPr/>
          <p:nvPr/>
        </p:nvSpPr>
        <p:spPr>
          <a:xfrm>
            <a:off x="2903400" y="1895400"/>
            <a:ext cx="8604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protoco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2930400" y="2905200"/>
            <a:ext cx="874800" cy="4302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134000" y="29606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dd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821600" y="1616040"/>
            <a:ext cx="80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r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lassifie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18" name=""/>
          <p:cNvCxnSpPr>
            <a:stCxn id="1009" idx="3"/>
            <a:endCxn id="1010" idx="1"/>
          </p:cNvCxnSpPr>
          <p:nvPr/>
        </p:nvCxnSpPr>
        <p:spPr>
          <a:xfrm flipV="1">
            <a:off x="1649160" y="2388600"/>
            <a:ext cx="347760" cy="376920"/>
          </a:xfrm>
          <a:prstGeom prst="bentConnector3">
            <a:avLst>
              <a:gd name="adj1" fmla="val 49326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19" name=""/>
          <p:cNvCxnSpPr>
            <a:stCxn id="1009" idx="3"/>
            <a:endCxn id="1015" idx="1"/>
          </p:cNvCxnSpPr>
          <p:nvPr/>
        </p:nvCxnSpPr>
        <p:spPr>
          <a:xfrm>
            <a:off x="1649520" y="2765520"/>
            <a:ext cx="1281600" cy="356400"/>
          </a:xfrm>
          <a:prstGeom prst="bentConnector3">
            <a:avLst>
              <a:gd name="adj1" fmla="val 13627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0" name=""/>
          <p:cNvCxnSpPr>
            <a:stCxn id="1010" idx="3"/>
            <a:endCxn id="1015" idx="1"/>
          </p:cNvCxnSpPr>
          <p:nvPr/>
        </p:nvCxnSpPr>
        <p:spPr>
          <a:xfrm>
            <a:off x="2226960" y="2388960"/>
            <a:ext cx="703800" cy="732600"/>
          </a:xfrm>
          <a:prstGeom prst="bentConnector3">
            <a:avLst>
              <a:gd name="adj1" fmla="val 4872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1" name=""/>
          <p:cNvCxnSpPr>
            <a:stCxn id="1010" idx="3"/>
            <a:endCxn id="1014" idx="1"/>
          </p:cNvCxnSpPr>
          <p:nvPr/>
        </p:nvCxnSpPr>
        <p:spPr>
          <a:xfrm flipV="1">
            <a:off x="2227320" y="2111400"/>
            <a:ext cx="676800" cy="278280"/>
          </a:xfrm>
          <a:prstGeom prst="bentConnector3">
            <a:avLst>
              <a:gd name="adj1" fmla="val 5045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2" name=""/>
          <p:cNvSpPr/>
          <p:nvPr/>
        </p:nvSpPr>
        <p:spPr>
          <a:xfrm>
            <a:off x="2511360" y="2560680"/>
            <a:ext cx="44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5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45240" y="42544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172840" y="443088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7c1eb"/>
                </a:solidFill>
                <a:latin typeface="Tahoma"/>
              </a:rPr>
              <a:t>IF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714760" y="3979800"/>
            <a:ext cx="0" cy="8334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26" name=""/>
          <p:cNvCxnSpPr>
            <a:stCxn id="1014" idx="0"/>
            <a:endCxn id="971" idx="2"/>
          </p:cNvCxnSpPr>
          <p:nvPr/>
        </p:nvCxnSpPr>
        <p:spPr>
          <a:xfrm rot="5400000">
            <a:off x="1734480" y="1167480"/>
            <a:ext cx="872280" cy="2326320"/>
          </a:xfrm>
          <a:prstGeom prst="bentConnector4">
            <a:avLst>
              <a:gd name="adj1" fmla="val -26218"/>
              <a:gd name="adj2" fmla="val 10681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27" name=""/>
          <p:cNvCxnSpPr>
            <a:stCxn id="1015" idx="2"/>
            <a:endCxn id="984" idx="0"/>
          </p:cNvCxnSpPr>
          <p:nvPr/>
        </p:nvCxnSpPr>
        <p:spPr>
          <a:xfrm rot="5400000">
            <a:off x="2681280" y="3015360"/>
            <a:ext cx="367200" cy="1006920"/>
          </a:xfrm>
          <a:prstGeom prst="bentConnector3">
            <a:avLst>
              <a:gd name="adj1" fmla="val 49754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28" name=""/>
          <p:cNvSpPr/>
          <p:nvPr/>
        </p:nvSpPr>
        <p:spPr>
          <a:xfrm>
            <a:off x="1751400" y="3067200"/>
            <a:ext cx="102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defaulttarget_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EB2-C0FD-430A-8653-3800E5E5AD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ame as LAN, but with a separate ARP modu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face queu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ive priority to routing protocol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c Lay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EEE 802.1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TS/CTS/DATA/ACK for all uni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ATA for all broadcast packe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9E8-643E-459E-9273-37E8CEAA93E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++/OTcl Linkag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58960" y="1649520"/>
          <a:ext cx="791532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649520"/>
                    <a:ext cx="79153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FD8-0184-4FAF-95EB-8371792B72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bile Node: Compon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twork interface (PH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rameters based on Direct Sequence Spread Spectrum (WaveLa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rface with: antenna and propagation mode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pdate energy: transmission and receptio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dio Propagation Mod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riss-space attenuation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ne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wo-ray Ground (1/r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 at far dist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nten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ni-directional, unity-gai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4CB-1720-449B-A28D-74CA83C6983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reless Chann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uplicate packets to all mobile nodes attached to the channel except the send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t is the receiver’s responsibility to decide if it will accept the packe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llision is handled at individual receiv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(N</a:t>
            </a:r>
            <a:r>
              <a:rPr b="0" lang="en-US" sz="28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) messages </a:t>
            </a:r>
            <a:r>
              <a:rPr b="0" lang="en-US" sz="2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grid keepe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05D-7ACB-46EA-9F17-1A54AFD6031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id-keeper: An Optimizatio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295280" y="1981080"/>
            <a:ext cx="6782040" cy="4267440"/>
            <a:chOff x="1295280" y="1981080"/>
            <a:chExt cx="6782040" cy="4267440"/>
          </a:xfrm>
        </p:grpSpPr>
        <p:sp>
          <p:nvSpPr>
            <p:cNvPr id="1037" name=""/>
            <p:cNvSpPr/>
            <p:nvPr/>
          </p:nvSpPr>
          <p:spPr>
            <a:xfrm>
              <a:off x="1981080" y="2514600"/>
              <a:ext cx="3581640" cy="327672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295280" y="1981080"/>
              <a:ext cx="6782040" cy="42674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295280" y="41148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95280" y="51814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295280" y="5791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47920" y="5181480"/>
              <a:ext cx="66294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46483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8195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64008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19810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65760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56272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7238880" y="1981080"/>
              <a:ext cx="0" cy="4267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295280" y="30481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295280" y="358128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95280" y="251460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438280" y="2819520"/>
              <a:ext cx="2895840" cy="2666880"/>
            </a:xfrm>
            <a:prstGeom prst="ellipse">
              <a:avLst/>
            </a:prstGeom>
            <a:noFill/>
            <a:ln cap="rnd" w="9360">
              <a:solidFill>
                <a:srgbClr val="40458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09880" y="4114800"/>
              <a:ext cx="152640" cy="152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09680" y="48769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7432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0988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1240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67080" y="44956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09880" y="3429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76920" y="3657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00400" y="4343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43400" y="51055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800600" y="4267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876920" y="48006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191120" y="358128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429000" y="51814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004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962520" y="5029200"/>
              <a:ext cx="7596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67080" y="32767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52680" y="38098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828800" y="4419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81280" y="5334120"/>
              <a:ext cx="7632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05320" y="44197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858000" y="39625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6019920" y="6172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086600" y="52578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57400" y="22860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620120" y="38862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6728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400800" y="48006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62920" y="4724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629400" y="26668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09680" y="5562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267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47920" y="49528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48120" y="59436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24280" y="6019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752480" y="274320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705720" y="58672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600200" y="3733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19920" y="4876920"/>
              <a:ext cx="7596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362320" y="22096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43800" y="5867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248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19920" y="228600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010280" y="32767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391520" y="5410080"/>
              <a:ext cx="7596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467480" y="4876920"/>
              <a:ext cx="76320" cy="759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696080" y="2438280"/>
              <a:ext cx="76320" cy="76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876920" y="2819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09680" y="27432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72000" y="48006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438280" y="54864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876920" y="5105520"/>
              <a:ext cx="75960" cy="7596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29200" y="571500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181480" y="5410080"/>
              <a:ext cx="76320" cy="76320"/>
            </a:xfrm>
            <a:prstGeom prst="ellipse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81080" y="2514600"/>
              <a:ext cx="83844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981080" y="5181480"/>
              <a:ext cx="83844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295280" y="4648320"/>
              <a:ext cx="67820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450-ED1F-481A-8DB1-9AF758F3D5E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Fundamental concep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Split ob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Tahoma"/>
              </a:rPr>
              <a:t>Plumb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ahoma"/>
              </a:rPr>
              <a:t>Wireless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scal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0FB-D741-4792-BC5D-B428BE2F7A6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 Sca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s to simulation siz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em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un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ol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stra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ine-tuning (next sess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F3B-EC50-47A0-9163-F4C84BA619B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" descr=""/>
          <p:cNvPicPr/>
          <p:nvPr/>
        </p:nvPicPr>
        <p:blipFill>
          <a:blip r:embed="rId1"/>
          <a:stretch/>
        </p:blipFill>
        <p:spPr>
          <a:xfrm>
            <a:off x="828720" y="1623960"/>
            <a:ext cx="7324560" cy="4386240"/>
          </a:xfrm>
          <a:prstGeom prst="rect">
            <a:avLst/>
          </a:prstGeom>
          <a:ln w="0">
            <a:noFill/>
          </a:ln>
        </p:spPr>
      </p:pic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7" name=""/>
          <p:cNvSpPr/>
          <p:nvPr/>
        </p:nvSpPr>
        <p:spPr>
          <a:xfrm>
            <a:off x="2779200" y="32670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2101680" y="1716120"/>
            <a:ext cx="6340680" cy="3421080"/>
            <a:chOff x="2101680" y="1716120"/>
            <a:chExt cx="6340680" cy="3421080"/>
          </a:xfrm>
        </p:grpSpPr>
        <p:sp>
          <p:nvSpPr>
            <p:cNvPr id="1119" name=""/>
            <p:cNvSpPr/>
            <p:nvPr/>
          </p:nvSpPr>
          <p:spPr>
            <a:xfrm>
              <a:off x="2101680" y="2887560"/>
              <a:ext cx="55897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667280" y="27241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128MB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078600" y="1870200"/>
              <a:ext cx="0" cy="326700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137280" y="1716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Tahoma"/>
                </a:rPr>
                <a:t>430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852-2B79-463E-A9DC-430EED23D84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3" name=""/>
          <p:cNvGraphicFramePr/>
          <p:nvPr/>
        </p:nvGraphicFramePr>
        <p:xfrm>
          <a:off x="844560" y="1649520"/>
          <a:ext cx="780876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649520"/>
                    <a:ext cx="780876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3236400" y="1976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875-9464-4E16-A597-F6EA6D2ABEF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ulprit: Details, Det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nse mode tries to capture packet-level behavi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unes, Joins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t’s abstract it 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F09-5ACB-49F9-A247-BC1AA190EBF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 flipH="1" flipV="1">
            <a:off x="6045120" y="3865320"/>
            <a:ext cx="976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 flipV="1">
            <a:off x="6045120" y="3865320"/>
            <a:ext cx="2308320" cy="1238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5880240" y="3665520"/>
            <a:ext cx="1295280" cy="15271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613560" y="4254480"/>
            <a:ext cx="5968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291440" y="3684600"/>
            <a:ext cx="1249200" cy="15080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6070320" y="3870360"/>
            <a:ext cx="1571400" cy="38736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021440" y="3297240"/>
            <a:ext cx="3938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>
            <a:off x="7210440" y="4254480"/>
            <a:ext cx="528480" cy="9381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408720" y="4041720"/>
            <a:ext cx="392040" cy="40644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645320" y="4049640"/>
            <a:ext cx="37476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6912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031160" y="5006880"/>
            <a:ext cx="3744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8353440" y="499752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2520000">
            <a:off x="6900480" y="363024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rot="2520000">
            <a:off x="6733800" y="3830400"/>
            <a:ext cx="842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18990000">
            <a:off x="7443720" y="361440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rot="19197600">
            <a:off x="7604280" y="383976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19768800">
            <a:off x="6675480" y="457488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9523400">
            <a:off x="6833880" y="481464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056280" y="3878280"/>
            <a:ext cx="385920" cy="27288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5879880" y="3892680"/>
            <a:ext cx="168120" cy="108720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6043680" y="3557520"/>
            <a:ext cx="968400" cy="311040"/>
          </a:xfrm>
          <a:prstGeom prst="line">
            <a:avLst/>
          </a:prstGeom>
          <a:ln w="1260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691240" y="5624640"/>
            <a:ext cx="318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104480" y="1752480"/>
            <a:ext cx="33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232800" y="2731320"/>
            <a:ext cx="1121040" cy="119196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657520" y="2454120"/>
            <a:ext cx="39204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043000" y="3198960"/>
            <a:ext cx="39240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279600" y="3208320"/>
            <a:ext cx="374760" cy="3888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3273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665440" y="4164120"/>
            <a:ext cx="376200" cy="39024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rot="2743800">
            <a:off x="2572560" y="282024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 rot="2733600">
            <a:off x="2392920" y="29818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rot="2520000">
            <a:off x="1882440" y="3619080"/>
            <a:ext cx="842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rot="2580000">
            <a:off x="1671480" y="3838680"/>
            <a:ext cx="8604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8798000">
            <a:off x="3060000" y="2817000"/>
            <a:ext cx="871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rot="18840000">
            <a:off x="3264120" y="29905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rot="19005600">
            <a:off x="3736440" y="36223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rot="18934800">
            <a:off x="3935520" y="3828600"/>
            <a:ext cx="8892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rot="18902400">
            <a:off x="2733480" y="38304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2556600">
            <a:off x="2080800" y="383652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rot="2564400">
            <a:off x="1882800" y="4053960"/>
            <a:ext cx="8568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18889200">
            <a:off x="3539880" y="3806640"/>
            <a:ext cx="84240" cy="19548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rot="18840000">
            <a:off x="3782880" y="4024440"/>
            <a:ext cx="84240" cy="195120"/>
          </a:xfrm>
          <a:prstGeom prst="rect">
            <a:avLst/>
          </a:prstGeom>
          <a:solidFill>
            <a:srgbClr val="6f89f7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rot="18925800">
            <a:off x="2522160" y="362556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1957320" y="3924360"/>
            <a:ext cx="333360" cy="4060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 flipV="1">
            <a:off x="3434400" y="3925080"/>
            <a:ext cx="384480" cy="3571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1391760" y="2676240"/>
            <a:ext cx="1062360" cy="11354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08920" y="3557160"/>
            <a:ext cx="365400" cy="3754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987720" y="41562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179" name=""/>
          <p:cNvCxnSpPr>
            <a:stCxn id="1157" idx="4"/>
            <a:endCxn id="1159" idx="0"/>
          </p:cNvCxnSpPr>
          <p:nvPr/>
        </p:nvCxnSpPr>
        <p:spPr>
          <a:xfrm flipH="1">
            <a:off x="2854080" y="3596760"/>
            <a:ext cx="613440" cy="5677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0" name=""/>
          <p:cNvCxnSpPr>
            <a:stCxn id="1157" idx="4"/>
            <a:endCxn id="1178" idx="1"/>
          </p:cNvCxnSpPr>
          <p:nvPr/>
        </p:nvCxnSpPr>
        <p:spPr>
          <a:xfrm>
            <a:off x="3466800" y="359712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1" name=""/>
          <p:cNvCxnSpPr>
            <a:stCxn id="1155" idx="4"/>
            <a:endCxn id="1157" idx="1"/>
          </p:cNvCxnSpPr>
          <p:nvPr/>
        </p:nvCxnSpPr>
        <p:spPr>
          <a:xfrm>
            <a:off x="2854440" y="28623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2" name=""/>
          <p:cNvCxnSpPr>
            <a:stCxn id="1155" idx="4"/>
            <a:endCxn id="1156" idx="7"/>
          </p:cNvCxnSpPr>
          <p:nvPr/>
        </p:nvCxnSpPr>
        <p:spPr>
          <a:xfrm flipH="1">
            <a:off x="2377440" y="2862360"/>
            <a:ext cx="477000" cy="39744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3" name=""/>
          <p:cNvCxnSpPr>
            <a:stCxn id="1156" idx="4"/>
            <a:endCxn id="1158" idx="7"/>
          </p:cNvCxnSpPr>
          <p:nvPr/>
        </p:nvCxnSpPr>
        <p:spPr>
          <a:xfrm flipH="1">
            <a:off x="1661400" y="3606480"/>
            <a:ext cx="578520" cy="6102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84" name=""/>
          <p:cNvCxnSpPr>
            <a:stCxn id="1156" idx="4"/>
            <a:endCxn id="1159" idx="0"/>
          </p:cNvCxnSpPr>
          <p:nvPr/>
        </p:nvCxnSpPr>
        <p:spPr>
          <a:xfrm>
            <a:off x="2239560" y="3606840"/>
            <a:ext cx="61524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4919760" y="3370320"/>
            <a:ext cx="1369800" cy="7282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Rout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Computat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ahoma"/>
              </a:rPr>
              <a:t>Unit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186" name=""/>
          <p:cNvGrpSpPr/>
          <p:nvPr/>
        </p:nvGrpSpPr>
        <p:grpSpPr>
          <a:xfrm>
            <a:off x="590400" y="4888080"/>
            <a:ext cx="1506960" cy="1390320"/>
            <a:chOff x="590400" y="4888080"/>
            <a:chExt cx="1506960" cy="1390320"/>
          </a:xfrm>
        </p:grpSpPr>
        <p:sp>
          <p:nvSpPr>
            <p:cNvPr id="1187" name=""/>
            <p:cNvSpPr/>
            <p:nvPr/>
          </p:nvSpPr>
          <p:spPr>
            <a:xfrm>
              <a:off x="603360" y="538632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5340000">
              <a:off x="682920" y="6013800"/>
              <a:ext cx="88920" cy="189000"/>
            </a:xfrm>
            <a:prstGeom prst="rect">
              <a:avLst/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16140000">
              <a:off x="681480" y="575352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90400" y="495288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054080" y="522936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069200" y="557064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54440" y="59101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prun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054440" y="488808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611A-DBE6-41E0-8EED-6A1459D9332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entralized Multica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Courier New"/>
              </a:rPr>
              <a:t>$ns mrtproto CtrMca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o exact dynamic behavior, e.g., routing convergence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es not mean to replace D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F6F-5C8B-4FFC-8F8D-0AB766C5371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asic hierarchy in ns for split objec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rrored in both C++ and O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set packetSize_ 102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$tcp advanceby 500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561-0B01-46CE-BE2F-151982D99A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rther Abstra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838080" y="4041360"/>
            <a:ext cx="777240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move all intermediate nodes and link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 not model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queue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elive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1199" name=""/>
          <p:cNvGraphicFramePr/>
          <p:nvPr/>
        </p:nvGraphicFramePr>
        <p:xfrm>
          <a:off x="2254320" y="1690560"/>
          <a:ext cx="4829040" cy="2159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4320" y="1690560"/>
                    <a:ext cx="48290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891-0620-4EC0-BE25-1D59F750D71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5675400" y="3300480"/>
            <a:ext cx="2246400" cy="1466640"/>
          </a:xfrm>
          <a:prstGeom prst="rect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153120" y="3651120"/>
            <a:ext cx="1371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plicatio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la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T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02560" y="3129120"/>
            <a:ext cx="0" cy="2743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6113160" y="4540320"/>
            <a:ext cx="592200" cy="31572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867360" y="4540320"/>
            <a:ext cx="541440" cy="322200"/>
          </a:xfrm>
          <a:prstGeom prst="line">
            <a:avLst/>
          </a:prstGeom>
          <a:ln w="12600">
            <a:solidFill>
              <a:srgbClr val="40458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907960" y="3336840"/>
            <a:ext cx="1838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ssion Helper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590800" y="5546880"/>
            <a:ext cx="265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13240" y="1820880"/>
            <a:ext cx="418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tailed Packet Distribu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6140000">
            <a:off x="60044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rot="16140000">
            <a:off x="60044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rot="16140000">
            <a:off x="6004440" y="39722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rot="16140000">
            <a:off x="6004440" y="37436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rot="16140000">
            <a:off x="7376040" y="44294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rot="16140000">
            <a:off x="7376040" y="4200840"/>
            <a:ext cx="88920" cy="1890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095280" y="2659680"/>
            <a:ext cx="353160" cy="31788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589120" y="2413080"/>
            <a:ext cx="392040" cy="40788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974960" y="315756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211560" y="3166920"/>
            <a:ext cx="37476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25892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597040" y="412272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rot="2743800">
            <a:off x="2503800" y="2778840"/>
            <a:ext cx="8568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rot="2733600">
            <a:off x="2324520" y="294048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rot="18798000">
            <a:off x="2991600" y="2775240"/>
            <a:ext cx="87480" cy="18756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rot="18840000">
            <a:off x="3195720" y="2949120"/>
            <a:ext cx="88920" cy="18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rot="18902400">
            <a:off x="2665080" y="3789000"/>
            <a:ext cx="85680" cy="19512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rot="18925800">
            <a:off x="2454120" y="3584160"/>
            <a:ext cx="86040" cy="19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2168280" y="2713320"/>
            <a:ext cx="309240" cy="27252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540520" y="3515760"/>
            <a:ext cx="365400" cy="375840"/>
          </a:xfrm>
          <a:prstGeom prst="line">
            <a:avLst/>
          </a:prstGeom>
          <a:ln w="1260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919680" y="4114800"/>
            <a:ext cx="392040" cy="407880"/>
          </a:xfrm>
          <a:prstGeom prst="ellipse">
            <a:avLst/>
          </a:prstGeom>
          <a:solidFill>
            <a:srgbClr val="b7c1eb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231" name=""/>
          <p:cNvCxnSpPr>
            <a:stCxn id="1219" idx="4"/>
            <a:endCxn id="1221" idx="0"/>
          </p:cNvCxnSpPr>
          <p:nvPr/>
        </p:nvCxnSpPr>
        <p:spPr>
          <a:xfrm flipH="1">
            <a:off x="2785680" y="3556080"/>
            <a:ext cx="613440" cy="5673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2" name=""/>
          <p:cNvCxnSpPr>
            <a:stCxn id="1219" idx="4"/>
            <a:endCxn id="1230" idx="1"/>
          </p:cNvCxnSpPr>
          <p:nvPr/>
        </p:nvCxnSpPr>
        <p:spPr>
          <a:xfrm>
            <a:off x="3398400" y="3556080"/>
            <a:ext cx="578520" cy="619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3" name=""/>
          <p:cNvCxnSpPr>
            <a:stCxn id="1217" idx="4"/>
            <a:endCxn id="1219" idx="1"/>
          </p:cNvCxnSpPr>
          <p:nvPr/>
        </p:nvCxnSpPr>
        <p:spPr>
          <a:xfrm>
            <a:off x="2786040" y="2820960"/>
            <a:ext cx="481680" cy="40392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4" name=""/>
          <p:cNvCxnSpPr>
            <a:stCxn id="1217" idx="4"/>
            <a:endCxn id="1218" idx="7"/>
          </p:cNvCxnSpPr>
          <p:nvPr/>
        </p:nvCxnSpPr>
        <p:spPr>
          <a:xfrm flipH="1">
            <a:off x="2309040" y="2820600"/>
            <a:ext cx="477000" cy="3978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5" name=""/>
          <p:cNvCxnSpPr>
            <a:stCxn id="1218" idx="4"/>
            <a:endCxn id="1220" idx="7"/>
          </p:cNvCxnSpPr>
          <p:nvPr/>
        </p:nvCxnSpPr>
        <p:spPr>
          <a:xfrm flipH="1">
            <a:off x="1593360" y="3565440"/>
            <a:ext cx="578880" cy="61056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236" name=""/>
          <p:cNvCxnSpPr>
            <a:stCxn id="1218" idx="4"/>
            <a:endCxn id="1221" idx="0"/>
          </p:cNvCxnSpPr>
          <p:nvPr/>
        </p:nvCxnSpPr>
        <p:spPr>
          <a:xfrm>
            <a:off x="2171880" y="3565440"/>
            <a:ext cx="614880" cy="558000"/>
          </a:xfrm>
          <a:prstGeom prst="straightConnector1">
            <a:avLst/>
          </a:prstGeom>
          <a:ln w="9360">
            <a:solidFill>
              <a:srgbClr val="40458c"/>
            </a:solidFill>
            <a:miter/>
          </a:ln>
        </p:spPr>
      </p:cxnSp>
      <p:grpSp>
        <p:nvGrpSpPr>
          <p:cNvPr id="1237" name=""/>
          <p:cNvGrpSpPr/>
          <p:nvPr/>
        </p:nvGrpSpPr>
        <p:grpSpPr>
          <a:xfrm>
            <a:off x="576360" y="5170320"/>
            <a:ext cx="1506960" cy="1050840"/>
            <a:chOff x="576360" y="5170320"/>
            <a:chExt cx="1506960" cy="1050840"/>
          </a:xfrm>
        </p:grpSpPr>
        <p:sp>
          <p:nvSpPr>
            <p:cNvPr id="1238" name=""/>
            <p:cNvSpPr/>
            <p:nvPr/>
          </p:nvSpPr>
          <p:spPr>
            <a:xfrm>
              <a:off x="589320" y="5668560"/>
              <a:ext cx="247680" cy="249480"/>
            </a:xfrm>
            <a:prstGeom prst="ellipse">
              <a:avLst/>
            </a:pr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6140000">
              <a:off x="667440" y="6035760"/>
              <a:ext cx="88920" cy="1890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6360" y="5235120"/>
              <a:ext cx="271440" cy="2685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040040" y="5511600"/>
              <a:ext cx="10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receiv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055160" y="585288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dat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40400" y="517032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ahoma"/>
                </a:rPr>
                <a:t>source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5921280" y="4865760"/>
            <a:ext cx="376200" cy="39060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6000" y="4867200"/>
            <a:ext cx="374400" cy="389160"/>
          </a:xfrm>
          <a:prstGeom prst="ellipse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n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03840" y="2701800"/>
            <a:ext cx="392400" cy="40824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DD55-92F8-4469-B888-4461781D12E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essionSim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ead o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set ns [new Simulator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mit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istorted end-to-end dela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cket loss due to conges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88B-6FD1-46A2-BF7A-198947BFE73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emory Footprint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817560" y="1649520"/>
          <a:ext cx="77677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1649520"/>
                    <a:ext cx="77677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4533480" y="244944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632560" y="3681360"/>
            <a:ext cx="31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entralized Multicas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233040" y="43657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A04-FFC7-44B9-8D0B-112DBF6B643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un Time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56" name=""/>
          <p:cNvGraphicFramePr/>
          <p:nvPr/>
        </p:nvGraphicFramePr>
        <p:xfrm>
          <a:off x="723960" y="1596960"/>
          <a:ext cx="8077320" cy="485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596960"/>
                    <a:ext cx="8077320" cy="48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8" name=""/>
          <p:cNvSpPr/>
          <p:nvPr/>
        </p:nvSpPr>
        <p:spPr>
          <a:xfrm>
            <a:off x="4844880" y="23274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nse Mo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407000" y="2679840"/>
            <a:ext cx="159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entralized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550200" y="3679920"/>
            <a:ext cx="23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ssionSi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B2C-0CF7-4A67-B2D0-6B7DD17B890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Distortion of Centralized Multica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62" name=""/>
          <p:cNvGraphicFramePr/>
          <p:nvPr/>
        </p:nvGraphicFramePr>
        <p:xfrm>
          <a:off x="831960" y="1703520"/>
          <a:ext cx="7780320" cy="460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703520"/>
                    <a:ext cx="7780320" cy="46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4" name=""/>
          <p:cNvGrpSpPr/>
          <p:nvPr/>
        </p:nvGrpSpPr>
        <p:grpSpPr>
          <a:xfrm>
            <a:off x="2130480" y="2944800"/>
            <a:ext cx="4646520" cy="973080"/>
            <a:chOff x="2130480" y="2944800"/>
            <a:chExt cx="4646520" cy="973080"/>
          </a:xfrm>
        </p:grpSpPr>
        <p:sp>
          <p:nvSpPr>
            <p:cNvPr id="1265" name=""/>
            <p:cNvSpPr/>
            <p:nvPr/>
          </p:nvSpPr>
          <p:spPr>
            <a:xfrm>
              <a:off x="2130480" y="294480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168720" y="31510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19800" y="361332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4138560" y="3809880"/>
            <a:ext cx="68580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2349360" y="3797280"/>
            <a:ext cx="3916440" cy="1365120"/>
            <a:chOff x="2349360" y="3797280"/>
            <a:chExt cx="3916440" cy="1365120"/>
          </a:xfrm>
        </p:grpSpPr>
        <p:sp>
          <p:nvSpPr>
            <p:cNvPr id="1270" name=""/>
            <p:cNvSpPr/>
            <p:nvPr/>
          </p:nvSpPr>
          <p:spPr>
            <a:xfrm>
              <a:off x="2349360" y="4857840"/>
              <a:ext cx="457200" cy="30456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808600" y="3797280"/>
              <a:ext cx="457200" cy="304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4E7-42A9-419B-8A05-011D4B3570C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stortion of SessionSi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831960" y="1676520"/>
          <a:ext cx="7794360" cy="458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676520"/>
                    <a:ext cx="779436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8BF-4410-45B7-888C-A5E7A2E03AF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otno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y sim still uses too much memory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 want large detailed simulation, e.g., Web traffic patter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ne-tune your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e’ll cover it this afterno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590-3E1E-4B1F-8C2B-25D356E14A5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8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TclObject: Hierarchy and Shadow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939960" y="1801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39960" y="2998800"/>
            <a:ext cx="143964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3000" y="4195800"/>
            <a:ext cx="1548000" cy="552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/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987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OTcl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Tahoma"/>
              </a:rPr>
              <a:t>shadow 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80" idx="2"/>
            <a:endCxn id="281" idx="0"/>
          </p:cNvCxnSpPr>
          <p:nvPr/>
        </p:nvCxnSpPr>
        <p:spPr>
          <a:xfrm>
            <a:off x="1660320" y="235440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81" idx="2"/>
            <a:endCxn id="282" idx="0"/>
          </p:cNvCxnSpPr>
          <p:nvPr/>
        </p:nvCxnSpPr>
        <p:spPr>
          <a:xfrm flipH="1">
            <a:off x="1647360" y="3551400"/>
            <a:ext cx="136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2" idx="2"/>
            <a:endCxn id="283" idx="0"/>
          </p:cNvCxnSpPr>
          <p:nvPr/>
        </p:nvCxnSpPr>
        <p:spPr>
          <a:xfrm>
            <a:off x="1647720" y="4748040"/>
            <a:ext cx="1015200" cy="57888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2864160" y="4881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_o12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48360" y="5326200"/>
            <a:ext cx="2125440" cy="74124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gent/TCP C++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bjec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60280" y="4870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*tc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3" idx="3"/>
            <a:endCxn id="288" idx="1"/>
          </p:cNvCxnSpPr>
          <p:nvPr/>
        </p:nvCxnSpPr>
        <p:spPr>
          <a:xfrm>
            <a:off x="3724200" y="5697000"/>
            <a:ext cx="1424880" cy="1080"/>
          </a:xfrm>
          <a:prstGeom prst="straightConnector1">
            <a:avLst/>
          </a:prstGeom>
          <a:ln w="2844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954840" y="1779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lObjec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54840" y="2976480"/>
            <a:ext cx="1440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00840" y="4173480"/>
            <a:ext cx="1548000" cy="5526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Agen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1" idx="2"/>
            <a:endCxn id="292" idx="0"/>
          </p:cNvCxnSpPr>
          <p:nvPr/>
        </p:nvCxnSpPr>
        <p:spPr>
          <a:xfrm>
            <a:off x="7675200" y="2332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2" idx="2"/>
            <a:endCxn id="293" idx="0"/>
          </p:cNvCxnSpPr>
          <p:nvPr/>
        </p:nvCxnSpPr>
        <p:spPr>
          <a:xfrm>
            <a:off x="7675200" y="3529080"/>
            <a:ext cx="1080" cy="645120"/>
          </a:xfrm>
          <a:prstGeom prst="straightConnector1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3" idx="2"/>
            <a:endCxn id="288" idx="0"/>
          </p:cNvCxnSpPr>
          <p:nvPr/>
        </p:nvCxnSpPr>
        <p:spPr>
          <a:xfrm flipH="1">
            <a:off x="6211440" y="4725720"/>
            <a:ext cx="1464480" cy="600840"/>
          </a:xfrm>
          <a:prstGeom prst="straightConnector1">
            <a:avLst/>
          </a:prstGeom>
          <a:ln w="28440">
            <a:solidFill>
              <a:srgbClr val="40458c"/>
            </a:solidFill>
            <a:prstDash val="dash"/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2463120" y="1724040"/>
            <a:ext cx="158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Tcl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70160" y="1709640"/>
            <a:ext cx="15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++ clas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ierarch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9420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4480" y="1560600"/>
            <a:ext cx="3818160" cy="33606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3F8-814E-4CF6-A745-383CCFF51E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clObject::bind(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k C++ member variables to OTcl object variab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TcpAgent::TcpAgent() {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bind(“</a:t>
            </a:r>
            <a:r>
              <a:rPr b="1" lang="en-US" sz="1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”, &amp;wnd_);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Courier New"/>
              </a:rPr>
              <a:t>… …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ind_time(), bind_bool(), bind_bw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set tcp [new Agent/TCP]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urier New"/>
              </a:rPr>
              <a:t>$tcp set window_ 2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6CA-7139-415D-BF5F-FF03B6FBB0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itialization of Bound Variab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itialization through OTcl class varia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Agent/TCP set </a:t>
            </a:r>
            <a:r>
              <a:rPr b="1" lang="en-US" sz="2800" spc="-1" strike="noStrike">
                <a:solidFill>
                  <a:srgbClr val="40458c"/>
                </a:solidFill>
                <a:latin typeface="Courier New"/>
              </a:rPr>
              <a:t>window_</a:t>
            </a:r>
            <a:r>
              <a:rPr b="0" lang="en-US" sz="2800" spc="-1" strike="noStrike">
                <a:solidFill>
                  <a:srgbClr val="40458c"/>
                </a:solidFill>
                <a:latin typeface="Courier New"/>
              </a:rPr>
              <a:t> 5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 all initialization of bound variables in ~ns/lib/ns-default.tc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herwise a warning will be issued when the shadow object is crea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4F3-3EA5-4211-B7F1-93A4F01177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0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lementation of Bound Variabl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ass InstV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object per bound variable –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expensive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stVarInt, InstVarReal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reated by TclObject::bind(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eate instance variable in OTcl sta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nable trap read/write to OTcl variable using </a:t>
            </a:r>
            <a:r>
              <a:rPr b="0" lang="en-US" sz="2400" spc="-1" strike="noStrike">
                <a:solidFill>
                  <a:srgbClr val="40458c"/>
                </a:solidFill>
                <a:latin typeface="Courier New"/>
              </a:rPr>
              <a:t>Tcl_TraceVar(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nect to C++ variable in the tra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79E-820B-466F-B137-E583AF7B02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9T06:01:53Z</dcterms:modified>
  <cp:revision>670</cp:revision>
  <dc:subject/>
  <dc:title>ns-2 tutorial for IEC'00 workshop</dc:title>
</cp:coreProperties>
</file>