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796-3BDE-44BD-B491-C77A93F2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BAC-B3C3-4871-917F-D180650A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E748-4A1F-4CC0-B8EA-5EF9100B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22E9-1E54-4CC4-B1CD-8F33D41B9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882D-1E81-4A8B-93BA-344D2E1B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47A5-5965-4510-9758-3A47AB17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B455-5EAF-4B32-9BF8-6A9ED3B4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50BE-2CC3-429F-BAD8-97127C35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F1BE-9A06-406F-AD19-C85CF487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2F1F-8318-431F-A522-960CCB6A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B61F-3373-4896-81D4-E89C802E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58A-BDC5-4CB3-8C56-23485535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37AD-0302-45BC-9918-85278012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EB9D-15E5-43F9-B305-15BAB9CF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6D8D-8904-4F9B-B41C-42D85582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E901-5260-4F83-AD54-F4E7CE36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4400-3686-4956-98FF-B5701D27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D35-BF76-4272-8A03-19E16246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477-DC03-4AD6-BBBA-EED0C37C2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1F6-3B81-433A-BAD7-E9F8299A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A9DE-1187-418B-A6F0-C5BBFCDA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D7B6-CCED-4448-AA25-18B462F9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238-A731-483D-BE21-64FFFBE4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32AC-A3DD-418D-9BBC-0B59A121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35FD-343B-4691-9B67-99695E0CFCE1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E5F0-9B6D-4CB1-ABDE-1EE7E8B310E1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8B89-D1B2-40ED-AE32-53832602BA0F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846EE-F136-4E0F-B266-21E06BCF0A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.exe &quot;C:/research/slides/vint/mcast-noc.nam&quot;" TargetMode="Externa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c:\research\vint\nam-1.0a9\nam.exe &quot;c:/research/vint/nam-1.0a9/ex/srm-example.nam&quot;" TargetMode="External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.exe &quot;C:/research/slides/vint/mcast-color.nam&quot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: Fundament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389E-57DB-4551-BFDD-22C765C6C4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llo World - Batch M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simple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1 “puts \“Hello World!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1.5 “exit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wallow 74% </a:t>
            </a: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ns simple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Hello World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wallow 75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F39-7CFA-4933-B218-0AA3A03EF1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 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b 2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test { a b 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c [expr $a + $b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d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a - $b] * $c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 0} {$k &lt; 10} {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c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$k &lt; 5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k &lt; 5, pow =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pow($d, $k)]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k &gt;= 5, mod =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exp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d % $k]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est 43 27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FF4-7B97-424F-9A89-147A14EC10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asic O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4191120" cy="45162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Mom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$age_ years old mom: How are you doing?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 -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uperclas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Kid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proc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greet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l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inst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puts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“$age_ years old kid: What’s up, dude?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29200" y="1676520"/>
            <a:ext cx="3581280" cy="4518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Mom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mom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 4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 [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Kid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kid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se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age_ 1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mom gre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kid gre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F56C-A143-4859-B809-76E3DF94B7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ements of ns-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he event schedu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Turn on tracing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up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ert erro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ransport conn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mit application-level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CE87-01CE-4039-BAFB-C30F10E790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Event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even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s [new Simulato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 ev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 &lt;time&gt; &lt;event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event&gt;: any legitimate ns/tcl comma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r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r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86E-99BC-4047-81CA-9E5B2A06B7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ce packets on all lin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trace-all [open test.out 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&lt;event&gt; &lt;time&gt; &lt;from&gt; &lt;to&gt; &lt;pkt&gt; &lt;size&gt; -- &lt;fid&gt; &lt;src&gt; &lt;dst&gt; &lt;seq&gt; &lt;attr&gt;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+ 1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- 1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Courier New"/>
              </a:rPr>
              <a:t>r 1.00234 0 2 cbr 210 ------- 0 0.0 3.1 0 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ce packets on all links in nam-1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namtrace-all [open test.nam 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Must appear immediately after creating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422-50AF-4225-99F0-2BF2905935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c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urn on tracing on specific lin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trace-queu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namtrace-queu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798-B29F-440A-9539-19C08A0CF1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twor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0 [$ns node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1 [$ns node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s and queu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duplex-link $n0 $n1 &lt;bandwidth&gt; &lt;delay&gt; &lt;queue_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queue_type&gt;: DropTail, RED, CBQ, FQ, SFQ, DR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7FB-E558-4946-A96F-7167F4883B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Network: LA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ake-lan &lt;node_list&gt; &lt;bandwidth&gt; &lt;delay&gt; &lt;ll_type&gt; &lt;ifq_type&gt; &lt;mac_type&gt; &lt;channel_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ll_type&gt;: 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ifq_type&gt;: Queue/DropTail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mac_type&gt;: MAC/802_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channel_type&gt;: Chann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E390-FA57-480D-A42A-7AFA21C911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serting Err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ing Error Mo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loss_module [new ErrorMode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set rate_ 0.0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unit pk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ranvar [new RandomVariable/Uniform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loss_module drop-target [new Agent/Nul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serting Error Mo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lossmodel $loss_module $n0 $n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17D-F266-4DD6-82CE-7A019E0048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Prim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tting star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847A-8F8E-4391-B125-65EB03771F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Dynam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fail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oks in routing module to reflect routing chang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 mod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Trace &lt;config_file&gt;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Exponential {&lt;params&gt;}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 Deterministic {&lt;params&gt;}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rtmodel-at &lt;time&gt; up|down $n0 $n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rameter 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[&lt;start&gt;] &lt;up_interval&gt; &lt;down_interval&gt; [&lt;finish&gt;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882-9BCC-41BA-9FF5-1446371FBB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tup Ro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i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rtproto &lt;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type&gt;: Static, Session, DV, cost, multi-pat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ulticast (right after [new Simulator]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mrtproto &lt;type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type&gt;: CtrMcast, DM, ST, B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743-42CE-44DB-8B19-C774FB8338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Connection: UD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D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udp [new Agent/UD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null [new Agent/Nul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0 $ud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1 $nu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connect $udp $nu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85B4-9460-4B56-AC7B-38EC42A0A4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reating Traffic: On Top of UD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B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CB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onential or Pareto on-off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Exponential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src [new Application/Traffic/Pareto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86A-C330-4FC4-9D84-EB354BB8A4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Connection: TC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cpsink [new Agent/TCPSink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0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attach-agent $n1 $tcp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ns connect $tcp $tcp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5AD-E517-407A-9E02-6AA348EB0E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reating Traffic: On Top of TCP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T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ftp [new Application/FT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ftp attach-agent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ln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t telnet [new Application/Telnet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$telnet attach-agent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E43-9462-483B-9264-FBBCCB5BB4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ating Traffic: Trace Drive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ce driv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 tfile [new Tracefil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tfile filename &lt;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t src [new Application/Traffic/Trac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src attach-tracefile $tfi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&lt;file&gt;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nary format (</a:t>
            </a:r>
            <a:r>
              <a:rPr b="0" lang="en-US" sz="2400" spc="-1" strike="noStrike">
                <a:solidFill>
                  <a:srgbClr val="ff5050"/>
                </a:solidFill>
                <a:latin typeface="Tahoma"/>
              </a:rPr>
              <a:t>native!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-packet time (msec) and packet size (byt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B30-9B99-4DA2-B02F-5BABDD0367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-Level Simu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ea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on top of existing transport protoc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mit user data, e.g., HTTP head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wo different solu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P: Application/TcpAp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DP: Agent/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9E0-C0AF-438D-8E26-43231F4AD3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19000" y="3949200"/>
            <a:ext cx="60199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: TCP as a FIFO pip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fore sending: S notifies about R data siz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fter receiving: R gets data (arbitrary string) from 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3432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21524400">
            <a:off x="320040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21524400">
            <a:off x="495288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21524400">
            <a:off x="640080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917040" y="4254480"/>
            <a:ext cx="1690560" cy="1557000"/>
            <a:chOff x="6917040" y="4254480"/>
            <a:chExt cx="1690560" cy="1557000"/>
          </a:xfrm>
        </p:grpSpPr>
        <p:sp>
          <p:nvSpPr>
            <p:cNvPr id="339" name=""/>
            <p:cNvSpPr/>
            <p:nvPr/>
          </p:nvSpPr>
          <p:spPr>
            <a:xfrm>
              <a:off x="6917040" y="4254480"/>
              <a:ext cx="766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40458c"/>
                  </a:solidFill>
                  <a:latin typeface="Times New Roman"/>
                </a:rPr>
                <a:t>}</a:t>
              </a:r>
              <a:endParaRPr b="0" lang="en-US" sz="9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448760" y="4788000"/>
              <a:ext cx="115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imes New Roman"/>
                </a:rPr>
                <a:t>Out-of-ban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295280" y="3048120"/>
            <a:ext cx="6827760" cy="557640"/>
            <a:chOff x="1295280" y="3048120"/>
            <a:chExt cx="6827760" cy="557640"/>
          </a:xfrm>
        </p:grpSpPr>
        <p:sp>
          <p:nvSpPr>
            <p:cNvPr id="342" name=""/>
            <p:cNvSpPr/>
            <p:nvPr/>
          </p:nvSpPr>
          <p:spPr>
            <a:xfrm>
              <a:off x="1295280" y="3048120"/>
              <a:ext cx="5639040" cy="533160"/>
            </a:xfrm>
            <a:custGeom>
              <a:avLst/>
              <a:gdLst/>
              <a:ahLst/>
              <a:rect l="l" t="t" r="r" b="b"/>
              <a:pathLst>
                <a:path w="3552" h="336">
                  <a:moveTo>
                    <a:pt x="0" y="0"/>
                  </a:moveTo>
                  <a:cubicBezTo>
                    <a:pt x="176" y="120"/>
                    <a:pt x="352" y="240"/>
                    <a:pt x="768" y="288"/>
                  </a:cubicBezTo>
                  <a:cubicBezTo>
                    <a:pt x="1184" y="336"/>
                    <a:pt x="2032" y="336"/>
                    <a:pt x="2496" y="288"/>
                  </a:cubicBezTo>
                  <a:cubicBezTo>
                    <a:pt x="2960" y="240"/>
                    <a:pt x="3256" y="120"/>
                    <a:pt x="3552" y="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prstDash val="dash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98480" y="3206880"/>
              <a:ext cx="192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Expect </a:t>
              </a:r>
              <a:r>
                <a:rPr b="0" i="1" lang="en-US" sz="2000" spc="-1" strike="noStrike">
                  <a:solidFill>
                    <a:srgbClr val="660066"/>
                  </a:solidFill>
                  <a:latin typeface="Tahoma"/>
                </a:rPr>
                <a:t>N</a:t>
              </a: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 byt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371240" y="1897200"/>
            <a:ext cx="7893360" cy="617400"/>
            <a:chOff x="1371240" y="1897200"/>
            <a:chExt cx="7893360" cy="617400"/>
          </a:xfrm>
        </p:grpSpPr>
        <p:sp>
          <p:nvSpPr>
            <p:cNvPr id="345" name=""/>
            <p:cNvSpPr/>
            <p:nvPr/>
          </p:nvSpPr>
          <p:spPr>
            <a:xfrm rot="10800000">
              <a:off x="1371240" y="1980720"/>
              <a:ext cx="5638680" cy="533520"/>
            </a:xfrm>
            <a:custGeom>
              <a:avLst/>
              <a:gdLst/>
              <a:ahLst/>
              <a:rect l="l" t="t" r="r" b="b"/>
              <a:pathLst>
                <a:path w="3552" h="336">
                  <a:moveTo>
                    <a:pt x="0" y="0"/>
                  </a:moveTo>
                  <a:cubicBezTo>
                    <a:pt x="176" y="120"/>
                    <a:pt x="352" y="240"/>
                    <a:pt x="768" y="288"/>
                  </a:cubicBezTo>
                  <a:cubicBezTo>
                    <a:pt x="1184" y="336"/>
                    <a:pt x="2032" y="336"/>
                    <a:pt x="2496" y="288"/>
                  </a:cubicBezTo>
                  <a:cubicBezTo>
                    <a:pt x="2960" y="240"/>
                    <a:pt x="3256" y="120"/>
                    <a:pt x="3552" y="0"/>
                  </a:cubicBezTo>
                </a:path>
              </a:pathLst>
            </a:custGeom>
            <a:noFill/>
            <a:ln w="12600">
              <a:solidFill>
                <a:srgbClr val="660066"/>
              </a:solidFill>
              <a:prstDash val="dash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64360" y="1897200"/>
              <a:ext cx="300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Get first </a:t>
              </a:r>
              <a:r>
                <a:rPr b="0" i="1" lang="en-US" sz="2000" spc="-1" strike="noStrike">
                  <a:solidFill>
                    <a:srgbClr val="660066"/>
                  </a:solidFill>
                  <a:latin typeface="Tahoma"/>
                </a:rPr>
                <a:t>N</a:t>
              </a:r>
              <a:r>
                <a:rPr b="0" lang="en-US" sz="2000" spc="-1" strike="noStrike">
                  <a:solidFill>
                    <a:srgbClr val="660066"/>
                  </a:solidFill>
                  <a:latin typeface="Tahoma"/>
                </a:rPr>
                <a:t> bytes of data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440000" y="2119320"/>
            <a:ext cx="1601640" cy="703800"/>
            <a:chOff x="1440000" y="2119320"/>
            <a:chExt cx="1601640" cy="703800"/>
          </a:xfrm>
        </p:grpSpPr>
        <p:sp>
          <p:nvSpPr>
            <p:cNvPr id="348" name=""/>
            <p:cNvSpPr/>
            <p:nvPr/>
          </p:nvSpPr>
          <p:spPr>
            <a:xfrm rot="21524400">
              <a:off x="1600200" y="2590920"/>
              <a:ext cx="219240" cy="11412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0"/>
                  </a:moveTo>
                  <a:lnTo>
                    <a:pt x="113" y="2"/>
                  </a:lnTo>
                  <a:lnTo>
                    <a:pt x="154" y="39"/>
                  </a:lnTo>
                  <a:lnTo>
                    <a:pt x="113" y="79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440000" y="2119320"/>
              <a:ext cx="160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pkt (empty)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705280" y="2895480"/>
            <a:ext cx="581400" cy="467280"/>
            <a:chOff x="5705280" y="2895480"/>
            <a:chExt cx="581400" cy="467280"/>
          </a:xfrm>
        </p:grpSpPr>
        <p:sp>
          <p:nvSpPr>
            <p:cNvPr id="351" name=""/>
            <p:cNvSpPr/>
            <p:nvPr/>
          </p:nvSpPr>
          <p:spPr>
            <a:xfrm rot="10800000">
              <a:off x="5866920" y="2895480"/>
              <a:ext cx="219240" cy="114480"/>
            </a:xfrm>
            <a:custGeom>
              <a:avLst/>
              <a:gdLst/>
              <a:ahLst/>
              <a:rect l="l" t="t" r="r" b="b"/>
              <a:pathLst>
                <a:path w="154" h="79">
                  <a:moveTo>
                    <a:pt x="0" y="0"/>
                  </a:moveTo>
                  <a:lnTo>
                    <a:pt x="113" y="2"/>
                  </a:lnTo>
                  <a:lnTo>
                    <a:pt x="154" y="39"/>
                  </a:lnTo>
                  <a:lnTo>
                    <a:pt x="113" y="79"/>
                  </a:lnTo>
                  <a:lnTo>
                    <a:pt x="0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f7"/>
            </a:solidFill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05280" y="29638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ack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 rot="10800000">
            <a:off x="4419720" y="2895480"/>
            <a:ext cx="21888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10800000">
            <a:off x="2971440" y="2895480"/>
            <a:ext cx="21924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10800000">
            <a:off x="1676520" y="2895480"/>
            <a:ext cx="218880" cy="11448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6f89f7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28FA-F5EE-4C54-9BE6-8FA6833963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ep 1: FullTcp conn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1 [new Agent/TCP/Full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2 [new Agent/TCP/Full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attach-agent $n1 $tcp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attach-agent $n2 $tcp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connect $tcp1 $tcp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2 liste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3DC-5806-4842-8974-1E4B400E3A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chitec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ic Tcl,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ements of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A complete 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524-1A2C-4037-AAC9-E6A71CD3A0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/TcpAp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ep 2: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reliable, in-orde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user data transf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pp1 [new Application/TcpApp $tcp1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app2 [new Application/TcpApp $tcp2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app1 connect $app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&lt;ns-2 command&gt;: will be executed when received at the receiver TcpAp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t 1.0 “$app1 send &lt;data_byte&gt; \”&lt;ns-2 command&gt;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CCF-6648-45B6-9A9E-EF24FBD8E0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t/Mess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3732120"/>
            <a:ext cx="7772400" cy="25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UDP agent (without UDP header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p to 64 bytes user mes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ood for fast prototyping a simple ide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 requires extending ns functional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’ll give an example tomorrow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777960" y="2590920"/>
            <a:ext cx="53316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73840" y="2590920"/>
            <a:ext cx="533520" cy="4572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11120" y="2819520"/>
            <a:ext cx="556272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21524400">
            <a:off x="31399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21524400">
            <a:off x="4892760" y="2590920"/>
            <a:ext cx="21888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21524400">
            <a:off x="63403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1524400">
            <a:off x="1539720" y="2590920"/>
            <a:ext cx="219240" cy="114120"/>
          </a:xfrm>
          <a:custGeom>
            <a:avLst/>
            <a:gdLst/>
            <a:ahLst/>
            <a:rect l="l" t="t" r="r" b="b"/>
            <a:pathLst>
              <a:path w="154" h="79">
                <a:moveTo>
                  <a:pt x="0" y="0"/>
                </a:moveTo>
                <a:lnTo>
                  <a:pt x="113" y="2"/>
                </a:lnTo>
                <a:lnTo>
                  <a:pt x="154" y="39"/>
                </a:lnTo>
                <a:lnTo>
                  <a:pt x="113" y="79"/>
                </a:lnTo>
                <a:lnTo>
                  <a:pt x="0" y="79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405080" y="1568520"/>
            <a:ext cx="186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kt: 64 byt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f arbitrary string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21640" y="1770120"/>
            <a:ext cx="186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ceiver-si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ss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462-A742-4A71-96A2-8281AA56FC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mmary: Generic Script Structur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[Turn on tracing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topolog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etup packet loss, link dynamic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routing ag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multicast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protocol agent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  - application and/or setup traffic sourc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Post-processing proc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tart simulat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166-96C6-4213-B563-9377005F38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omplete 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B4F-0046-4EFF-B093-B3D9739FFD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996120" y="3378240"/>
            <a:ext cx="2090520" cy="825480"/>
            <a:chOff x="996120" y="3378240"/>
            <a:chExt cx="2090520" cy="825480"/>
          </a:xfrm>
        </p:grpSpPr>
        <p:sp>
          <p:nvSpPr>
            <p:cNvPr id="376" name=""/>
            <p:cNvSpPr/>
            <p:nvPr/>
          </p:nvSpPr>
          <p:spPr>
            <a:xfrm flipH="1">
              <a:off x="1834560" y="3535200"/>
              <a:ext cx="538200" cy="5382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G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6" idx="2"/>
              <a:endCxn id="378" idx="6"/>
            </p:cNvCxnSpPr>
            <p:nvPr/>
          </p:nvCxnSpPr>
          <p:spPr>
            <a:xfrm>
              <a:off x="2374920" y="3803760"/>
              <a:ext cx="71208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379" name=""/>
            <p:cNvSpPr/>
            <p:nvPr/>
          </p:nvSpPr>
          <p:spPr>
            <a:xfrm>
              <a:off x="996120" y="3378240"/>
              <a:ext cx="82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3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994680" y="3378240"/>
            <a:ext cx="2089080" cy="825480"/>
            <a:chOff x="994680" y="3378240"/>
            <a:chExt cx="2089080" cy="825480"/>
          </a:xfrm>
        </p:grpSpPr>
        <p:grpSp>
          <p:nvGrpSpPr>
            <p:cNvPr id="381" name=""/>
            <p:cNvGrpSpPr/>
            <p:nvPr/>
          </p:nvGrpSpPr>
          <p:grpSpPr>
            <a:xfrm>
              <a:off x="1833480" y="3535200"/>
              <a:ext cx="1250280" cy="538200"/>
              <a:chOff x="1833480" y="3535200"/>
              <a:chExt cx="1250280" cy="538200"/>
            </a:xfrm>
          </p:grpSpPr>
          <p:sp>
            <p:nvSpPr>
              <p:cNvPr id="382" name=""/>
              <p:cNvSpPr/>
              <p:nvPr/>
            </p:nvSpPr>
            <p:spPr>
              <a:xfrm flipH="1">
                <a:off x="1833480" y="3535200"/>
                <a:ext cx="537840" cy="5382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G2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83" name=""/>
              <p:cNvCxnSpPr>
                <a:stCxn id="382" idx="2"/>
                <a:endCxn id="384" idx="6"/>
              </p:cNvCxnSpPr>
              <p:nvPr/>
            </p:nvCxnSpPr>
            <p:spPr>
              <a:xfrm>
                <a:off x="2372400" y="3803400"/>
                <a:ext cx="711720" cy="108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  <p:sp>
          <p:nvSpPr>
            <p:cNvPr id="385" name=""/>
            <p:cNvSpPr/>
            <p:nvPr/>
          </p:nvSpPr>
          <p:spPr>
            <a:xfrm>
              <a:off x="994680" y="3378240"/>
              <a:ext cx="826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2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005480" y="3382920"/>
            <a:ext cx="2070720" cy="825480"/>
            <a:chOff x="1005480" y="3382920"/>
            <a:chExt cx="2070720" cy="825480"/>
          </a:xfrm>
        </p:grpSpPr>
        <p:sp>
          <p:nvSpPr>
            <p:cNvPr id="387" name=""/>
            <p:cNvSpPr/>
            <p:nvPr/>
          </p:nvSpPr>
          <p:spPr>
            <a:xfrm flipH="1">
              <a:off x="1825560" y="3539880"/>
              <a:ext cx="537840" cy="5382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G1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G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2"/>
            </p:cNvCxnSpPr>
            <p:nvPr/>
          </p:nvCxnSpPr>
          <p:spPr>
            <a:xfrm>
              <a:off x="2364840" y="3808440"/>
              <a:ext cx="711720" cy="2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389" name=""/>
            <p:cNvSpPr/>
            <p:nvPr/>
          </p:nvSpPr>
          <p:spPr>
            <a:xfrm>
              <a:off x="1005480" y="3382920"/>
              <a:ext cx="930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1.35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ample: Multicast Rou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ynamic group membership under Dense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339440" y="4356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130080" y="43578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083760" y="35352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083760" y="52722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stCxn id="392" idx="2"/>
            <a:endCxn id="393" idx="6"/>
          </p:cNvCxnSpPr>
          <p:nvPr/>
        </p:nvCxnSpPr>
        <p:spPr>
          <a:xfrm>
            <a:off x="4879800" y="4624560"/>
            <a:ext cx="125352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5" name=""/>
          <p:cNvCxnSpPr>
            <a:stCxn id="392" idx="6"/>
            <a:endCxn id="384" idx="3"/>
          </p:cNvCxnSpPr>
          <p:nvPr/>
        </p:nvCxnSpPr>
        <p:spPr>
          <a:xfrm flipH="1" flipV="1">
            <a:off x="3544560" y="3993480"/>
            <a:ext cx="797760" cy="6310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96" name=""/>
          <p:cNvCxnSpPr>
            <a:stCxn id="392" idx="6"/>
            <a:endCxn id="378" idx="1"/>
          </p:cNvCxnSpPr>
          <p:nvPr/>
        </p:nvCxnSpPr>
        <p:spPr>
          <a:xfrm flipH="1">
            <a:off x="3544560" y="4624200"/>
            <a:ext cx="797760" cy="726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97" name=""/>
          <p:cNvSpPr/>
          <p:nvPr/>
        </p:nvSpPr>
        <p:spPr>
          <a:xfrm flipH="1">
            <a:off x="4803120" y="424008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728160" y="499896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325640" y="4357800"/>
            <a:ext cx="538200" cy="538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9" idx="6"/>
            <a:endCxn id="393" idx="2"/>
          </p:cNvCxnSpPr>
          <p:nvPr/>
        </p:nvCxnSpPr>
        <p:spPr>
          <a:xfrm flipH="1">
            <a:off x="6670080" y="4625640"/>
            <a:ext cx="65772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01" name=""/>
          <p:cNvSpPr/>
          <p:nvPr/>
        </p:nvSpPr>
        <p:spPr>
          <a:xfrm>
            <a:off x="1056600" y="4251240"/>
            <a:ext cx="9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m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25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1828080" y="5270400"/>
            <a:ext cx="538200" cy="538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2"/>
            <a:endCxn id="378" idx="6"/>
          </p:cNvCxnSpPr>
          <p:nvPr/>
        </p:nvCxnSpPr>
        <p:spPr>
          <a:xfrm>
            <a:off x="2368440" y="5538960"/>
            <a:ext cx="71856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 flipH="1">
            <a:off x="3701160" y="3933720"/>
            <a:ext cx="14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.5Mb, 1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F27-00EA-4BC1-9AEA-457878ECDF9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heduler, tracing, and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schedul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multica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multica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Turn on Trac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d [new “mcast.nam”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0DA-FD75-45E5-8508-E5C8CA04FDA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reate nod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0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1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2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n3 [$ns node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reate link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1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2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duplex-link $n0 $n3 1.5Mb 10ms DropTai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6C6D-DE8A-47BE-9C14-5B4B7524352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 and group se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Routing protocol: let’s run distance vec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mrtproto D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llocate group address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group1 [Node allocadd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group2 [Node allocadd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F7AB-9343-4E03-A6F5-0148F7E83B7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der 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Transport agent for the traffic sour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gent/UDP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n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addr_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grou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port_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onstant Bit Rate source #0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pplication/Traffic/CBR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Start at time 1.0 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0 "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tar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0D0-B5C6-4067-9611-F668E5F6C6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nder 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Transport agent for the traffic sour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gent/UDP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n3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addr_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group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et dst_port_ 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Constant Bit Rate source #0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[new Application/Traffic/CBR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attach-agent 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udp1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Start at time 1.1 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1 "$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cbr1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start"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C21-CBF1-4559-92E1-75D8D039936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Archite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bject-oriented (C++, OTc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ility + Exte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trol/”data” separ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lit C++/OTcl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dular approac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e-grained object compos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E6D2-22A6-4C57-A668-176B19177E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eiver with dynamic membersh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an also be Agent/Nul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rcvr [new Agent/LossMoni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ssign it to node $n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25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leave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3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2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1.35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"$n2 join-group $rcvr $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group1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75D-F88C-4E47-8B5B-D4D8E2B5409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d-of-simulation wrapper (as usual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2.0 "finish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oc finish {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global ns 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ose $f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flush-tr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uts "running nam...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exec nam out.nam &amp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exit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">
            <a:hlinkClick r:id="rId2"/>
          </p:cNvPr>
          <p:cNvSpPr/>
          <p:nvPr/>
        </p:nvSpPr>
        <p:spPr>
          <a:xfrm>
            <a:off x="8169120" y="5881680"/>
            <a:ext cx="741600" cy="469800"/>
          </a:xfrm>
          <a:custGeom>
            <a:avLst/>
            <a:gdLst>
              <a:gd name="textAreaLeft" fmla="*/ 30240 w 741600"/>
              <a:gd name="textAreaRight" fmla="*/ 711360 w 74160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34087" h="21600">
                <a:moveTo>
                  <a:pt x="0" y="0"/>
                </a:moveTo>
                <a:lnTo>
                  <a:pt x="34087" y="0"/>
                </a:lnTo>
                <a:lnTo>
                  <a:pt x="34087" y="21600"/>
                </a:lnTo>
                <a:lnTo>
                  <a:pt x="0" y="21600"/>
                </a:lnTo>
                <a:close/>
              </a:path>
              <a:path fill="lightenLess" w="34087" h="21600">
                <a:moveTo>
                  <a:pt x="0" y="0"/>
                </a:moveTo>
                <a:lnTo>
                  <a:pt x="34087" y="0"/>
                </a:lnTo>
                <a:lnTo>
                  <a:pt x="32687" y="1400"/>
                </a:lnTo>
                <a:lnTo>
                  <a:pt x="1400" y="1400"/>
                </a:lnTo>
                <a:close/>
              </a:path>
              <a:path fill="darken" w="34087" h="21600">
                <a:moveTo>
                  <a:pt x="34087" y="0"/>
                </a:moveTo>
                <a:lnTo>
                  <a:pt x="34087" y="21600"/>
                </a:lnTo>
                <a:lnTo>
                  <a:pt x="32687" y="20200"/>
                </a:lnTo>
                <a:lnTo>
                  <a:pt x="32687" y="1400"/>
                </a:lnTo>
                <a:close/>
              </a:path>
              <a:path fill="darkenLess" w="34087" h="21600">
                <a:moveTo>
                  <a:pt x="340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87" y="20200"/>
                </a:lnTo>
                <a:close/>
              </a:path>
              <a:path fill="lighten" w="340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87" h="21600">
                <a:moveTo>
                  <a:pt x="10037" y="7301"/>
                </a:moveTo>
                <a:lnTo>
                  <a:pt x="10951" y="7301"/>
                </a:lnTo>
                <a:lnTo>
                  <a:pt x="11334" y="7667"/>
                </a:lnTo>
                <a:lnTo>
                  <a:pt x="20542" y="7667"/>
                </a:lnTo>
                <a:lnTo>
                  <a:pt x="21099" y="8224"/>
                </a:lnTo>
                <a:lnTo>
                  <a:pt x="21099" y="8772"/>
                </a:lnTo>
                <a:lnTo>
                  <a:pt x="22945" y="8772"/>
                </a:lnTo>
                <a:lnTo>
                  <a:pt x="23310" y="8224"/>
                </a:lnTo>
                <a:lnTo>
                  <a:pt x="24050" y="8224"/>
                </a:lnTo>
                <a:lnTo>
                  <a:pt x="24050" y="13376"/>
                </a:lnTo>
                <a:lnTo>
                  <a:pt x="23310" y="13376"/>
                </a:lnTo>
                <a:lnTo>
                  <a:pt x="22945" y="12828"/>
                </a:lnTo>
                <a:lnTo>
                  <a:pt x="21099" y="12828"/>
                </a:lnTo>
                <a:lnTo>
                  <a:pt x="21099" y="14107"/>
                </a:lnTo>
                <a:lnTo>
                  <a:pt x="11517" y="14107"/>
                </a:lnTo>
                <a:lnTo>
                  <a:pt x="11517" y="9877"/>
                </a:lnTo>
                <a:lnTo>
                  <a:pt x="11334" y="9877"/>
                </a:lnTo>
                <a:lnTo>
                  <a:pt x="10951" y="10243"/>
                </a:lnTo>
                <a:lnTo>
                  <a:pt x="10037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CB8-A261-4FE2-99C9-BFC8372FF7C2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her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vailable in the Lab this afterno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traffic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lticast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eue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F6F-A336-475F-A2E9-7C3B7238725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d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Basic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Two exam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TCP, multicast rou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690A-9B49-4C72-8E67-67216AEBACD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Visualization Too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nam-1 (Network AniMator Version 1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Packet-level anim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Well supported by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58c"/>
                </a:solidFill>
                <a:latin typeface="Tahoma"/>
              </a:rPr>
              <a:t>xgrap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0458c"/>
                </a:solidFill>
                <a:latin typeface="Tahoma"/>
              </a:rPr>
              <a:t>Conversion from ns trace to xgraph form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574-5B11-4443-A169-ED4D29BEF4D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pology layou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imation contr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ynchronous repl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e-tune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P/SRM 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ditor: generate ns simulation scrip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8" name="">
            <a:hlinkClick r:id="rId5"/>
          </p:cNvPr>
          <p:cNvSpPr/>
          <p:nvPr/>
        </p:nvSpPr>
        <p:spPr>
          <a:xfrm>
            <a:off x="7942320" y="5676840"/>
            <a:ext cx="765000" cy="451080"/>
          </a:xfrm>
          <a:custGeom>
            <a:avLst/>
            <a:gdLst>
              <a:gd name="textAreaLeft" fmla="*/ 29160 w 765000"/>
              <a:gd name="textAreaRight" fmla="*/ 735840 w 765000"/>
              <a:gd name="textAreaTop" fmla="*/ 29160 h 451080"/>
              <a:gd name="textAreaBottom" fmla="*/ 421920 h 451080"/>
            </a:gdLst>
            <a:ahLst/>
            <a:rect l="textAreaLeft" t="textAreaTop" r="textAreaRight" b="textAreaBottom"/>
            <a:pathLst>
              <a:path w="36620" h="21600">
                <a:moveTo>
                  <a:pt x="0" y="0"/>
                </a:moveTo>
                <a:lnTo>
                  <a:pt x="36620" y="0"/>
                </a:lnTo>
                <a:lnTo>
                  <a:pt x="36620" y="21600"/>
                </a:lnTo>
                <a:lnTo>
                  <a:pt x="0" y="21600"/>
                </a:lnTo>
                <a:close/>
              </a:path>
              <a:path fill="lightenLess" w="36620" h="21600">
                <a:moveTo>
                  <a:pt x="0" y="0"/>
                </a:moveTo>
                <a:lnTo>
                  <a:pt x="36620" y="0"/>
                </a:lnTo>
                <a:lnTo>
                  <a:pt x="35220" y="1400"/>
                </a:lnTo>
                <a:lnTo>
                  <a:pt x="1400" y="1400"/>
                </a:lnTo>
                <a:close/>
              </a:path>
              <a:path fill="darken" w="36620" h="21600">
                <a:moveTo>
                  <a:pt x="36620" y="0"/>
                </a:moveTo>
                <a:lnTo>
                  <a:pt x="36620" y="21600"/>
                </a:lnTo>
                <a:lnTo>
                  <a:pt x="35220" y="20200"/>
                </a:lnTo>
                <a:lnTo>
                  <a:pt x="35220" y="1400"/>
                </a:lnTo>
                <a:close/>
              </a:path>
              <a:path fill="darkenLess" w="36620" h="21600">
                <a:moveTo>
                  <a:pt x="36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20" y="20200"/>
                </a:lnTo>
                <a:close/>
              </a:path>
              <a:path fill="lighten" w="36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20" h="21600">
                <a:moveTo>
                  <a:pt x="11304" y="7301"/>
                </a:moveTo>
                <a:lnTo>
                  <a:pt x="12217" y="7301"/>
                </a:lnTo>
                <a:lnTo>
                  <a:pt x="12600" y="7667"/>
                </a:lnTo>
                <a:lnTo>
                  <a:pt x="21809" y="7667"/>
                </a:lnTo>
                <a:lnTo>
                  <a:pt x="22366" y="8224"/>
                </a:lnTo>
                <a:lnTo>
                  <a:pt x="22366" y="8772"/>
                </a:lnTo>
                <a:lnTo>
                  <a:pt x="24211" y="8772"/>
                </a:lnTo>
                <a:lnTo>
                  <a:pt x="24577" y="8224"/>
                </a:lnTo>
                <a:lnTo>
                  <a:pt x="25317" y="8224"/>
                </a:lnTo>
                <a:lnTo>
                  <a:pt x="25317" y="13376"/>
                </a:lnTo>
                <a:lnTo>
                  <a:pt x="24577" y="13376"/>
                </a:lnTo>
                <a:lnTo>
                  <a:pt x="24211" y="12828"/>
                </a:lnTo>
                <a:lnTo>
                  <a:pt x="22366" y="12828"/>
                </a:lnTo>
                <a:lnTo>
                  <a:pt x="22366" y="14107"/>
                </a:lnTo>
                <a:lnTo>
                  <a:pt x="12783" y="14107"/>
                </a:lnTo>
                <a:lnTo>
                  <a:pt x="12783" y="9877"/>
                </a:lnTo>
                <a:lnTo>
                  <a:pt x="12600" y="9877"/>
                </a:lnTo>
                <a:lnTo>
                  <a:pt x="12217" y="10243"/>
                </a:lnTo>
                <a:lnTo>
                  <a:pt x="11304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080-FA3A-4244-B02E-003DCF06D02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</a:t>
            </a:r>
            <a:r>
              <a:rPr b="0" lang="en-US" sz="4400" spc="-1" strike="noStrike">
                <a:solidFill>
                  <a:srgbClr val="660066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manip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manipu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ocol st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sc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54D-71EB-475A-BB1A-47DEB071F4B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Co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 mapp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0 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1 bl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42 chocola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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flow id associ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0 set fid_ 40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;# red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1 set fid_ 41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;# blue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246-FBC0-4E4A-AC7C-AFACD0470FC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N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ode color r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hape (can’t be changed after sim start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ode shape box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;# circle, box, hexag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rks (concentric “shapes”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0 “$n0 add-mark m0 blue box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2.0 “$n0 delete-mark m0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el (single string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$ns at 1.1 “$n0 label \”web cache 0\””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FF1-C52A-4CD7-B6C4-8ADBA656F1B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s: Lin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color "green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label "abc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ynamics (automatically handled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tmodel Deterministic {2.0 0.9 0.1} $n0 $n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symmetric links not allow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16C-3588-4069-97BF-43B55D9C87B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-Orient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usa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formance (speed and memory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reful planning of modular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DDE-B2B8-4593-85B1-5064E34B77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Topo 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Manual” layout: specify everything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0) $n(1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1) $n(2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2) $n(3)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(3) $n(4) orient 60de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f anything missing </a:t>
            </a:r>
            <a:r>
              <a:rPr b="0" lang="en-US" sz="3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 automatic layou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D2E-7829-486E-AFCA-421FA54B591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Protocol Stat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nitor values of agent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add-agent-trace $srm0 srm_agent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monitor-agent-trace $srm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srm0 tracevar C1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srm0 tracevar C2_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… 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delete-agent-trace $tcp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481-42B0-4981-983E-C014B48D930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Interface: Mis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4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no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 textual explaination to your si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3.5 "$ns trace-annotate \“packet drop\"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t animation ra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0.0 "$ns set-animation-rate 0.1ms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8E2-2A4A-4B28-9174-9A254CBD295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Multicast Example: nam-Enhance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col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lab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no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ual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Queue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331-8397-4686-8FD1-4CADD096881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1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0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nam col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Colors for packets from two mcast grou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10 blu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11 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Prune packets (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predefined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30 purp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Graf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color 31 gre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207-8E6D-4B27-AD5C-3D064587416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2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yout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Manual layout: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order of the link is significan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orient righ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2 orient right-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3 orient right-dow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how queue on simplex link n0-&gt;n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duplex-link-op $n0 $n1 queuePos 0.5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3E2-BC19-4B98-BA5A-0DD54E53FE8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4.1, 5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lor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Group 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udp0 set fid_ 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1 color bl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1 label “Source for group 0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Group 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udp1 set fid_ 11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3 color r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3 label “Source for group 1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058-A931-45DF-B40D-7310CD4ADC8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6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ceiver color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label “Receiver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2 "$n2 join-group $rcvr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0 r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25 "$n2 leave-group $rcvr 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delete-mark m0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3 "$n2 join-group $rcvr \ $group2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1 red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35 "$n2 join-group $rcvr $group1; \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2 add-mark m2 blue"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8CB-7D54-479F-9B09-84778B5E9DE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ulticast: Step 7.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e final twea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Animation was too fast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 set-animation-rate 0.8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">
            <a:hlinkClick r:id="rId2"/>
          </p:cNvPr>
          <p:cNvSpPr/>
          <p:nvPr/>
        </p:nvSpPr>
        <p:spPr>
          <a:xfrm>
            <a:off x="8078760" y="5800680"/>
            <a:ext cx="831960" cy="519120"/>
          </a:xfrm>
          <a:custGeom>
            <a:avLst/>
            <a:gdLst>
              <a:gd name="textAreaLeft" fmla="*/ 33480 w 831960"/>
              <a:gd name="textAreaRight" fmla="*/ 798480 w 831960"/>
              <a:gd name="textAreaTop" fmla="*/ 33480 h 519120"/>
              <a:gd name="textAreaBottom" fmla="*/ 485640 h 519120"/>
            </a:gdLst>
            <a:ahLst/>
            <a:rect l="textAreaLeft" t="textAreaTop" r="textAreaRight" b="textAreaBottom"/>
            <a:pathLst>
              <a:path w="34608" h="21600">
                <a:moveTo>
                  <a:pt x="0" y="0"/>
                </a:moveTo>
                <a:lnTo>
                  <a:pt x="34608" y="0"/>
                </a:lnTo>
                <a:lnTo>
                  <a:pt x="34608" y="21600"/>
                </a:lnTo>
                <a:lnTo>
                  <a:pt x="0" y="21600"/>
                </a:lnTo>
                <a:close/>
              </a:path>
              <a:path fill="lightenLess" w="34608" h="21600">
                <a:moveTo>
                  <a:pt x="0" y="0"/>
                </a:moveTo>
                <a:lnTo>
                  <a:pt x="34608" y="0"/>
                </a:lnTo>
                <a:lnTo>
                  <a:pt x="33208" y="1400"/>
                </a:lnTo>
                <a:lnTo>
                  <a:pt x="1400" y="1400"/>
                </a:lnTo>
                <a:close/>
              </a:path>
              <a:path fill="darken" w="34608" h="21600">
                <a:moveTo>
                  <a:pt x="34608" y="0"/>
                </a:moveTo>
                <a:lnTo>
                  <a:pt x="34608" y="21600"/>
                </a:lnTo>
                <a:lnTo>
                  <a:pt x="33208" y="20200"/>
                </a:lnTo>
                <a:lnTo>
                  <a:pt x="33208" y="1400"/>
                </a:lnTo>
                <a:close/>
              </a:path>
              <a:path fill="darkenLess" w="34608" h="21600">
                <a:moveTo>
                  <a:pt x="34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08" y="20200"/>
                </a:lnTo>
                <a:close/>
              </a:path>
              <a:path fill="lighten" w="34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08" h="21600">
                <a:moveTo>
                  <a:pt x="10297" y="7301"/>
                </a:moveTo>
                <a:lnTo>
                  <a:pt x="11211" y="7301"/>
                </a:lnTo>
                <a:lnTo>
                  <a:pt x="11594" y="7667"/>
                </a:lnTo>
                <a:lnTo>
                  <a:pt x="20803" y="7667"/>
                </a:lnTo>
                <a:lnTo>
                  <a:pt x="21360" y="8224"/>
                </a:lnTo>
                <a:lnTo>
                  <a:pt x="21360" y="8772"/>
                </a:lnTo>
                <a:lnTo>
                  <a:pt x="23205" y="8772"/>
                </a:lnTo>
                <a:lnTo>
                  <a:pt x="23571" y="8224"/>
                </a:lnTo>
                <a:lnTo>
                  <a:pt x="24310" y="8224"/>
                </a:lnTo>
                <a:lnTo>
                  <a:pt x="24310" y="13376"/>
                </a:lnTo>
                <a:lnTo>
                  <a:pt x="23571" y="13376"/>
                </a:lnTo>
                <a:lnTo>
                  <a:pt x="23205" y="12828"/>
                </a:lnTo>
                <a:lnTo>
                  <a:pt x="21360" y="12828"/>
                </a:lnTo>
                <a:lnTo>
                  <a:pt x="21360" y="14107"/>
                </a:lnTo>
                <a:lnTo>
                  <a:pt x="11777" y="14107"/>
                </a:lnTo>
                <a:lnTo>
                  <a:pt x="11777" y="9877"/>
                </a:lnTo>
                <a:lnTo>
                  <a:pt x="11594" y="9877"/>
                </a:lnTo>
                <a:lnTo>
                  <a:pt x="11211" y="10243"/>
                </a:lnTo>
                <a:lnTo>
                  <a:pt x="10297" y="10243"/>
                </a:lnTo>
                <a:close/>
              </a:path>
            </a:pathLst>
          </a:cu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2FE-EB26-444E-A2D8-4A2A4741EE4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 and OTcl Sepa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++ for “data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 packet 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cl for contr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eriodic or triggered 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romise between composibility and spe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40458c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ing and debugg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8ACA-9BDE-46C7-B782-EEFF70A027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cl and C++: Th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3EB-472F-44C1-A7FC-A5688518D7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tending Tcl Interpret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715760"/>
            <a:ext cx="4289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: object-oriented 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CL: C++ and OTcl link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crete event schedul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ata network componen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nk layer and 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mulation sup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5159520" y="4441680"/>
            <a:ext cx="1066680" cy="685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159520" y="3908520"/>
            <a:ext cx="1523880" cy="1218960"/>
            <a:chOff x="5159520" y="3908520"/>
            <a:chExt cx="1523880" cy="1218960"/>
          </a:xfrm>
        </p:grpSpPr>
        <p:sp>
          <p:nvSpPr>
            <p:cNvPr id="279" name=""/>
            <p:cNvSpPr/>
            <p:nvPr/>
          </p:nvSpPr>
          <p:spPr>
            <a:xfrm>
              <a:off x="5159520" y="3908520"/>
              <a:ext cx="1523880" cy="12189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57120" y="3976560"/>
              <a:ext cx="81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Tc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157720" y="3375000"/>
            <a:ext cx="2447640" cy="1752480"/>
            <a:chOff x="5157720" y="3375000"/>
            <a:chExt cx="2447640" cy="1752480"/>
          </a:xfrm>
        </p:grpSpPr>
        <p:sp>
          <p:nvSpPr>
            <p:cNvPr id="282" name=""/>
            <p:cNvSpPr/>
            <p:nvPr/>
          </p:nvSpPr>
          <p:spPr>
            <a:xfrm>
              <a:off x="5157720" y="3375000"/>
              <a:ext cx="2447640" cy="17524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360" y="344340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clC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119920" y="57513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159520" y="2460600"/>
            <a:ext cx="3568680" cy="2666880"/>
            <a:chOff x="5159520" y="2460600"/>
            <a:chExt cx="3568680" cy="2666880"/>
          </a:xfrm>
        </p:grpSpPr>
        <p:sp>
          <p:nvSpPr>
            <p:cNvPr id="286" name=""/>
            <p:cNvSpPr/>
            <p:nvPr/>
          </p:nvSpPr>
          <p:spPr>
            <a:xfrm rot="5400000">
              <a:off x="7292520" y="3791880"/>
              <a:ext cx="16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vent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Schedul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59520" y="2460600"/>
              <a:ext cx="3568680" cy="2666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02520" y="2503440"/>
              <a:ext cx="202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etwork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Component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5159520" y="5130720"/>
            <a:ext cx="3568680" cy="555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33560" y="51768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/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B52-FB77-471D-A6A9-1CD2342F43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ello World - Interactive M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wallow 71%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set ns [new Simulator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_o3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at 1 “puts \“Hello World!\”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at 1.5 “exit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% $ns ru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Hello World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wallow 72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4F8-39E3-47EF-9166-6FF39260DD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8T23:36:37Z</dcterms:modified>
  <cp:revision>698</cp:revision>
  <dc:subject/>
  <dc:title>ns-2 tutorial for IEC'00 workshop</dc:title>
</cp:coreProperties>
</file>