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9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CBE1065-233D-4C69-BF20-95A49DF3357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or change Makefile.in, make distclean, th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EC01-AA97-43F3-9962-B3B45D5C9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0B2D-8704-4B74-9430-BCD4A491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4FB4-8ABA-4C67-81FB-AD4E1936D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3BBA-2DCF-41DD-B82F-BEC29B92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2880-BF32-4177-8AFC-59F9B52A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344C-E348-4E3C-9E8E-463E47A8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105D-E9B1-496F-A26E-4B7265E5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9DFD-28C4-4572-8E7D-2EFF1D15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0974-B22C-420D-9688-970AB6E1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8541-D735-471A-A89F-B35B2143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47D8-A6CE-4924-9EA2-EF364F09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45C4-F6BC-4A8F-ACA3-53FCFA72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C653-54AC-4203-8FC7-1A671807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54AF-2400-49B2-94B3-D89DD86F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DED6-1568-4F51-B3A0-E33F4998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11AB-53F4-48BA-8057-C4405D54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5B56-1BBB-4F68-B783-7A2DB6F3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6160-1991-4540-862F-05BE4EEF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2F2C-9601-4151-81B4-7D779D28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CCD0-0624-416C-990B-403C58DF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4ACB-CB13-4EA0-B773-A2A6A172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A447-0AD1-4895-B086-0683CA05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282B-094B-4B4C-8ECD-F92D4051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8542-1A96-45EC-A5CE-AACC180E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CAD4-6B83-4C6C-86A7-319C0795F56A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86DF-AAE6-4FF4-9344-664500447BC4}" type="slidenum">
              <a:rPr b="0" lang="en-US" sz="1400" spc="-1" strike="noStrike">
                <a:solidFill>
                  <a:srgbClr val="3366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5000" y="6442200"/>
            <a:ext cx="276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66ff"/>
                </a:solidFill>
                <a:latin typeface="Tahoma"/>
              </a:rPr>
              <a:t>USC  INFORMATION SCIENCES INSTITUTE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-360" y="6442200"/>
            <a:ext cx="9144360" cy="183960"/>
            <a:chOff x="-360" y="6442200"/>
            <a:chExt cx="9144360" cy="183960"/>
          </a:xfrm>
        </p:grpSpPr>
        <p:sp>
          <p:nvSpPr>
            <p:cNvPr id="68" name=""/>
            <p:cNvSpPr/>
            <p:nvPr/>
          </p:nvSpPr>
          <p:spPr>
            <a:xfrm>
              <a:off x="7281720" y="6442200"/>
              <a:ext cx="352440" cy="183960"/>
            </a:xfrm>
            <a:custGeom>
              <a:avLst/>
              <a:gdLst/>
              <a:ahLst/>
              <a:rect l="l" t="t" r="r" b="b"/>
              <a:pathLst>
                <a:path w="222" h="116">
                  <a:moveTo>
                    <a:pt x="164" y="0"/>
                  </a:moveTo>
                  <a:lnTo>
                    <a:pt x="115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7" y="1"/>
                  </a:lnTo>
                  <a:lnTo>
                    <a:pt x="84" y="1"/>
                  </a:lnTo>
                  <a:lnTo>
                    <a:pt x="79" y="2"/>
                  </a:lnTo>
                  <a:lnTo>
                    <a:pt x="75" y="3"/>
                  </a:lnTo>
                  <a:lnTo>
                    <a:pt x="73" y="5"/>
                  </a:lnTo>
                  <a:lnTo>
                    <a:pt x="70" y="7"/>
                  </a:lnTo>
                  <a:lnTo>
                    <a:pt x="69" y="10"/>
                  </a:lnTo>
                  <a:lnTo>
                    <a:pt x="67" y="14"/>
                  </a:lnTo>
                  <a:lnTo>
                    <a:pt x="66" y="19"/>
                  </a:lnTo>
                  <a:lnTo>
                    <a:pt x="65" y="24"/>
                  </a:lnTo>
                  <a:lnTo>
                    <a:pt x="64" y="31"/>
                  </a:lnTo>
                  <a:lnTo>
                    <a:pt x="62" y="38"/>
                  </a:lnTo>
                  <a:lnTo>
                    <a:pt x="61" y="43"/>
                  </a:lnTo>
                  <a:lnTo>
                    <a:pt x="61" y="47"/>
                  </a:lnTo>
                  <a:lnTo>
                    <a:pt x="59" y="52"/>
                  </a:lnTo>
                  <a:lnTo>
                    <a:pt x="58" y="57"/>
                  </a:lnTo>
                  <a:lnTo>
                    <a:pt x="57" y="62"/>
                  </a:lnTo>
                  <a:lnTo>
                    <a:pt x="56" y="67"/>
                  </a:lnTo>
                  <a:lnTo>
                    <a:pt x="55" y="72"/>
                  </a:lnTo>
                  <a:lnTo>
                    <a:pt x="54" y="76"/>
                  </a:lnTo>
                  <a:lnTo>
                    <a:pt x="53" y="84"/>
                  </a:lnTo>
                  <a:lnTo>
                    <a:pt x="51" y="90"/>
                  </a:lnTo>
                  <a:lnTo>
                    <a:pt x="50" y="96"/>
                  </a:lnTo>
                  <a:lnTo>
                    <a:pt x="49" y="101"/>
                  </a:lnTo>
                  <a:lnTo>
                    <a:pt x="47" y="105"/>
                  </a:lnTo>
                  <a:lnTo>
                    <a:pt x="46" y="108"/>
                  </a:lnTo>
                  <a:lnTo>
                    <a:pt x="43" y="110"/>
                  </a:lnTo>
                  <a:lnTo>
                    <a:pt x="40" y="112"/>
                  </a:lnTo>
                  <a:lnTo>
                    <a:pt x="36" y="113"/>
                  </a:lnTo>
                  <a:lnTo>
                    <a:pt x="32" y="114"/>
                  </a:lnTo>
                  <a:lnTo>
                    <a:pt x="29" y="114"/>
                  </a:lnTo>
                  <a:lnTo>
                    <a:pt x="26" y="115"/>
                  </a:lnTo>
                  <a:lnTo>
                    <a:pt x="22" y="115"/>
                  </a:lnTo>
                  <a:lnTo>
                    <a:pt x="18" y="115"/>
                  </a:lnTo>
                  <a:lnTo>
                    <a:pt x="14" y="115"/>
                  </a:lnTo>
                  <a:lnTo>
                    <a:pt x="10" y="115"/>
                  </a:lnTo>
                  <a:lnTo>
                    <a:pt x="5" y="115"/>
                  </a:lnTo>
                  <a:lnTo>
                    <a:pt x="0" y="115"/>
                  </a:lnTo>
                  <a:lnTo>
                    <a:pt x="50" y="115"/>
                  </a:lnTo>
                  <a:lnTo>
                    <a:pt x="55" y="115"/>
                  </a:lnTo>
                  <a:lnTo>
                    <a:pt x="60" y="115"/>
                  </a:lnTo>
                  <a:lnTo>
                    <a:pt x="65" y="115"/>
                  </a:lnTo>
                  <a:lnTo>
                    <a:pt x="69" y="115"/>
                  </a:lnTo>
                  <a:lnTo>
                    <a:pt x="73" y="115"/>
                  </a:lnTo>
                  <a:lnTo>
                    <a:pt x="76" y="115"/>
                  </a:lnTo>
                  <a:lnTo>
                    <a:pt x="79" y="114"/>
                  </a:lnTo>
                  <a:lnTo>
                    <a:pt x="82" y="114"/>
                  </a:lnTo>
                  <a:lnTo>
                    <a:pt x="87" y="113"/>
                  </a:lnTo>
                  <a:lnTo>
                    <a:pt x="90" y="112"/>
                  </a:lnTo>
                  <a:lnTo>
                    <a:pt x="93" y="110"/>
                  </a:lnTo>
                  <a:lnTo>
                    <a:pt x="96" y="108"/>
                  </a:lnTo>
                  <a:lnTo>
                    <a:pt x="97" y="105"/>
                  </a:lnTo>
                  <a:lnTo>
                    <a:pt x="99" y="101"/>
                  </a:lnTo>
                  <a:lnTo>
                    <a:pt x="100" y="96"/>
                  </a:lnTo>
                  <a:lnTo>
                    <a:pt x="101" y="90"/>
                  </a:lnTo>
                  <a:lnTo>
                    <a:pt x="103" y="84"/>
                  </a:lnTo>
                  <a:lnTo>
                    <a:pt x="104" y="76"/>
                  </a:lnTo>
                  <a:lnTo>
                    <a:pt x="105" y="72"/>
                  </a:lnTo>
                  <a:lnTo>
                    <a:pt x="106" y="67"/>
                  </a:lnTo>
                  <a:lnTo>
                    <a:pt x="107" y="62"/>
                  </a:lnTo>
                  <a:lnTo>
                    <a:pt x="108" y="57"/>
                  </a:lnTo>
                  <a:lnTo>
                    <a:pt x="109" y="52"/>
                  </a:lnTo>
                  <a:lnTo>
                    <a:pt x="111" y="47"/>
                  </a:lnTo>
                  <a:lnTo>
                    <a:pt x="112" y="43"/>
                  </a:lnTo>
                  <a:lnTo>
                    <a:pt x="112" y="38"/>
                  </a:lnTo>
                  <a:lnTo>
                    <a:pt x="114" y="31"/>
                  </a:lnTo>
                  <a:lnTo>
                    <a:pt x="115" y="24"/>
                  </a:lnTo>
                  <a:lnTo>
                    <a:pt x="116" y="19"/>
                  </a:lnTo>
                  <a:lnTo>
                    <a:pt x="118" y="14"/>
                  </a:lnTo>
                  <a:lnTo>
                    <a:pt x="119" y="10"/>
                  </a:lnTo>
                  <a:lnTo>
                    <a:pt x="121" y="7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2"/>
                  </a:lnTo>
                  <a:lnTo>
                    <a:pt x="134" y="1"/>
                  </a:lnTo>
                  <a:lnTo>
                    <a:pt x="137" y="1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221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83320" y="6442200"/>
              <a:ext cx="263520" cy="183960"/>
            </a:xfrm>
            <a:custGeom>
              <a:avLst/>
              <a:gdLst/>
              <a:ahLst/>
              <a:rect l="l" t="t" r="r" b="b"/>
              <a:pathLst>
                <a:path w="166" h="116">
                  <a:moveTo>
                    <a:pt x="165" y="0"/>
                  </a:moveTo>
                  <a:lnTo>
                    <a:pt x="160" y="0"/>
                  </a:lnTo>
                  <a:lnTo>
                    <a:pt x="155" y="0"/>
                  </a:lnTo>
                  <a:lnTo>
                    <a:pt x="151" y="0"/>
                  </a:lnTo>
                  <a:lnTo>
                    <a:pt x="147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7" y="1"/>
                  </a:lnTo>
                  <a:lnTo>
                    <a:pt x="134" y="1"/>
                  </a:lnTo>
                  <a:lnTo>
                    <a:pt x="129" y="2"/>
                  </a:lnTo>
                  <a:lnTo>
                    <a:pt x="126" y="3"/>
                  </a:lnTo>
                  <a:lnTo>
                    <a:pt x="123" y="5"/>
                  </a:lnTo>
                  <a:lnTo>
                    <a:pt x="121" y="7"/>
                  </a:lnTo>
                  <a:lnTo>
                    <a:pt x="119" y="10"/>
                  </a:lnTo>
                  <a:lnTo>
                    <a:pt x="117" y="14"/>
                  </a:lnTo>
                  <a:lnTo>
                    <a:pt x="116" y="19"/>
                  </a:lnTo>
                  <a:lnTo>
                    <a:pt x="115" y="24"/>
                  </a:lnTo>
                  <a:lnTo>
                    <a:pt x="114" y="31"/>
                  </a:lnTo>
                  <a:lnTo>
                    <a:pt x="112" y="38"/>
                  </a:lnTo>
                  <a:lnTo>
                    <a:pt x="111" y="43"/>
                  </a:lnTo>
                  <a:lnTo>
                    <a:pt x="111" y="47"/>
                  </a:lnTo>
                  <a:lnTo>
                    <a:pt x="109" y="52"/>
                  </a:lnTo>
                  <a:lnTo>
                    <a:pt x="108" y="57"/>
                  </a:lnTo>
                  <a:lnTo>
                    <a:pt x="107" y="62"/>
                  </a:lnTo>
                  <a:lnTo>
                    <a:pt x="106" y="67"/>
                  </a:lnTo>
                  <a:lnTo>
                    <a:pt x="105" y="72"/>
                  </a:lnTo>
                  <a:lnTo>
                    <a:pt x="104" y="76"/>
                  </a:lnTo>
                  <a:lnTo>
                    <a:pt x="103" y="84"/>
                  </a:lnTo>
                  <a:lnTo>
                    <a:pt x="101" y="90"/>
                  </a:lnTo>
                  <a:lnTo>
                    <a:pt x="100" y="96"/>
                  </a:lnTo>
                  <a:lnTo>
                    <a:pt x="99" y="101"/>
                  </a:lnTo>
                  <a:lnTo>
                    <a:pt x="97" y="105"/>
                  </a:lnTo>
                  <a:lnTo>
                    <a:pt x="96" y="108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7" y="113"/>
                  </a:lnTo>
                  <a:lnTo>
                    <a:pt x="82" y="114"/>
                  </a:lnTo>
                  <a:lnTo>
                    <a:pt x="79" y="114"/>
                  </a:lnTo>
                  <a:lnTo>
                    <a:pt x="76" y="115"/>
                  </a:lnTo>
                  <a:lnTo>
                    <a:pt x="72" y="115"/>
                  </a:lnTo>
                  <a:lnTo>
                    <a:pt x="68" y="115"/>
                  </a:lnTo>
                  <a:lnTo>
                    <a:pt x="64" y="115"/>
                  </a:lnTo>
                  <a:lnTo>
                    <a:pt x="60" y="115"/>
                  </a:lnTo>
                  <a:lnTo>
                    <a:pt x="55" y="115"/>
                  </a:lnTo>
                  <a:lnTo>
                    <a:pt x="50" y="115"/>
                  </a:lnTo>
                  <a:lnTo>
                    <a:pt x="0" y="115"/>
                  </a:lnTo>
                  <a:lnTo>
                    <a:pt x="5" y="115"/>
                  </a:lnTo>
                  <a:lnTo>
                    <a:pt x="10" y="115"/>
                  </a:lnTo>
                  <a:lnTo>
                    <a:pt x="14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6" y="115"/>
                  </a:lnTo>
                  <a:lnTo>
                    <a:pt x="29" y="114"/>
                  </a:lnTo>
                  <a:lnTo>
                    <a:pt x="32" y="114"/>
                  </a:lnTo>
                  <a:lnTo>
                    <a:pt x="36" y="113"/>
                  </a:lnTo>
                  <a:lnTo>
                    <a:pt x="40" y="112"/>
                  </a:lnTo>
                  <a:lnTo>
                    <a:pt x="43" y="110"/>
                  </a:lnTo>
                  <a:lnTo>
                    <a:pt x="46" y="108"/>
                  </a:lnTo>
                  <a:lnTo>
                    <a:pt x="47" y="105"/>
                  </a:lnTo>
                  <a:lnTo>
                    <a:pt x="49" y="101"/>
                  </a:lnTo>
                  <a:lnTo>
                    <a:pt x="50" y="96"/>
                  </a:lnTo>
                  <a:lnTo>
                    <a:pt x="51" y="90"/>
                  </a:lnTo>
                  <a:lnTo>
                    <a:pt x="52" y="84"/>
                  </a:lnTo>
                  <a:lnTo>
                    <a:pt x="54" y="76"/>
                  </a:lnTo>
                  <a:lnTo>
                    <a:pt x="55" y="72"/>
                  </a:lnTo>
                  <a:lnTo>
                    <a:pt x="56" y="67"/>
                  </a:lnTo>
                  <a:lnTo>
                    <a:pt x="57" y="62"/>
                  </a:lnTo>
                  <a:lnTo>
                    <a:pt x="58" y="57"/>
                  </a:lnTo>
                  <a:lnTo>
                    <a:pt x="59" y="52"/>
                  </a:lnTo>
                  <a:lnTo>
                    <a:pt x="60" y="47"/>
                  </a:lnTo>
                  <a:lnTo>
                    <a:pt x="61" y="43"/>
                  </a:lnTo>
                  <a:lnTo>
                    <a:pt x="62" y="38"/>
                  </a:lnTo>
                  <a:lnTo>
                    <a:pt x="64" y="31"/>
                  </a:lnTo>
                  <a:lnTo>
                    <a:pt x="65" y="24"/>
                  </a:lnTo>
                  <a:lnTo>
                    <a:pt x="66" y="19"/>
                  </a:lnTo>
                  <a:lnTo>
                    <a:pt x="67" y="14"/>
                  </a:lnTo>
                  <a:lnTo>
                    <a:pt x="68" y="10"/>
                  </a:lnTo>
                  <a:lnTo>
                    <a:pt x="70" y="7"/>
                  </a:lnTo>
                  <a:lnTo>
                    <a:pt x="72" y="5"/>
                  </a:lnTo>
                  <a:lnTo>
                    <a:pt x="75" y="3"/>
                  </a:lnTo>
                  <a:lnTo>
                    <a:pt x="79" y="2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64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35880" y="647856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2" y="0"/>
                  </a:moveTo>
                  <a:lnTo>
                    <a:pt x="31" y="3"/>
                  </a:lnTo>
                  <a:lnTo>
                    <a:pt x="31" y="5"/>
                  </a:lnTo>
                  <a:lnTo>
                    <a:pt x="31" y="7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29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19" y="14"/>
                  </a:lnTo>
                  <a:lnTo>
                    <a:pt x="15" y="14"/>
                  </a:lnTo>
                  <a:lnTo>
                    <a:pt x="11" y="15"/>
                  </a:lnTo>
                  <a:lnTo>
                    <a:pt x="6" y="15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1" y="15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4" y="15"/>
                  </a:lnTo>
                  <a:lnTo>
                    <a:pt x="25" y="15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27" y="25"/>
                  </a:lnTo>
                  <a:lnTo>
                    <a:pt x="26" y="28"/>
                  </a:lnTo>
                  <a:lnTo>
                    <a:pt x="32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50200" y="653580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8"/>
                  </a:moveTo>
                  <a:lnTo>
                    <a:pt x="0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32" y="14"/>
                  </a:lnTo>
                  <a:lnTo>
                    <a:pt x="26" y="13"/>
                  </a:lnTo>
                  <a:lnTo>
                    <a:pt x="21" y="13"/>
                  </a:lnTo>
                  <a:lnTo>
                    <a:pt x="17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2"/>
                  </a:lnTo>
                  <a:lnTo>
                    <a:pt x="6" y="0"/>
                  </a:lnTo>
                  <a:lnTo>
                    <a:pt x="0" y="28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369200" y="6624720"/>
              <a:ext cx="1173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36040" y="6442200"/>
              <a:ext cx="14079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-360" y="6624720"/>
              <a:ext cx="731844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80200" y="6624720"/>
              <a:ext cx="41292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570800" y="6471720"/>
              <a:ext cx="22320" cy="1177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446960" y="6494400"/>
              <a:ext cx="22320" cy="1173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16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71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76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A20C-C8C6-41B7-92C4-34A0DBC269BD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EBC5-00DE-40E3-B60F-9A91081B352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dmalloc.com/" TargetMode="External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rt III: Extending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6CE2-B230-4999-9BBC-A7EEF83254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4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heduler and trac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Create schedule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s [new Simulato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Turn on Trac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fd [new “message.nam” w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namtrace-all $f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D39B-5ADB-4A15-B796-E184BA7ADB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5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polo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for {set i 0} {$i &lt; 6} {incr i}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n($i) [$ns node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duplex-link $n(0) $n(1) 128kb 50ms DropTai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duplex-link $n(1) $n(4) 10Mb 1ms DropTai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duplex-link $n(1) $n(5) 10Mb 1ms DropTai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duplex-link $n(0) $n(2) 10Mb 1ms DropTai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duplex-link $n(0) $n(3) 10Mb 1ms DropTai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queue-limit $n(0) $n(1) 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queue-limit $n(1) $n(0) 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430D-A222-4F8B-B843-F4D7E3A79D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6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ou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Packet loss produced by queue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Routing protocol: let’s run distance vect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rtproto DV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53EE-9AB2-4000-90C2-40A5EEAD24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7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oss traffi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udp0 [new Agent/UDP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tach-agent $n(2) $udp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ull0 [new Agent/NULL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tach-agent $n(4) $null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connect $udp0 $null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exp0 [new Application/Traffic/Exponential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exp0 set rate_ 128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exp0 attach-agent $udp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1.0 “$exp0 start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BDA4-5D52-463F-BA33-39720C2FCC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8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4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ssage age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sdr [new Sende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sdr set packetSize_ 100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rcvr [new Receive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rcvr set packetSize_ 4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tach $n(3) $sd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tach $n(5) $rcv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connect $sdr $rcv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connect $rcvr $sd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1.1 “$sdr send-next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5CA4-F999-4E05-81BB-07C1FB3E12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9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d-of-simulation wrapper (as usual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at 2.0 finis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proc finish {} {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global ns f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flush-tr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close $f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exit 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ED4C-E438-4D90-A88B-C679A00C6D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Resul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ample outpu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&gt; ./ns msg.tc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ceiver gets seq 0 from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nder gets ack 0 from 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ceiver gets seq 1 from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nder gets ack 1 from 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ceiver gets seq 2 from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nder gets ack 2 from 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ceiver gets seq 3 from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nder gets ack 3 from 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ceiver gets seq 4 from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nder gets ack 4 from 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ceiver gets seq 5 from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D7AF-7417-481A-BE90-EFA81C4D1C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d Your Changes into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2352600" y="2765520"/>
            <a:ext cx="981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K8.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48240" y="27655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867200" y="2765520"/>
            <a:ext cx="981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39680" y="2765520"/>
            <a:ext cx="100836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8.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86520" y="27655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-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05840" y="2765520"/>
            <a:ext cx="1035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am-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02200" y="372888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42920" y="454176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x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62240" y="454176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92840" y="45277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62520" y="371304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93000" y="453384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77840" y="5257800"/>
            <a:ext cx="1228680" cy="401760"/>
          </a:xfrm>
          <a:prstGeom prst="wedgeRoundRectCallout">
            <a:avLst>
              <a:gd name="adj1" fmla="val 37078"/>
              <a:gd name="adj2" fmla="val -127074"/>
              <a:gd name="adj3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ampl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665360" y="5259240"/>
            <a:ext cx="1639800" cy="403200"/>
          </a:xfrm>
          <a:prstGeom prst="wedgeRoundRectCallout">
            <a:avLst>
              <a:gd name="adj1" fmla="val 14861"/>
              <a:gd name="adj2" fmla="val -117717"/>
              <a:gd name="adj3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alidation tes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43800" y="3695760"/>
            <a:ext cx="1339560" cy="485640"/>
          </a:xfrm>
          <a:prstGeom prst="wedgeRoundRectCallout">
            <a:avLst>
              <a:gd name="adj1" fmla="val -31162"/>
              <a:gd name="adj2" fmla="val -149018"/>
              <a:gd name="adj3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++ cod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6842880" y="3268080"/>
            <a:ext cx="270000" cy="3954240"/>
          </a:xfrm>
          <a:custGeom>
            <a:avLst/>
            <a:gdLst>
              <a:gd name="textAreaLeft" fmla="*/ 0 w 270000"/>
              <a:gd name="textAreaRight" fmla="*/ 97560 w 270000"/>
              <a:gd name="textAreaTop" fmla="*/ 102960 h 3954240"/>
              <a:gd name="textAreaBottom" fmla="*/ 3851280 h 39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27800" y="5446800"/>
            <a:ext cx="1197000" cy="44280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Tcl cod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711600" y="1747800"/>
            <a:ext cx="1708200" cy="484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-allino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8" idx="2"/>
            <a:endCxn id="324" idx="0"/>
          </p:cNvCxnSpPr>
          <p:nvPr/>
        </p:nvCxnSpPr>
        <p:spPr>
          <a:xfrm flipH="1">
            <a:off x="1544040" y="2232000"/>
            <a:ext cx="302148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0" name=""/>
          <p:cNvCxnSpPr>
            <a:stCxn id="338" idx="2"/>
            <a:endCxn id="321" idx="0"/>
          </p:cNvCxnSpPr>
          <p:nvPr/>
        </p:nvCxnSpPr>
        <p:spPr>
          <a:xfrm flipH="1">
            <a:off x="2842920" y="2232000"/>
            <a:ext cx="172296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1" name=""/>
          <p:cNvCxnSpPr>
            <a:stCxn id="338" idx="2"/>
            <a:endCxn id="322" idx="0"/>
          </p:cNvCxnSpPr>
          <p:nvPr/>
        </p:nvCxnSpPr>
        <p:spPr>
          <a:xfrm flipH="1">
            <a:off x="4105080" y="2232000"/>
            <a:ext cx="46080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2" name=""/>
          <p:cNvCxnSpPr>
            <a:stCxn id="338" idx="2"/>
            <a:endCxn id="323" idx="0"/>
          </p:cNvCxnSpPr>
          <p:nvPr/>
        </p:nvCxnSpPr>
        <p:spPr>
          <a:xfrm>
            <a:off x="4565160" y="2232000"/>
            <a:ext cx="79308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3" name=""/>
          <p:cNvCxnSpPr>
            <a:stCxn id="338" idx="2"/>
            <a:endCxn id="325" idx="0"/>
          </p:cNvCxnSpPr>
          <p:nvPr/>
        </p:nvCxnSpPr>
        <p:spPr>
          <a:xfrm>
            <a:off x="4565160" y="2232000"/>
            <a:ext cx="197856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4" name=""/>
          <p:cNvCxnSpPr>
            <a:stCxn id="338" idx="2"/>
            <a:endCxn id="326" idx="0"/>
          </p:cNvCxnSpPr>
          <p:nvPr/>
        </p:nvCxnSpPr>
        <p:spPr>
          <a:xfrm>
            <a:off x="4565160" y="2232000"/>
            <a:ext cx="325836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5" name=""/>
          <p:cNvCxnSpPr>
            <a:stCxn id="325" idx="2"/>
            <a:endCxn id="327" idx="0"/>
          </p:cNvCxnSpPr>
          <p:nvPr/>
        </p:nvCxnSpPr>
        <p:spPr>
          <a:xfrm flipH="1">
            <a:off x="4559040" y="3222720"/>
            <a:ext cx="1985040" cy="5068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6" name=""/>
          <p:cNvCxnSpPr>
            <a:stCxn id="327" idx="2"/>
            <a:endCxn id="328" idx="0"/>
          </p:cNvCxnSpPr>
          <p:nvPr/>
        </p:nvCxnSpPr>
        <p:spPr>
          <a:xfrm flipH="1">
            <a:off x="1499760" y="4186080"/>
            <a:ext cx="3060000" cy="3564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7" name=""/>
          <p:cNvCxnSpPr>
            <a:stCxn id="327" idx="2"/>
            <a:endCxn id="329" idx="0"/>
          </p:cNvCxnSpPr>
          <p:nvPr/>
        </p:nvCxnSpPr>
        <p:spPr>
          <a:xfrm flipH="1">
            <a:off x="2718720" y="4186080"/>
            <a:ext cx="1840680" cy="3564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48" name=""/>
          <p:cNvCxnSpPr>
            <a:stCxn id="327" idx="2"/>
            <a:endCxn id="330" idx="0"/>
          </p:cNvCxnSpPr>
          <p:nvPr/>
        </p:nvCxnSpPr>
        <p:spPr>
          <a:xfrm>
            <a:off x="4559400" y="4185720"/>
            <a:ext cx="891360" cy="342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49" name=""/>
          <p:cNvSpPr/>
          <p:nvPr/>
        </p:nvSpPr>
        <p:spPr>
          <a:xfrm>
            <a:off x="6296040" y="451476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c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27" idx="2"/>
            <a:endCxn id="349" idx="0"/>
          </p:cNvCxnSpPr>
          <p:nvPr/>
        </p:nvCxnSpPr>
        <p:spPr>
          <a:xfrm>
            <a:off x="4559400" y="4185720"/>
            <a:ext cx="2194560" cy="3290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51" name=""/>
          <p:cNvSpPr/>
          <p:nvPr/>
        </p:nvSpPr>
        <p:spPr>
          <a:xfrm>
            <a:off x="3684600" y="4545000"/>
            <a:ext cx="995400" cy="442800"/>
          </a:xfrm>
          <a:prstGeom prst="rect">
            <a:avLst/>
          </a:prstGeom>
          <a:solidFill>
            <a:srgbClr val="6600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d882"/>
                </a:solidFill>
                <a:latin typeface="Tahoma"/>
              </a:rPr>
              <a:t>mysr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52" name=""/>
          <p:cNvCxnSpPr>
            <a:stCxn id="327" idx="2"/>
            <a:endCxn id="351" idx="0"/>
          </p:cNvCxnSpPr>
          <p:nvPr/>
        </p:nvCxnSpPr>
        <p:spPr>
          <a:xfrm flipH="1">
            <a:off x="4182480" y="4185720"/>
            <a:ext cx="376920" cy="359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53" name=""/>
          <p:cNvSpPr/>
          <p:nvPr/>
        </p:nvSpPr>
        <p:spPr>
          <a:xfrm>
            <a:off x="3603600" y="5257800"/>
            <a:ext cx="1157400" cy="457200"/>
          </a:xfrm>
          <a:prstGeom prst="rect">
            <a:avLst/>
          </a:prstGeom>
          <a:solidFill>
            <a:srgbClr val="6600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d882"/>
                </a:solidFill>
                <a:latin typeface="Tahoma"/>
              </a:rPr>
              <a:t>msg.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54" name=""/>
          <p:cNvCxnSpPr>
            <a:stCxn id="351" idx="2"/>
            <a:endCxn id="353" idx="0"/>
          </p:cNvCxnSpPr>
          <p:nvPr/>
        </p:nvCxnSpPr>
        <p:spPr>
          <a:xfrm>
            <a:off x="4182840" y="4987800"/>
            <a:ext cx="1080" cy="2707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3D1A-DE0C-430D-BA60-9809C8B1EF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d Your Change into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l/lib/ns-lib.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Class Simulat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ource ../mysrc/msg.t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kef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NS_TCL_LIB = \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tcl/mysrc/msg.tcl \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r: change Makefile.in,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make distclean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then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./configure --enable-debu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D400-3D5C-4145-A73C-1D2CEF2D33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tending 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In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 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w componen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ADEF-3A95-41F6-843B-7BCD9CF75C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tending 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 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bugg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ED92-4ACA-4954-91D9-87AEE674D2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tending ns in C++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difying c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ke depen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comp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ding code in new fi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hange Makef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ke depen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comp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F6B3-397D-4BE4-BA78-11905B1B43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eating New Compon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uideli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wo sty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w agent based on existing packet head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d new packet head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E91F-EC38-456C-A660-8131B70942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uideli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88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de position in class hierarch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.e., which class to derive from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new packet header (if necessary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C++ class, fill in method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fine OTcl linkage (if any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rite OTcl code (if any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uild (and debug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F39F-3A6C-4F5F-95A0-CDBF4D63A7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w Agent,  Old Head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P jump sta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de-open transmission window at the begin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rom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cwnd_ += 1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To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cwnd_ = MAXWIN_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ED30-F860-4B7A-B303-837E2D6CEF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P Jump Start – Step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"/>
          <p:cNvSpPr/>
          <p:nvPr/>
        </p:nvSpPr>
        <p:spPr>
          <a:xfrm>
            <a:off x="3886200" y="1587600"/>
            <a:ext cx="13716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Obj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86200" y="2340000"/>
            <a:ext cx="13716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Obj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68360" y="3154320"/>
            <a:ext cx="14796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nect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86400" y="3156120"/>
            <a:ext cx="14479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752480" y="4097160"/>
            <a:ext cx="83844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la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29200" y="4097160"/>
            <a:ext cx="19051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ddrClassifi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52560" y="4097160"/>
            <a:ext cx="8827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020000" y="4097160"/>
            <a:ext cx="1895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castClasifi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28480" y="4097160"/>
            <a:ext cx="995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ueu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097160"/>
            <a:ext cx="8827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74600" y="4940280"/>
            <a:ext cx="1197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ropTai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23880" y="4940280"/>
            <a:ext cx="7621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666880" y="4940280"/>
            <a:ext cx="7621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86200" y="4940280"/>
            <a:ext cx="6094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q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648320" y="4940280"/>
            <a:ext cx="6094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q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486400" y="4940280"/>
            <a:ext cx="7570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ro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70000" y="5705640"/>
            <a:ext cx="7621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n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060720" y="5705640"/>
            <a:ext cx="8380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AC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stCxn id="369" idx="2"/>
            <a:endCxn id="370" idx="0"/>
          </p:cNvCxnSpPr>
          <p:nvPr/>
        </p:nvCxnSpPr>
        <p:spPr>
          <a:xfrm flipH="1">
            <a:off x="3007800" y="2797200"/>
            <a:ext cx="1564560" cy="3578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87" name=""/>
          <p:cNvCxnSpPr>
            <a:stCxn id="369" idx="2"/>
            <a:endCxn id="371" idx="0"/>
          </p:cNvCxnSpPr>
          <p:nvPr/>
        </p:nvCxnSpPr>
        <p:spPr>
          <a:xfrm>
            <a:off x="4571640" y="2796840"/>
            <a:ext cx="1639080" cy="359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88" name=""/>
          <p:cNvCxnSpPr>
            <a:stCxn id="368" idx="2"/>
            <a:endCxn id="369" idx="0"/>
          </p:cNvCxnSpPr>
          <p:nvPr/>
        </p:nvCxnSpPr>
        <p:spPr>
          <a:xfrm>
            <a:off x="4571640" y="2044800"/>
            <a:ext cx="1080" cy="2955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89" name=""/>
          <p:cNvCxnSpPr>
            <a:stCxn id="370" idx="2"/>
            <a:endCxn id="376" idx="0"/>
          </p:cNvCxnSpPr>
          <p:nvPr/>
        </p:nvCxnSpPr>
        <p:spPr>
          <a:xfrm flipH="1">
            <a:off x="1026360" y="3611160"/>
            <a:ext cx="1981800" cy="486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0" name=""/>
          <p:cNvCxnSpPr>
            <a:stCxn id="370" idx="2"/>
            <a:endCxn id="372" idx="0"/>
          </p:cNvCxnSpPr>
          <p:nvPr/>
        </p:nvCxnSpPr>
        <p:spPr>
          <a:xfrm flipH="1">
            <a:off x="2171160" y="3611160"/>
            <a:ext cx="837000" cy="486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1" name=""/>
          <p:cNvCxnSpPr>
            <a:stCxn id="370" idx="2"/>
            <a:endCxn id="374" idx="0"/>
          </p:cNvCxnSpPr>
          <p:nvPr/>
        </p:nvCxnSpPr>
        <p:spPr>
          <a:xfrm>
            <a:off x="3008160" y="3611160"/>
            <a:ext cx="186480" cy="486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2" name=""/>
          <p:cNvCxnSpPr>
            <a:stCxn id="370" idx="2"/>
            <a:endCxn id="377" idx="0"/>
          </p:cNvCxnSpPr>
          <p:nvPr/>
        </p:nvCxnSpPr>
        <p:spPr>
          <a:xfrm>
            <a:off x="3007800" y="3611160"/>
            <a:ext cx="1320120" cy="486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3" name=""/>
          <p:cNvCxnSpPr>
            <a:stCxn id="371" idx="2"/>
            <a:endCxn id="373" idx="0"/>
          </p:cNvCxnSpPr>
          <p:nvPr/>
        </p:nvCxnSpPr>
        <p:spPr>
          <a:xfrm flipH="1">
            <a:off x="5981040" y="3613320"/>
            <a:ext cx="229320" cy="4845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4" name=""/>
          <p:cNvCxnSpPr>
            <a:stCxn id="371" idx="2"/>
            <a:endCxn id="375" idx="0"/>
          </p:cNvCxnSpPr>
          <p:nvPr/>
        </p:nvCxnSpPr>
        <p:spPr>
          <a:xfrm>
            <a:off x="6210000" y="3613320"/>
            <a:ext cx="1757880" cy="4845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5" name=""/>
          <p:cNvCxnSpPr>
            <a:stCxn id="376" idx="2"/>
            <a:endCxn id="378" idx="0"/>
          </p:cNvCxnSpPr>
          <p:nvPr/>
        </p:nvCxnSpPr>
        <p:spPr>
          <a:xfrm flipH="1">
            <a:off x="772560" y="4554360"/>
            <a:ext cx="25452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6" name=""/>
          <p:cNvCxnSpPr>
            <a:stCxn id="376" idx="2"/>
            <a:endCxn id="379" idx="0"/>
          </p:cNvCxnSpPr>
          <p:nvPr/>
        </p:nvCxnSpPr>
        <p:spPr>
          <a:xfrm>
            <a:off x="1026720" y="4554360"/>
            <a:ext cx="87876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7" name=""/>
          <p:cNvCxnSpPr>
            <a:stCxn id="374" idx="2"/>
            <a:endCxn id="380" idx="0"/>
          </p:cNvCxnSpPr>
          <p:nvPr/>
        </p:nvCxnSpPr>
        <p:spPr>
          <a:xfrm flipH="1">
            <a:off x="3047400" y="4554360"/>
            <a:ext cx="14652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8" name=""/>
          <p:cNvCxnSpPr>
            <a:stCxn id="380" idx="2"/>
            <a:endCxn id="384" idx="0"/>
          </p:cNvCxnSpPr>
          <p:nvPr/>
        </p:nvCxnSpPr>
        <p:spPr>
          <a:xfrm flipH="1">
            <a:off x="2450880" y="5397480"/>
            <a:ext cx="597600" cy="3088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9" name=""/>
          <p:cNvCxnSpPr>
            <a:stCxn id="380" idx="2"/>
            <a:endCxn id="385" idx="0"/>
          </p:cNvCxnSpPr>
          <p:nvPr/>
        </p:nvCxnSpPr>
        <p:spPr>
          <a:xfrm>
            <a:off x="3047760" y="5397480"/>
            <a:ext cx="432360" cy="3088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00" name=""/>
          <p:cNvCxnSpPr>
            <a:stCxn id="377" idx="2"/>
            <a:endCxn id="381" idx="0"/>
          </p:cNvCxnSpPr>
          <p:nvPr/>
        </p:nvCxnSpPr>
        <p:spPr>
          <a:xfrm flipH="1">
            <a:off x="4190400" y="4554360"/>
            <a:ext cx="13716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01" name=""/>
          <p:cNvCxnSpPr>
            <a:stCxn id="377" idx="2"/>
            <a:endCxn id="382" idx="0"/>
          </p:cNvCxnSpPr>
          <p:nvPr/>
        </p:nvCxnSpPr>
        <p:spPr>
          <a:xfrm>
            <a:off x="4327200" y="4554360"/>
            <a:ext cx="62604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02" name=""/>
          <p:cNvCxnSpPr>
            <a:stCxn id="377" idx="2"/>
            <a:endCxn id="383" idx="0"/>
          </p:cNvCxnSpPr>
          <p:nvPr/>
        </p:nvCxnSpPr>
        <p:spPr>
          <a:xfrm>
            <a:off x="4327200" y="4554360"/>
            <a:ext cx="153900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403" name=""/>
          <p:cNvSpPr/>
          <p:nvPr/>
        </p:nvSpPr>
        <p:spPr>
          <a:xfrm>
            <a:off x="4224240" y="5699160"/>
            <a:ext cx="685800" cy="457200"/>
          </a:xfrm>
          <a:prstGeom prst="roundRect">
            <a:avLst>
              <a:gd name="adj" fmla="val 16667"/>
            </a:avLst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J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380" idx="2"/>
            <a:endCxn id="403" idx="0"/>
          </p:cNvCxnSpPr>
          <p:nvPr/>
        </p:nvCxnSpPr>
        <p:spPr>
          <a:xfrm>
            <a:off x="3048120" y="5397480"/>
            <a:ext cx="1519920" cy="3024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777D-1577-4A8A-B606-05D8A9D2814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P Jump Start – Step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w file: tcp-js.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lass JSTCPAgent : public TcpAgent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virtual void set_initial_window(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wnd_ = MAXWIN_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rivat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int MAXWIN_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369E-02F8-4AD0-BCE9-9C576E7375E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P Jump Start – Step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w file: tcp-js.c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tatic JSTcpClass : public TclClass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JSTcpClass() : TclClass("Agent/TCP/JS") {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TclObject* create(int, const char*const*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return (new JSTcpAgent()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JSTcpAgent::JSTcpAgent(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bind(“MAXWIN_”, MAXWIN_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8283-10E5-43C9-8CF7-20F2C1A492E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w Packet Head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new header struct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able tracing support of new head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static class for OTcl linkage (packet.h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able new header in OTcl (tcl/lib/ns-packet.tcl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This does not apply when you add a new field into an existing header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EBAC-A469-402D-AB97-C1598CD9F7F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ow Packet Header Wor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2" name=""/>
          <p:cNvSpPr/>
          <p:nvPr/>
        </p:nvSpPr>
        <p:spPr>
          <a:xfrm>
            <a:off x="1280160" y="1650960"/>
            <a:ext cx="97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acke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236600" y="2070000"/>
            <a:ext cx="1087200" cy="1239480"/>
            <a:chOff x="1236600" y="2070000"/>
            <a:chExt cx="1087200" cy="1239480"/>
          </a:xfrm>
        </p:grpSpPr>
        <p:sp>
          <p:nvSpPr>
            <p:cNvPr id="414" name=""/>
            <p:cNvSpPr/>
            <p:nvPr/>
          </p:nvSpPr>
          <p:spPr>
            <a:xfrm>
              <a:off x="1236600" y="2070000"/>
              <a:ext cx="1087200" cy="4147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next_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6600" y="2482560"/>
              <a:ext cx="1087200" cy="41436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hdrlen_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36600" y="2895120"/>
              <a:ext cx="1087200" cy="41436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bits_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3645000" y="2730600"/>
            <a:ext cx="2539800" cy="1062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ze determin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t compile ti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645000" y="3792600"/>
            <a:ext cx="2539800" cy="1062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ze determin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t compile ti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645000" y="4854600"/>
            <a:ext cx="2539800" cy="1062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ze determin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t compile ti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56520" y="593100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400800" y="2743200"/>
            <a:ext cx="88920" cy="1022400"/>
          </a:xfrm>
          <a:custGeom>
            <a:avLst/>
            <a:gdLst>
              <a:gd name="textAreaLeft" fmla="*/ 0 w 88920"/>
              <a:gd name="textAreaRight" fmla="*/ 32040 w 88920"/>
              <a:gd name="textAreaTop" fmla="*/ 26640 h 1022400"/>
              <a:gd name="textAreaBottom" fmla="*/ 995760 h 10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674760" y="29732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dr_cm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413400" y="3805200"/>
            <a:ext cx="88920" cy="1022400"/>
          </a:xfrm>
          <a:custGeom>
            <a:avLst/>
            <a:gdLst>
              <a:gd name="textAreaLeft" fmla="*/ 0 w 88920"/>
              <a:gd name="textAreaRight" fmla="*/ 32040 w 88920"/>
              <a:gd name="textAreaTop" fmla="*/ 26640 h 1022400"/>
              <a:gd name="textAreaBottom" fmla="*/ 995760 h 10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699960" y="4035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dr_i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426360" y="4867200"/>
            <a:ext cx="88920" cy="1022400"/>
          </a:xfrm>
          <a:custGeom>
            <a:avLst/>
            <a:gdLst>
              <a:gd name="textAreaLeft" fmla="*/ 0 w 88920"/>
              <a:gd name="textAreaRight" fmla="*/ 32040 w 88920"/>
              <a:gd name="textAreaTop" fmla="*/ 26640 h 1022400"/>
              <a:gd name="textAreaBottom" fmla="*/ 995760 h 10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10760" y="509760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dr_tc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325600" y="3079800"/>
            <a:ext cx="1319400" cy="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81200" y="3846600"/>
            <a:ext cx="2635200" cy="15843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ze determin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t simulat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tartup ti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(PacketHeaderManager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29" name=""/>
          <p:cNvCxnSpPr>
            <a:stCxn id="415" idx="1"/>
            <a:endCxn id="428" idx="0"/>
          </p:cNvCxnSpPr>
          <p:nvPr/>
        </p:nvCxnSpPr>
        <p:spPr>
          <a:xfrm flipH="1" flipV="1" rot="10800000">
            <a:off x="1235520" y="2689560"/>
            <a:ext cx="862920" cy="1156680"/>
          </a:xfrm>
          <a:prstGeom prst="bentConnector4">
            <a:avLst>
              <a:gd name="adj1" fmla="val -26502"/>
              <a:gd name="adj2" fmla="val 72633"/>
            </a:avLst>
          </a:prstGeom>
          <a:ln w="28440">
            <a:solidFill>
              <a:srgbClr val="40458c"/>
            </a:solidFill>
            <a:miter/>
            <a:tailEnd len="med" type="triangle" w="med"/>
          </a:ln>
        </p:spPr>
      </p:cxnSp>
      <p:grpSp>
        <p:nvGrpSpPr>
          <p:cNvPr id="430" name=""/>
          <p:cNvGrpSpPr/>
          <p:nvPr/>
        </p:nvGrpSpPr>
        <p:grpSpPr>
          <a:xfrm>
            <a:off x="3416040" y="1816200"/>
            <a:ext cx="5137560" cy="3197160"/>
            <a:chOff x="3416040" y="1816200"/>
            <a:chExt cx="5137560" cy="3197160"/>
          </a:xfrm>
        </p:grpSpPr>
        <p:grpSp>
          <p:nvGrpSpPr>
            <p:cNvPr id="431" name=""/>
            <p:cNvGrpSpPr/>
            <p:nvPr/>
          </p:nvGrpSpPr>
          <p:grpSpPr>
            <a:xfrm>
              <a:off x="5459400" y="1816200"/>
              <a:ext cx="3094200" cy="3197160"/>
              <a:chOff x="5459400" y="1816200"/>
              <a:chExt cx="3094200" cy="3197160"/>
            </a:xfrm>
          </p:grpSpPr>
          <p:grpSp>
            <p:nvGrpSpPr>
              <p:cNvPr id="432" name=""/>
              <p:cNvGrpSpPr/>
              <p:nvPr/>
            </p:nvGrpSpPr>
            <p:grpSpPr>
              <a:xfrm>
                <a:off x="5459400" y="1816200"/>
                <a:ext cx="3094200" cy="873000"/>
                <a:chOff x="5459400" y="1816200"/>
                <a:chExt cx="3094200" cy="87300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5459400" y="1816200"/>
                  <a:ext cx="3094200" cy="873000"/>
                </a:xfrm>
                <a:prstGeom prst="cloudCallout">
                  <a:avLst>
                    <a:gd name="adj1" fmla="val -40509"/>
                    <a:gd name="adj2" fmla="val 80365"/>
                  </a:avLst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5746320" y="2023920"/>
                  <a:ext cx="2601000" cy="337320"/>
                </a:xfrm>
                <a:prstGeom prst="rect">
                  <a:avLst/>
                </a:prstGeom>
                <a:solidFill>
                  <a:srgbClr val="b7c1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40458c"/>
                      </a:solidFill>
                      <a:latin typeface="Tahoma"/>
                    </a:rPr>
                    <a:t>PacketHeader/Common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5626080" y="3246480"/>
                <a:ext cx="2637000" cy="752400"/>
                <a:chOff x="5626080" y="3246480"/>
                <a:chExt cx="2637000" cy="75240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626080" y="3246480"/>
                  <a:ext cx="2637000" cy="752400"/>
                </a:xfrm>
                <a:prstGeom prst="cloudCallout">
                  <a:avLst>
                    <a:gd name="adj1" fmla="val -38861"/>
                    <a:gd name="adj2" fmla="val 101263"/>
                  </a:avLst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929200" y="3454560"/>
                  <a:ext cx="1896840" cy="337320"/>
                </a:xfrm>
                <a:prstGeom prst="rect">
                  <a:avLst/>
                </a:prstGeom>
                <a:solidFill>
                  <a:srgbClr val="b7c1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40458c"/>
                      </a:solidFill>
                      <a:latin typeface="Tahoma"/>
                    </a:rPr>
                    <a:t>PacketHeader/IP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11760" y="4260960"/>
                <a:ext cx="2637000" cy="752400"/>
                <a:chOff x="5711760" y="4260960"/>
                <a:chExt cx="2637000" cy="75240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11760" y="4260960"/>
                  <a:ext cx="2637000" cy="752400"/>
                </a:xfrm>
                <a:prstGeom prst="cloudCallout">
                  <a:avLst>
                    <a:gd name="adj1" fmla="val -38861"/>
                    <a:gd name="adj2" fmla="val 101263"/>
                  </a:avLst>
                </a:prstGeom>
                <a:solidFill>
                  <a:srgbClr val="b7c1eb"/>
                </a:solidFill>
                <a:ln w="9360">
                  <a:solidFill>
                    <a:srgbClr val="40458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6011640" y="4469040"/>
                  <a:ext cx="2064240" cy="337320"/>
                </a:xfrm>
                <a:prstGeom prst="rect">
                  <a:avLst/>
                </a:prstGeom>
                <a:solidFill>
                  <a:srgbClr val="b7c1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40458c"/>
                      </a:solidFill>
                      <a:latin typeface="Tahoma"/>
                    </a:rPr>
                    <a:t>PacketHeader/TCP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441" name=""/>
            <p:cNvCxnSpPr>
              <a:stCxn id="428" idx="3"/>
              <a:endCxn id="433" idx="0"/>
            </p:cNvCxnSpPr>
            <p:nvPr/>
          </p:nvCxnSpPr>
          <p:spPr>
            <a:xfrm flipV="1">
              <a:off x="3416040" y="2252160"/>
              <a:ext cx="2053080" cy="238680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  <p:cxnSp>
          <p:nvCxnSpPr>
            <p:cNvPr id="442" name=""/>
            <p:cNvCxnSpPr>
              <a:stCxn id="428" idx="3"/>
              <a:endCxn id="436" idx="0"/>
            </p:cNvCxnSpPr>
            <p:nvPr/>
          </p:nvCxnSpPr>
          <p:spPr>
            <a:xfrm flipV="1">
              <a:off x="3416400" y="3622320"/>
              <a:ext cx="2218320" cy="10166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  <p:cxnSp>
          <p:nvCxnSpPr>
            <p:cNvPr id="443" name=""/>
            <p:cNvCxnSpPr>
              <a:stCxn id="428" idx="3"/>
              <a:endCxn id="439" idx="0"/>
            </p:cNvCxnSpPr>
            <p:nvPr/>
          </p:nvCxnSpPr>
          <p:spPr>
            <a:xfrm flipV="1">
              <a:off x="3416400" y="4636800"/>
              <a:ext cx="2304000" cy="216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25EF-BECC-4FBE-99C5-155A59132BC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96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Example: Agent/Messag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packet header for 64-byte mes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transport agent to process this new head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5681-46B6-4490-A04C-CE1BC976380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Directory Structu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2352600" y="2765520"/>
            <a:ext cx="981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K8.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48240" y="27655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67200" y="2765520"/>
            <a:ext cx="981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39680" y="2765520"/>
            <a:ext cx="100836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8.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86520" y="27655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-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05840" y="2765520"/>
            <a:ext cx="1035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am-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02200" y="372888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55720" y="45277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x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75040" y="45277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16280" y="45403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62520" y="371304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16800" y="454644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90640" y="5243400"/>
            <a:ext cx="1228680" cy="401760"/>
          </a:xfrm>
          <a:prstGeom prst="wedgeRoundRectCallout">
            <a:avLst>
              <a:gd name="adj1" fmla="val 40310"/>
              <a:gd name="adj2" fmla="val -124703"/>
              <a:gd name="adj3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ampl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78160" y="5245200"/>
            <a:ext cx="1639800" cy="403200"/>
          </a:xfrm>
          <a:prstGeom prst="wedgeRoundRectCallout">
            <a:avLst>
              <a:gd name="adj1" fmla="val 14861"/>
              <a:gd name="adj2" fmla="val -130708"/>
              <a:gd name="adj3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alidation tes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43800" y="3695760"/>
            <a:ext cx="1339560" cy="485640"/>
          </a:xfrm>
          <a:prstGeom prst="wedgeRoundRectCallout">
            <a:avLst>
              <a:gd name="adj1" fmla="val -31162"/>
              <a:gd name="adj2" fmla="val -149018"/>
              <a:gd name="adj3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++ cod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66680" y="3280680"/>
            <a:ext cx="270000" cy="3954240"/>
          </a:xfrm>
          <a:custGeom>
            <a:avLst/>
            <a:gdLst>
              <a:gd name="textAreaLeft" fmla="*/ 0 w 270000"/>
              <a:gd name="textAreaRight" fmla="*/ 97560 w 270000"/>
              <a:gd name="textAreaTop" fmla="*/ 102960 h 3954240"/>
              <a:gd name="textAreaBottom" fmla="*/ 3851280 h 395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51600" y="5459400"/>
            <a:ext cx="1197000" cy="44280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Tcl cod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11600" y="1747800"/>
            <a:ext cx="1708200" cy="484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-allino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stCxn id="249" idx="2"/>
            <a:endCxn id="235" idx="0"/>
          </p:cNvCxnSpPr>
          <p:nvPr/>
        </p:nvCxnSpPr>
        <p:spPr>
          <a:xfrm flipH="1">
            <a:off x="1544040" y="2232000"/>
            <a:ext cx="302148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1" name=""/>
          <p:cNvCxnSpPr>
            <a:stCxn id="249" idx="2"/>
            <a:endCxn id="232" idx="0"/>
          </p:cNvCxnSpPr>
          <p:nvPr/>
        </p:nvCxnSpPr>
        <p:spPr>
          <a:xfrm flipH="1">
            <a:off x="2842920" y="2232000"/>
            <a:ext cx="172296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2" name=""/>
          <p:cNvCxnSpPr>
            <a:stCxn id="249" idx="2"/>
            <a:endCxn id="233" idx="0"/>
          </p:cNvCxnSpPr>
          <p:nvPr/>
        </p:nvCxnSpPr>
        <p:spPr>
          <a:xfrm flipH="1">
            <a:off x="4105080" y="2232000"/>
            <a:ext cx="46080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3" name=""/>
          <p:cNvCxnSpPr>
            <a:stCxn id="249" idx="2"/>
            <a:endCxn id="234" idx="0"/>
          </p:cNvCxnSpPr>
          <p:nvPr/>
        </p:nvCxnSpPr>
        <p:spPr>
          <a:xfrm>
            <a:off x="4565160" y="2232000"/>
            <a:ext cx="79308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4" name=""/>
          <p:cNvCxnSpPr>
            <a:stCxn id="249" idx="2"/>
            <a:endCxn id="236" idx="0"/>
          </p:cNvCxnSpPr>
          <p:nvPr/>
        </p:nvCxnSpPr>
        <p:spPr>
          <a:xfrm>
            <a:off x="4565160" y="2232000"/>
            <a:ext cx="197856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5" name=""/>
          <p:cNvCxnSpPr>
            <a:stCxn id="249" idx="2"/>
            <a:endCxn id="237" idx="0"/>
          </p:cNvCxnSpPr>
          <p:nvPr/>
        </p:nvCxnSpPr>
        <p:spPr>
          <a:xfrm>
            <a:off x="4565160" y="2232000"/>
            <a:ext cx="3258360" cy="534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6" name=""/>
          <p:cNvCxnSpPr>
            <a:stCxn id="236" idx="2"/>
            <a:endCxn id="238" idx="0"/>
          </p:cNvCxnSpPr>
          <p:nvPr/>
        </p:nvCxnSpPr>
        <p:spPr>
          <a:xfrm flipH="1">
            <a:off x="4559040" y="3222720"/>
            <a:ext cx="1985040" cy="5068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7" name=""/>
          <p:cNvCxnSpPr>
            <a:stCxn id="238" idx="2"/>
            <a:endCxn id="239" idx="0"/>
          </p:cNvCxnSpPr>
          <p:nvPr/>
        </p:nvCxnSpPr>
        <p:spPr>
          <a:xfrm flipH="1">
            <a:off x="2212560" y="4185720"/>
            <a:ext cx="2347200" cy="342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8" name=""/>
          <p:cNvCxnSpPr>
            <a:stCxn id="238" idx="2"/>
            <a:endCxn id="240" idx="0"/>
          </p:cNvCxnSpPr>
          <p:nvPr/>
        </p:nvCxnSpPr>
        <p:spPr>
          <a:xfrm flipH="1">
            <a:off x="3431520" y="4185720"/>
            <a:ext cx="1127880" cy="342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59" name=""/>
          <p:cNvCxnSpPr>
            <a:stCxn id="238" idx="2"/>
            <a:endCxn id="241" idx="0"/>
          </p:cNvCxnSpPr>
          <p:nvPr/>
        </p:nvCxnSpPr>
        <p:spPr>
          <a:xfrm>
            <a:off x="4559400" y="4186080"/>
            <a:ext cx="514440" cy="3549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260" name=""/>
          <p:cNvSpPr/>
          <p:nvPr/>
        </p:nvSpPr>
        <p:spPr>
          <a:xfrm>
            <a:off x="5919840" y="4527720"/>
            <a:ext cx="914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c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38" idx="2"/>
            <a:endCxn id="260" idx="0"/>
          </p:cNvCxnSpPr>
          <p:nvPr/>
        </p:nvCxnSpPr>
        <p:spPr>
          <a:xfrm>
            <a:off x="4559040" y="4185720"/>
            <a:ext cx="1818360" cy="342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6BCE-68F3-4FBC-9A63-537C05097A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w Packet Header – Step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header struct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truct hdr_msg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char msg_[64]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tatic int offset_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inline static int&amp; offset() { return offset_; 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inline static hdr_msg* access(Packet* p)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return (hdr_msg*) p-&gt;access(offset_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/* per-field member functions */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char* msg() { return (msg_); 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int maxmsg() { return (sizeof(msg_)); 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C996-F9BF-42DD-9511-BFB410FFEDD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w Packet Header – Step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cketHeader/Mes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tatic class MessageHeaderClass 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ublic PacketHeaderClass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MessageHeaderClass() : PacketHeaderClass("PacketHeader/Message"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izeof(hdr_msg)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bind_offset(&amp;hdr_msg::offset_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 class_msghdr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8CC8-88F4-436B-9526-5E311B7DF33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w Packet Header – Step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able tracing (packet.h)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enum packet_t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PT_TCP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…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PT_MESSAGE,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PT_NTYPE // This MUST be the LAST on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class p_info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……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name_[PT_MESSAGE] = “message”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name_[PT_NTYPE]= "undefined"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……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1503-4CD3-41A0-954C-577E577C895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w Packet Header – Step 4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gister new header (tcl/lib/ns-packet.tcl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foreach pair {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{ Common off_cmn_ 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{ Message off_msg_ 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2782-C69A-458B-89E2-923BA16E1E0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cket Header: Cau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me old code, e.g.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RtpAgent::RtpAgent(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……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bind(“off_rtp_”, &amp;off_rtp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……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hdr_rtp* rh = (hdr_rtp*)p-&gt;access(off_rtp_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ahoma"/>
              </a:rPr>
              <a:t>Don’t follow this example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9802-B616-4736-B988-54127FE6150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 – Step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1587600"/>
            <a:ext cx="13716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Obj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886200" y="2340000"/>
            <a:ext cx="13716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Obj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68360" y="3154320"/>
            <a:ext cx="14796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nect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86400" y="3156120"/>
            <a:ext cx="14479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752480" y="4097160"/>
            <a:ext cx="83844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la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029200" y="4097160"/>
            <a:ext cx="19051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ddrClassifi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752560" y="4097160"/>
            <a:ext cx="8827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020000" y="4097160"/>
            <a:ext cx="1895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castClasifi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28480" y="4097160"/>
            <a:ext cx="9954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ueu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86200" y="4097160"/>
            <a:ext cx="8827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74600" y="4940280"/>
            <a:ext cx="1197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ropTai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523880" y="4940280"/>
            <a:ext cx="7621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479680" y="4940280"/>
            <a:ext cx="76212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948200" y="4938840"/>
            <a:ext cx="6094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nq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710320" y="4938840"/>
            <a:ext cx="6094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q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548400" y="4938840"/>
            <a:ext cx="75744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ro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990800" y="5705640"/>
            <a:ext cx="76176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n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981160" y="5705640"/>
            <a:ext cx="83844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AC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75" name=""/>
          <p:cNvCxnSpPr>
            <a:stCxn id="458" idx="2"/>
            <a:endCxn id="459" idx="0"/>
          </p:cNvCxnSpPr>
          <p:nvPr/>
        </p:nvCxnSpPr>
        <p:spPr>
          <a:xfrm flipH="1">
            <a:off x="3007800" y="2797200"/>
            <a:ext cx="1564560" cy="3578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76" name=""/>
          <p:cNvCxnSpPr>
            <a:stCxn id="458" idx="2"/>
            <a:endCxn id="460" idx="0"/>
          </p:cNvCxnSpPr>
          <p:nvPr/>
        </p:nvCxnSpPr>
        <p:spPr>
          <a:xfrm>
            <a:off x="4571640" y="2796840"/>
            <a:ext cx="1639080" cy="359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77" name=""/>
          <p:cNvCxnSpPr>
            <a:stCxn id="457" idx="2"/>
            <a:endCxn id="458" idx="0"/>
          </p:cNvCxnSpPr>
          <p:nvPr/>
        </p:nvCxnSpPr>
        <p:spPr>
          <a:xfrm>
            <a:off x="4571640" y="2044800"/>
            <a:ext cx="1080" cy="2955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78" name=""/>
          <p:cNvCxnSpPr>
            <a:stCxn id="459" idx="2"/>
            <a:endCxn id="465" idx="0"/>
          </p:cNvCxnSpPr>
          <p:nvPr/>
        </p:nvCxnSpPr>
        <p:spPr>
          <a:xfrm flipH="1">
            <a:off x="1026360" y="3611160"/>
            <a:ext cx="1981800" cy="486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79" name=""/>
          <p:cNvCxnSpPr>
            <a:stCxn id="459" idx="2"/>
            <a:endCxn id="461" idx="0"/>
          </p:cNvCxnSpPr>
          <p:nvPr/>
        </p:nvCxnSpPr>
        <p:spPr>
          <a:xfrm flipH="1">
            <a:off x="2171160" y="3611160"/>
            <a:ext cx="837000" cy="486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0" name=""/>
          <p:cNvCxnSpPr>
            <a:stCxn id="459" idx="2"/>
            <a:endCxn id="463" idx="0"/>
          </p:cNvCxnSpPr>
          <p:nvPr/>
        </p:nvCxnSpPr>
        <p:spPr>
          <a:xfrm>
            <a:off x="3008160" y="3611160"/>
            <a:ext cx="186480" cy="486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1" name=""/>
          <p:cNvCxnSpPr>
            <a:stCxn id="459" idx="2"/>
            <a:endCxn id="466" idx="0"/>
          </p:cNvCxnSpPr>
          <p:nvPr/>
        </p:nvCxnSpPr>
        <p:spPr>
          <a:xfrm>
            <a:off x="3007800" y="3611160"/>
            <a:ext cx="1320120" cy="486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2" name=""/>
          <p:cNvCxnSpPr>
            <a:stCxn id="460" idx="2"/>
            <a:endCxn id="462" idx="0"/>
          </p:cNvCxnSpPr>
          <p:nvPr/>
        </p:nvCxnSpPr>
        <p:spPr>
          <a:xfrm flipH="1">
            <a:off x="5981040" y="3613320"/>
            <a:ext cx="229320" cy="4845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3" name=""/>
          <p:cNvCxnSpPr>
            <a:stCxn id="460" idx="2"/>
            <a:endCxn id="464" idx="0"/>
          </p:cNvCxnSpPr>
          <p:nvPr/>
        </p:nvCxnSpPr>
        <p:spPr>
          <a:xfrm>
            <a:off x="6210000" y="3613320"/>
            <a:ext cx="1757880" cy="4845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4" name=""/>
          <p:cNvCxnSpPr>
            <a:stCxn id="465" idx="2"/>
            <a:endCxn id="467" idx="0"/>
          </p:cNvCxnSpPr>
          <p:nvPr/>
        </p:nvCxnSpPr>
        <p:spPr>
          <a:xfrm flipH="1">
            <a:off x="772560" y="4554360"/>
            <a:ext cx="25452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5" name=""/>
          <p:cNvCxnSpPr>
            <a:stCxn id="465" idx="2"/>
            <a:endCxn id="468" idx="0"/>
          </p:cNvCxnSpPr>
          <p:nvPr/>
        </p:nvCxnSpPr>
        <p:spPr>
          <a:xfrm>
            <a:off x="1026720" y="4554360"/>
            <a:ext cx="87876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6" name=""/>
          <p:cNvCxnSpPr>
            <a:stCxn id="463" idx="2"/>
            <a:endCxn id="469" idx="0"/>
          </p:cNvCxnSpPr>
          <p:nvPr/>
        </p:nvCxnSpPr>
        <p:spPr>
          <a:xfrm flipH="1">
            <a:off x="2860200" y="4554360"/>
            <a:ext cx="33408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7" name=""/>
          <p:cNvCxnSpPr>
            <a:stCxn id="469" idx="2"/>
            <a:endCxn id="473" idx="0"/>
          </p:cNvCxnSpPr>
          <p:nvPr/>
        </p:nvCxnSpPr>
        <p:spPr>
          <a:xfrm flipH="1">
            <a:off x="2371320" y="5397480"/>
            <a:ext cx="489600" cy="3088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8" name=""/>
          <p:cNvCxnSpPr>
            <a:stCxn id="469" idx="2"/>
            <a:endCxn id="474" idx="0"/>
          </p:cNvCxnSpPr>
          <p:nvPr/>
        </p:nvCxnSpPr>
        <p:spPr>
          <a:xfrm>
            <a:off x="2860560" y="5397480"/>
            <a:ext cx="540720" cy="3088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9" name=""/>
          <p:cNvCxnSpPr>
            <a:stCxn id="466" idx="2"/>
            <a:endCxn id="470" idx="0"/>
          </p:cNvCxnSpPr>
          <p:nvPr/>
        </p:nvCxnSpPr>
        <p:spPr>
          <a:xfrm>
            <a:off x="4327200" y="4554360"/>
            <a:ext cx="926280" cy="385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90" name=""/>
          <p:cNvCxnSpPr>
            <a:stCxn id="466" idx="2"/>
            <a:endCxn id="471" idx="0"/>
          </p:cNvCxnSpPr>
          <p:nvPr/>
        </p:nvCxnSpPr>
        <p:spPr>
          <a:xfrm>
            <a:off x="4327200" y="4554360"/>
            <a:ext cx="1688040" cy="385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91" name=""/>
          <p:cNvCxnSpPr>
            <a:stCxn id="466" idx="2"/>
            <a:endCxn id="472" idx="0"/>
          </p:cNvCxnSpPr>
          <p:nvPr/>
        </p:nvCxnSpPr>
        <p:spPr>
          <a:xfrm>
            <a:off x="4327200" y="4554360"/>
            <a:ext cx="2601000" cy="385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492" name=""/>
          <p:cNvSpPr/>
          <p:nvPr/>
        </p:nvSpPr>
        <p:spPr>
          <a:xfrm>
            <a:off x="3363840" y="4940280"/>
            <a:ext cx="1463760" cy="457200"/>
          </a:xfrm>
          <a:prstGeom prst="roundRect">
            <a:avLst>
              <a:gd name="adj" fmla="val 16667"/>
            </a:avLst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63" idx="2"/>
            <a:endCxn id="492" idx="0"/>
          </p:cNvCxnSpPr>
          <p:nvPr/>
        </p:nvCxnSpPr>
        <p:spPr>
          <a:xfrm>
            <a:off x="3193560" y="4554360"/>
            <a:ext cx="902520" cy="386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A158-0140-4C96-B81A-15048D7A843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 – Step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++ class defini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// Standard split object declarat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tatic …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class MessageAgent : public Agent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MessageAgent() : Agent(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PT_MESSAGE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) {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virtual int command(int argc, const char*const* argv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virtual void recv(Packet*, Handler*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0AF4-B96B-4B42-A64D-21C5D1230CA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 – Step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cket processing: sen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int MessageAgent::command(int, const char*const* argv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Tcl&amp; tcl = Tcl::instance(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if (strcmp(argv[1], "send") == 0) 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Packet* pkt = allocpkt(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hdr_msg* mh = hdr_msg::access(pkt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// We ignore message size check..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strcpy(mh-&gt;msg(), argv[2]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send(pkt, 0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return (TCL_OK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return (Agent::command(argc, argv)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E742-6436-4773-9846-7D7431B3E49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 – Step 4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cket processing: receiv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void MessageAgent::recv(Packet* pkt, Handler*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hdr_msg* mh = hdr_msg::access(pkt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// OTcl callback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char wrk[128]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printf(wrk, "%s recv {%s}", name(), mh-&gt;msg()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Tcl&amp; tcl = Tcl::instance(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tcl.eval(wrk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Packet::free(pkt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D5CE-409B-4844-AB60-F997AFF93C6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Extending 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In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In 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bugging: OTcl/C++, mem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itfal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9A93-82F9-4744-B001-A55AD69BA17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tending ns in O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f you don’t want to compi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ourc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your changes in your sim scrip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therwi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difying code; recomp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ding new fil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hange Makefile (NS_TCL_LIB), tcl/lib/ns-lib.t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ompi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66A0-63B4-4047-9C3B-2B85995E2A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bugging C++ in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++/OTcl debugg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mory debugg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urif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mallo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A935-9482-4869-9AE4-3BE274C0182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++/OTcl Debugg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ual techniqu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reak inside command(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nnot examine states inside OTcl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lu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ecute tcl-debug inside gd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195C-B3AE-40A7-9C0F-312D1515F5B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++/OTcl Debugg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(gdb) 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call Tcl::instance().eval(“debug 1”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15: lappend auto_path $dbg_librar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dbg15.3&gt; w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*0: applicat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15: lappend auto_path $dbg_librar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dbg15.4&gt; Simulator info instanc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_o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dbg15.5&gt; _o1 now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dbg15.6&gt; # and other fun stuff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dbg15.7&gt; </a:t>
            </a:r>
            <a:r>
              <a:rPr b="1" lang="en-US" sz="1800" spc="-1" strike="noStrike">
                <a:solidFill>
                  <a:srgbClr val="ff505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(gdb) wher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0 0x102218 in write(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6FC7-13EE-4080-B3D2-E56756F5243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mory Debugging in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90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urif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PURIFY macro in ns Makef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ually, put -colloctor=&lt;ld_path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ray Watson’s dmalloc libra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http://www.dmalloc.com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ke distcle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/configure --with-dmalloc=&lt;dmalloc_path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alyze results: dmalloc_summariz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C108-D4F7-4A92-8C0A-6C79BDFC994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malloc: Usag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urn on dmallo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lias dmalloc ’eval ‘\dmalloc –C \!*`’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malloc -l log lo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malloc_summarize ns &lt; logfi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s must be in current direc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temize how much memory is allocated in each fun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E4E8-21FD-4C93-97FF-A7D9DA95F60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tfal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alability vs flex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r, how to write scalable simulation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mory conservation tip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emory lea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A4BD-2041-437E-B26A-DB356A92E7A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6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calability vs Flexibilit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t’s tempting to write all-OTcl simul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enefit: quick prototyp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st: memory + runti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lu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trol the granularity of your split object by migrating methods from OTcl to 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D3C4-85E5-42C0-8E33-EA24D5C3E01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Merit of O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7" name=""/>
          <p:cNvSpPr/>
          <p:nvPr/>
        </p:nvSpPr>
        <p:spPr>
          <a:xfrm>
            <a:off x="833400" y="2438280"/>
            <a:ext cx="7804080" cy="609840"/>
          </a:xfrm>
          <a:custGeom>
            <a:avLst/>
            <a:gdLst>
              <a:gd name="textAreaLeft" fmla="*/ 264240 w 7804080"/>
              <a:gd name="textAreaRight" fmla="*/ 7539840 w 7804080"/>
              <a:gd name="textAreaTop" fmla="*/ 108000 h 609840"/>
              <a:gd name="textAreaBottom" fmla="*/ 501840 h 609840"/>
            </a:gdLst>
            <a:ahLst/>
            <a:rect l="textAreaLeft" t="textAreaTop" r="textAreaRight" b="textAreaBottom"/>
            <a:pathLst>
              <a:path w="21600" h="21600">
                <a:moveTo>
                  <a:pt x="0" y="3825"/>
                </a:moveTo>
                <a:lnTo>
                  <a:pt x="20467" y="3825"/>
                </a:lnTo>
                <a:lnTo>
                  <a:pt x="20467" y="0"/>
                </a:lnTo>
                <a:lnTo>
                  <a:pt x="21600" y="10800"/>
                </a:lnTo>
                <a:lnTo>
                  <a:pt x="20467" y="21600"/>
                </a:lnTo>
                <a:lnTo>
                  <a:pt x="20467" y="17775"/>
                </a:lnTo>
                <a:lnTo>
                  <a:pt x="0" y="17775"/>
                </a:lnTo>
                <a:lnTo>
                  <a:pt x="732" y="10800"/>
                </a:lnTo>
                <a:lnTo>
                  <a:pt x="0" y="3825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129400" y="1795320"/>
            <a:ext cx="49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gram size, complexity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40280" y="3652920"/>
            <a:ext cx="4548240" cy="1404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820800" y="3232080"/>
            <a:ext cx="4419360" cy="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936800" y="3191040"/>
            <a:ext cx="17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C/C++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896440" y="3152880"/>
            <a:ext cx="10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OTc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58440" y="4724280"/>
            <a:ext cx="797724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moothly adjust the granularity of scripting to balance extensibility and performa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th complete compatibility with existing simulation scrip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569880" y="19591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ig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980840" y="1897200"/>
            <a:ext cx="6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w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413080" y="4351320"/>
            <a:ext cx="4548240" cy="14400"/>
          </a:xfrm>
          <a:prstGeom prst="line">
            <a:avLst/>
          </a:prstGeom>
          <a:ln w="5724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321000" y="3767040"/>
            <a:ext cx="25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ahoma"/>
              </a:rPr>
              <a:t>split object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10C5-723D-41AE-BEB9-2CD3979D5D4B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ject Granularity Tip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unctiona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-packet processing </a:t>
            </a:r>
            <a:r>
              <a:rPr b="0" lang="en-US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oks, frequently changing code </a:t>
            </a:r>
            <a:r>
              <a:rPr b="0" lang="en-US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ata manage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mplex/large data structure </a:t>
            </a:r>
            <a:r>
              <a:rPr b="0" lang="en-US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ne-time configuration variables </a:t>
            </a:r>
            <a:r>
              <a:rPr b="0" lang="en-US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5C55-6193-426A-B61E-0FD2D517EDF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9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mory Conservation Tip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void 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trace-al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arrays for a sequence of variab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stead of 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n$i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say 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n($i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void OTcl temporary variab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dynamic bind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delay_bind()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instead of 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bind(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e object.{h,cc}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096A-4B83-41D5-86FC-E3FAA52D921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ample: Agent/Messag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3452760" y="34416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243400" y="34434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00800" y="258768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02240" y="43830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97080" y="258768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97080" y="43578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65" idx="6"/>
            <a:endCxn id="266" idx="2"/>
          </p:cNvCxnSpPr>
          <p:nvPr/>
        </p:nvCxnSpPr>
        <p:spPr>
          <a:xfrm>
            <a:off x="3990600" y="3711600"/>
            <a:ext cx="1253160" cy="21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72" name=""/>
          <p:cNvCxnSpPr>
            <a:stCxn id="265" idx="2"/>
            <a:endCxn id="269" idx="5"/>
          </p:cNvCxnSpPr>
          <p:nvPr/>
        </p:nvCxnSpPr>
        <p:spPr>
          <a:xfrm flipH="1" flipV="1">
            <a:off x="2655360" y="3046320"/>
            <a:ext cx="797760" cy="665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73" name=""/>
          <p:cNvCxnSpPr>
            <a:stCxn id="265" idx="2"/>
            <a:endCxn id="270" idx="7"/>
          </p:cNvCxnSpPr>
          <p:nvPr/>
        </p:nvCxnSpPr>
        <p:spPr>
          <a:xfrm flipH="1">
            <a:off x="2655360" y="3711240"/>
            <a:ext cx="797760" cy="7261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74" name=""/>
          <p:cNvCxnSpPr>
            <a:stCxn id="266" idx="6"/>
            <a:endCxn id="267" idx="3"/>
          </p:cNvCxnSpPr>
          <p:nvPr/>
        </p:nvCxnSpPr>
        <p:spPr>
          <a:xfrm flipV="1">
            <a:off x="5781600" y="3045960"/>
            <a:ext cx="699120" cy="6674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275" name=""/>
          <p:cNvCxnSpPr>
            <a:stCxn id="266" idx="6"/>
            <a:endCxn id="268" idx="1"/>
          </p:cNvCxnSpPr>
          <p:nvPr/>
        </p:nvCxnSpPr>
        <p:spPr>
          <a:xfrm>
            <a:off x="5781240" y="3713040"/>
            <a:ext cx="700920" cy="7502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276" name=""/>
          <p:cNvSpPr/>
          <p:nvPr/>
        </p:nvSpPr>
        <p:spPr>
          <a:xfrm>
            <a:off x="3920760" y="3325680"/>
            <a:ext cx="14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128Kb, 50m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60640" y="413856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10Mb, 1m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26040" y="413856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10Mb, 1m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880920" y="2587680"/>
            <a:ext cx="7475760" cy="1196640"/>
            <a:chOff x="880920" y="2587680"/>
            <a:chExt cx="7475760" cy="1196640"/>
          </a:xfrm>
        </p:grpSpPr>
        <p:grpSp>
          <p:nvGrpSpPr>
            <p:cNvPr id="280" name=""/>
            <p:cNvGrpSpPr/>
            <p:nvPr/>
          </p:nvGrpSpPr>
          <p:grpSpPr>
            <a:xfrm>
              <a:off x="987480" y="2587680"/>
              <a:ext cx="7369200" cy="538200"/>
              <a:chOff x="987480" y="2587680"/>
              <a:chExt cx="7369200" cy="538200"/>
            </a:xfrm>
          </p:grpSpPr>
          <p:sp>
            <p:nvSpPr>
              <p:cNvPr id="281" name=""/>
              <p:cNvSpPr/>
              <p:nvPr/>
            </p:nvSpPr>
            <p:spPr>
              <a:xfrm>
                <a:off x="987480" y="2587680"/>
                <a:ext cx="538200" cy="538200"/>
              </a:xfrm>
              <a:prstGeom prst="ellipse">
                <a:avLst/>
              </a:prstGeom>
              <a:solidFill>
                <a:srgbClr val="cfdbfd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C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818480" y="2587680"/>
                <a:ext cx="538200" cy="538200"/>
              </a:xfrm>
              <a:prstGeom prst="ellipse">
                <a:avLst/>
              </a:prstGeom>
              <a:solidFill>
                <a:srgbClr val="cfdbfd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C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283" name=""/>
              <p:cNvCxnSpPr>
                <a:stCxn id="281" idx="6"/>
                <a:endCxn id="269" idx="2"/>
              </p:cNvCxnSpPr>
              <p:nvPr/>
            </p:nvCxnSpPr>
            <p:spPr>
              <a:xfrm>
                <a:off x="1525320" y="2857320"/>
                <a:ext cx="672120" cy="108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284" name=""/>
              <p:cNvCxnSpPr>
                <a:stCxn id="282" idx="2"/>
                <a:endCxn id="267" idx="6"/>
              </p:cNvCxnSpPr>
              <p:nvPr/>
            </p:nvCxnSpPr>
            <p:spPr>
              <a:xfrm flipH="1">
                <a:off x="6938280" y="2857320"/>
                <a:ext cx="880200" cy="108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</p:grpSp>
        <p:sp>
          <p:nvSpPr>
            <p:cNvPr id="285" name=""/>
            <p:cNvSpPr/>
            <p:nvPr/>
          </p:nvSpPr>
          <p:spPr>
            <a:xfrm>
              <a:off x="880920" y="3141720"/>
              <a:ext cx="811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ros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traffic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35760" y="4349880"/>
            <a:ext cx="7734240" cy="963360"/>
            <a:chOff x="635760" y="4349880"/>
            <a:chExt cx="7734240" cy="963360"/>
          </a:xfrm>
        </p:grpSpPr>
        <p:grpSp>
          <p:nvGrpSpPr>
            <p:cNvPr id="287" name=""/>
            <p:cNvGrpSpPr/>
            <p:nvPr/>
          </p:nvGrpSpPr>
          <p:grpSpPr>
            <a:xfrm>
              <a:off x="1001520" y="4349880"/>
              <a:ext cx="7368480" cy="538200"/>
              <a:chOff x="1001520" y="4349880"/>
              <a:chExt cx="7368480" cy="538200"/>
            </a:xfrm>
          </p:grpSpPr>
          <p:sp>
            <p:nvSpPr>
              <p:cNvPr id="288" name=""/>
              <p:cNvSpPr/>
              <p:nvPr/>
            </p:nvSpPr>
            <p:spPr>
              <a:xfrm>
                <a:off x="1001520" y="4349880"/>
                <a:ext cx="537840" cy="538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S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832160" y="4349880"/>
                <a:ext cx="537840" cy="538200"/>
              </a:xfrm>
              <a:prstGeom prst="ellipse">
                <a:avLst/>
              </a:prstGeom>
              <a:solidFill>
                <a:srgbClr val="99ff66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R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290" name=""/>
              <p:cNvCxnSpPr>
                <a:stCxn id="288" idx="6"/>
              </p:cNvCxnSpPr>
              <p:nvPr/>
            </p:nvCxnSpPr>
            <p:spPr>
              <a:xfrm>
                <a:off x="1539360" y="4619520"/>
                <a:ext cx="671760" cy="108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  <p:cxnSp>
            <p:nvCxnSpPr>
              <p:cNvPr id="291" name=""/>
              <p:cNvCxnSpPr>
                <a:stCxn id="289" idx="2"/>
              </p:cNvCxnSpPr>
              <p:nvPr/>
            </p:nvCxnSpPr>
            <p:spPr>
              <a:xfrm flipH="1">
                <a:off x="6952320" y="4619520"/>
                <a:ext cx="879840" cy="108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</a:ln>
            </p:spPr>
          </p:cxnSp>
        </p:grpSp>
        <p:sp>
          <p:nvSpPr>
            <p:cNvPr id="292" name=""/>
            <p:cNvSpPr/>
            <p:nvPr/>
          </p:nvSpPr>
          <p:spPr>
            <a:xfrm>
              <a:off x="635760" y="4944960"/>
              <a:ext cx="132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msg agent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0448-E67E-4E14-9577-C876C86B35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mory Lea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urify or dmalloc, but be careful about split object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for {set i 0} {$i &lt; 500} {incr i} {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et a [new RandomVariable/Constant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t leaks memory, but can’t be detected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lu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plicitly delete EVERY split object that was new-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85D2-B720-439D-86D9-3AF7685783F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nal Wor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y extended ns dumps OTcl scripts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nd the last 10-20 lines of the dum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s the error related to “_o*** cmd …” 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heck your command(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therwise, check the otcl script pointed by the error mes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3787-32A6-4FB6-A68A-F1A2AFABD3F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3732120"/>
            <a:ext cx="7772400" cy="25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UDP agent (without UDP header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p to 64 bytes user mes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ood for fast prototyping a simple ide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age requires extending ns functional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777960" y="2590920"/>
            <a:ext cx="533160" cy="4572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73840" y="2590920"/>
            <a:ext cx="533520" cy="4572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11120" y="2819520"/>
            <a:ext cx="556272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05080" y="1568520"/>
            <a:ext cx="1869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kt: 64 byt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f arbitrary string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821640" y="1770120"/>
            <a:ext cx="186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ceiver-sid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ocess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84B6-6047-4682-96BA-FB0DD1C210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fine send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lass Sender –superclass Agent/Messag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Message format: “Addr Op SeqNo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nder instproc send-next {}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self instvar seq_ agent_addr_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$self send “$agent_addr_ send $seq_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incr seq_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global 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at [expr [$ns now]+0.1] "$self send-next"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7512-374E-4442-BE2C-DE99881F46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fine sender packet process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nder instproc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recv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msg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self instvar agent_addr_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sdr [lindex $msg 0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seq [lindex $msg 2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uts "Sender gets ack $seq from $sdr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6164-7CE8-4417-B51F-1D4265BF47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: Step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fine receiver packet process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lass Receiver –superclass Agent/Messag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Receiver instproc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recv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msg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self instvar agent_addr_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sdr [lindex $msg 0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seq [lindex $msg 2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uts “Receiver gets seq $seq from $sdr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$self send “$addr_ ack $seq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C79C-F5E5-43D7-BF40-53AE7AD400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7:31:36Z</dcterms:created>
  <dc:creator>Haobo Yu</dc:creator>
  <dc:description/>
  <dc:language>en-US</dc:language>
  <cp:lastModifiedBy>Haobo Yu</cp:lastModifiedBy>
  <cp:lastPrinted>1999-06-12T08:44:34Z</cp:lastPrinted>
  <dcterms:modified xsi:type="dcterms:W3CDTF">2000-07-03T16:40:44Z</dcterms:modified>
  <cp:revision>676</cp:revision>
  <dc:subject/>
  <dc:title>ns-2 tutorial for IEC'00 workshop</dc:title>
</cp:coreProperties>
</file>