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0291-997B-4B42-ABC7-52D74CDA4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16F6-6B81-4A52-AAF7-176D411E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847A7-047B-49F0-81BF-C31A8EE5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5C6FAE-8928-445B-9294-88EEA8DC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86E14-C9E5-466C-930C-50B93218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B509F-0A2E-4DF1-BDAF-BFADF82D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D3064-0717-4D02-A670-8F3232C6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065CA-8B47-435A-8CDD-7040B6DC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27377-F14C-4B93-8EA9-5ABCE7AB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7AAD9-19EE-45C8-BAF6-514F1A36A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45A99-8537-428A-871E-EED9173F5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D7D64C-19A7-4E5D-95CF-03072E49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0A1A-0EF9-4D50-9D77-95F766A56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5C8709-D9D9-4804-9147-067F37D0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0C2D35-2188-43D3-A4A3-7C28370A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D26F48-8512-4896-AF9D-5C53829B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33CAA9-397F-4BB3-B5A1-55F58C07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19D284-3E8F-4C40-8316-12A2C84F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EBA331-9A9B-4D88-B453-DCC930FF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EBB165-EE33-40F1-ACE3-AC4EC82D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721CBC-317D-4AC8-9E70-20ED0432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52CFEF-81AD-4F1A-A5C8-75795A8C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FBBDAB-E269-4C6A-A1DD-F19856F6E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D80D-E72F-470C-8F7B-13EBE0FB2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46EE2C-D05E-4908-84C4-01049746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64AE9-D5B8-43D5-AE69-3DD38BA0B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349CC-2564-47F1-9236-02C78FA3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EB845-3721-412C-B6B7-5A7FDF29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E64DF-FACA-40A8-8C6A-D913AF2F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0C96A-8AFC-4901-9D39-2EF78189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AAF97-71A8-4918-BCD5-E92E0DC7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395A5-DE6B-4E8B-909D-84B89FF1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B1BE9-1560-479D-93C0-EB9EBD1C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3CF8D-2141-47C2-9AD7-A0AA9C6C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D9C3-F299-4CE2-9461-9403BB3F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E55A8-414D-4A00-ABEE-67EDE693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2AC96-92CC-4AB8-A915-603D47A65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8A761-37B9-4CE7-912B-09FDB0E37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B4D35A-3E75-442F-BCBF-F1DF13C7D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E53A04-E457-4483-A2D5-95FABBD0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5A7CB-C539-49BF-8FB7-9B0EB360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C6D011-2B84-42F5-8DC2-DFB26531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AEE33-7E32-4A97-BE2F-425A4C8E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7D8EBE-2146-4703-84F9-B61B07D1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DF672-2AC1-4A74-832C-BC13AB9D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84B8-F095-4BA3-BB7E-7F550C80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30C460-7CCB-4065-B50C-F3340796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244E3-5508-45C6-AEE8-E79F9475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CCCE8B-015F-48DC-8ED0-C04DB403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57629-BC97-4BB6-9CCD-6A1F63289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DAD8E5-36C0-4E75-BE12-3AA5D1AB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4EF5-7B98-4BBB-A048-84A51E55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8ACF-796F-4B98-BBFA-D5B6E24D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15FF-26BC-4955-A95B-5688B25E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842A-84ED-41EF-B5B6-96D4C5EC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D6A2-D796-4144-804B-DB061537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3123-FE26-47D0-A5E9-66DFDCB5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8A19-E5E1-484A-8DF8-937F7FC4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94E7-CE51-4C14-A0A3-E13228EA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BF37-CF52-41EB-A415-98EE0E01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8FBA-B660-41A2-8963-CFDC2E178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7212-C679-4B0C-A4E1-DCF8AFFC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3BF9B-3A6B-496A-A56C-59D5DCF51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040E0-99C2-414E-A6B9-00B7812D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FD9B2-D74C-4A3A-8DB6-84C1C70A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CCD05-2746-403C-B299-8B773BED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3918A-F80E-4366-AB67-E972F080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EDB0-71FD-41F5-9E08-B01493B4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CA496-7ACF-4F27-9F45-809A8294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62806-4FE0-4C31-AA0D-AD000FF3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FD7B0-8735-44E7-86A8-0986BC78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79E98-30DC-4570-B601-2C8DDA4E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0C40E-76D0-4827-A036-6CC294B8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91C0E-71E7-49EF-A8B4-5EC28F655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6FA02-6216-49D5-BFD5-A53254714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C3BF0-8AD6-41FE-A8E7-7E0B2A85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3CAAF-2C89-40C8-BBCA-52734AB7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64D74-F529-4E4F-B06F-8DE544DE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C11D-F55B-4041-951A-76E48523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47CBC-F005-45FD-806D-F2E976F0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1A06B-E285-4D1A-891E-972F748D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F18D6-3A5F-48A9-AE72-84931BD5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88EAF-584E-4AE1-BFB9-37B33950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C9FCF-9DEA-4A93-B641-1C9EA200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E8198-85AC-458E-9935-70BE2695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59C21-5502-42EF-9345-7E9E6FDC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1E3CA-014A-43ED-B95E-F06789A23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538C6-0919-447E-8D69-9CE0DC11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95AB75-BD1F-4DD7-85E6-0962A9BC8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074C-1FDD-4C5D-B0A6-FE362D89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A867FE-E8CE-4CD2-9E00-EED69373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84B184-E823-4602-BD18-76701D36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EE67A4-96E2-4BEB-AF98-A413B29F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EBC824-60E5-43EC-B8DC-8DA7103B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224F74-05D0-42E8-8FF4-0B5D4CA1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509A02-29FD-45F7-A9E1-93083CA3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9171E7-76CB-4994-9CF8-A15E9FFA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32A652-D5EF-4BA2-A096-8043FD6A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E24DB4-F2DE-421D-9853-B2172362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B36250-97BF-4E65-994C-A24153DC5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77F3-A920-4FB1-9336-8A9AD44A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3A6788-8037-452A-9745-C89B2EC7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FC0DD-97E0-4C0A-A261-DB6269424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D2689-B733-45CA-9E74-2F39C45C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77FCF-02B9-4964-9D4C-C33298DB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F211C-F5BB-4787-99FF-AEFCF32D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9F100-7E94-48C3-A39D-0B681D8B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8A331-437C-4649-AE2F-072E69A8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7C71B-BC8B-4B57-AAD3-0382A076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99787-E1BF-4207-A3FF-F5FE311F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38244-867F-4F8C-89DE-48FC1AFB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039D-FB44-428D-A381-8F0D6E82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137F5-C84E-465C-90A4-C29ED220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1EFDE-73EA-4966-BE92-B92BD642F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9CB1A-9E7A-4DDD-A09D-0F67E485C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0A88B-D334-4ED4-B33D-C104F14ED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A71BC-B2A6-43CD-8C9F-08308D91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5D377-F004-4CD3-9BEC-45A4255F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66991-4426-477B-A6AA-A653B5A0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E7D46-EB73-4612-8756-E7D3C52A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F6227-A61D-4486-9BE2-249E24F2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53EF6-CA35-46C0-9B23-733A7E77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F7D4-0DBB-4F2D-A84C-C83913B5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20C45-0101-4C51-AEA8-5369ADD0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029B3-1F88-421F-92F4-9D15F9D7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2DA22-EC00-49AA-9960-F19D0DCD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187D9-0A71-4082-AC6A-76C08977D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3CA5B-CE47-4DE0-9FF0-C91B709DA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47D8A-90DB-4E60-8D9E-59C1015E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5A277-E6EA-4C7B-AA82-DB24D868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7B87F-13A1-429C-AF88-F740749E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F939D-5240-47D5-AD71-9DE5250E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94B66-5160-4CB3-88B0-7BDADFB1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E1D5-C38A-4C82-B730-8D31867E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A35B7-3283-4493-820C-AF5A5139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C7016-277D-429C-970E-66A1603E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5D2D8-72D4-41E4-AEE7-BBAB92F5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3EB67-2A4E-4A61-AFD6-2FBF18FF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027AA-D8C2-4B44-A075-6E11AD5C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EBC5A-B743-4F4F-994C-6FF2781E1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33365-F283-4E4B-930A-426D48F6E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82747-C763-4A0D-9E9E-7F7411B53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87912-B944-41E3-817B-BA425801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6F421-DA53-4F91-803B-D165AD75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3ED1-1C67-4110-83F3-F9540B06C70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896C-FDB5-4D0A-B459-939C3289C6C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B53F-12CA-4457-B896-624E53A5816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B322-7109-4F85-9B35-310E780ED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3402-B042-428D-B65B-7D1457EBDA0E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1B88-2C66-45FA-A648-77B9D97E1F4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F552-D923-4492-9B34-36BC9B8B91C5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4DB3-56B2-4FF4-A5F5-5001D6AC1F5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E900-DCD6-4DFC-B1F5-836AA5E3442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6F78-611E-4DB4-A73C-D1E7967E83C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4119-EDC6-45BF-BC2A-FA2E75909EA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1B39-F69C-4AA0-95F0-06933013B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9C56-1DF1-40E5-85FA-1EBA740EC43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FF89-374E-41A3-8B56-58D79B84C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477B-27C7-48F8-9195-41407C1A28D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571A-A788-46FE-9158-E6F3BC8195E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EAD2-8B84-4CD9-A199-FF1E1253C21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D771-5238-4005-816D-67EB4FCCF17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65B7-36C7-4953-B66C-582984BC3A0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7445-B4FA-42DE-BEAD-E04B640D4E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C6B5-6724-428D-AE85-95443D5E778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CCD1-BB88-447C-A1AA-9872DAE9EBE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7EB9-FECB-4BC2-B0EF-71139241A5D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7553-56E8-441C-8E92-654EEB592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39BB-F013-48AD-A917-4B05BBA3DEE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2A2947-8EB8-427C-9107-C21A6BA9A472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6C72D-077E-4AF7-964E-5D1D9676A2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9E463EE6-423C-4211-8370-4DC95D200EEE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arn(outHorizontal)" transition="out">
                                      <p:cBhvr additive="repl">
                                        <p:cTn id="133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DA13C-3282-47B9-A1EB-B98C71355CDC}" type="slidenum">
              <a:t>3</a:t>
            </a:fld>
          </a:p>
        </p:txBody>
      </p:sp>
    </p:spTree>
  </p:cSld>
  <p:transition>
    <p:comb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551720-37BB-4D3A-888C-6C3F1EBDC18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144658FA-A9B7-4796-ACD0-8C918AAB8617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A7353-48E3-44E5-8C44-E0D4DD7C3CB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2E143C54-B362-4FF1-82B5-616EF4F1C7D6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7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8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9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14FAE-E990-4135-9068-AB6A88C056F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8DF4F4C1-20AF-4336-ABB4-87BAA8F21845}" type="datetime1">
              <a:rPr lang="en-US"/>
              <a:t>07/29/26</a:t>
            </a:fld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