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482562"/>
        <c:axId val="51305543"/>
      </c:barChart>
      <c:catAx>
        <c:axId val="794825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305543"/>
        <c:crosses val="autoZero"/>
        <c:auto val="1"/>
        <c:lblAlgn val="ctr"/>
        <c:lblOffset val="100"/>
        <c:noMultiLvlLbl val="0"/>
      </c:catAx>
      <c:valAx>
        <c:axId val="513055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4825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4190-AE55-4A8C-B2FF-DBD4DC3B0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D3DE-98CD-4467-921A-11706DB1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0E10-BA44-4B43-8099-AA38E5D64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A73D-A02C-4C4D-9562-B6EEE4214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4754-BFBC-4125-859B-180E7E8E2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322F-8E64-4CAC-A345-F88360135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C65E-B202-49A5-9AD1-C57EBE700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5F30-9CF3-4789-8FAE-38BDFEB1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7A4E-E2FF-4A5D-82CE-54FC98CF3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59FB-7F2B-4588-A86B-0FCE06D4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5A3E-EB6F-4177-A9F9-0F8C4AE8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6294-7CE1-4D8F-A846-9A4AEBED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76460F-021D-477B-9629-A55418BD94E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