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797570"/>
        <c:axId val="49238119"/>
      </c:barChart>
      <c:catAx>
        <c:axId val="427975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38119"/>
        <c:crosses val="autoZero"/>
        <c:auto val="1"/>
        <c:lblAlgn val="ctr"/>
        <c:lblOffset val="100"/>
        <c:noMultiLvlLbl val="0"/>
      </c:catAx>
      <c:valAx>
        <c:axId val="492381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975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8996-E812-45DE-B618-24AE0F305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6126-BC74-4F1F-85BF-1849B1C3D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36CE-FF93-4DB5-9BCA-4D147519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C03C-BF7C-464C-90B6-51B78339A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4C1D-F963-46C9-812B-88EED79C7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F012-718E-4830-A34E-4225ACF83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8686-ECEC-422D-BDA0-68B5289B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666B-D169-4E79-A2E4-87E579D8D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A1A-F55C-4FA8-B191-5D88AB95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D250-EE7C-46BD-A939-71D52EBF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95F7-874E-40C2-AC9A-9EFFBB38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87B8-BFA0-4774-A9F9-35831035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36E54-7C69-4BE0-AEB4-0118F2950B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