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95892"/>
        <c:axId val="43902742"/>
      </c:barChart>
      <c:catAx>
        <c:axId val="42595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02742"/>
        <c:crosses val="autoZero"/>
        <c:auto val="1"/>
        <c:lblAlgn val="ctr"/>
        <c:lblOffset val="100"/>
        <c:noMultiLvlLbl val="0"/>
      </c:catAx>
      <c:valAx>
        <c:axId val="43902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95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14B-50D3-45C6-9428-67C08645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EBC-259F-4E1D-BE67-678B25D9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7C8-C5F0-477F-891F-312C4101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AF5-411A-4780-982B-D0D4A4F9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F37-667A-4ECF-BD41-CBBC5E4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20B-891B-489A-9FE7-186075F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7E5-C28E-4132-BA46-65236FA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1B2-0CC3-4CFD-B0E9-CE17E456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4CF-40F4-4323-9D4E-C5DA969E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EFF-CC11-486A-84C8-96DDB064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81A-F732-40EA-9F18-FA646CA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68E-6849-4969-92B0-4232C8B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E5FCA-E41A-495F-BC6C-54A54DE237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