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311855"/>
        <c:axId val="77638438"/>
      </c:barChart>
      <c:catAx>
        <c:axId val="733118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638438"/>
        <c:crosses val="autoZero"/>
        <c:auto val="1"/>
        <c:lblAlgn val="ctr"/>
        <c:lblOffset val="100"/>
        <c:noMultiLvlLbl val="0"/>
      </c:catAx>
      <c:valAx>
        <c:axId val="776384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3118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53BE-4270-423D-898F-EE3303E9C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C7F8-0A83-4E37-AAF8-4800951E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F954-7B75-4606-A6C2-3BDFCCE70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8659-79E6-4AA3-80E6-74809BB00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9FE2-BB32-4723-B428-480827A8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DD9D-87EF-4F4F-B090-9EF6BAD9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9458-65B6-48C8-B5EE-538D8D88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4AD2-755F-4793-90CF-97CC4B66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A54B-39A0-4DA1-98B7-3E5EA2BF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F48B-54BF-4D87-B056-0957E690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C2EC-B046-464D-BD6E-9783BBCD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E818-F075-44D0-87D2-E354B45A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5DD70-6DB2-4620-AB26-76CE54F24F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