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09390"/>
        <c:axId val="83823856"/>
      </c:barChart>
      <c:catAx>
        <c:axId val="605093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23856"/>
        <c:crosses val="autoZero"/>
        <c:auto val="1"/>
        <c:lblAlgn val="ctr"/>
        <c:lblOffset val="100"/>
        <c:noMultiLvlLbl val="0"/>
      </c:catAx>
      <c:valAx>
        <c:axId val="83823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093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00C7-4368-462A-9197-E5EABDB8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A4A-89A3-49E7-B034-2F4848A1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1091-0FF7-4052-83C1-8887C74B4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24B-D735-435C-9AE4-926F7AE52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321B-E2BB-4E18-B86C-EBCC9E11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1014-3698-4C6A-9804-980DCC93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D7E4-6E81-43A1-B7B5-C32D7DAF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2BB-F0D3-44AE-80AE-5FB67A1C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BDD3-3062-4550-A49D-80234767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17AB-F6B9-40AD-BF69-FE16297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F54B-D494-4307-8189-D52D82E8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D44F-ECB1-4122-A523-D0C1EB0E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9B6CB-57C1-48E5-8CE4-D79B9381B9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