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827375"/>
        <c:axId val="3092068"/>
      </c:barChart>
      <c:catAx>
        <c:axId val="478273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2068"/>
        <c:crosses val="autoZero"/>
        <c:auto val="1"/>
        <c:lblAlgn val="ctr"/>
        <c:lblOffset val="100"/>
        <c:noMultiLvlLbl val="0"/>
      </c:catAx>
      <c:valAx>
        <c:axId val="30920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273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1E6E-A80F-45E6-8757-E55B9E80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1D5C-FCC8-4C65-A442-A240B29F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0122-BEEC-464C-B0BE-587B27E9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D5CD-99A3-4A70-8039-43D18DB9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987B-464F-4669-8706-FBD33720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2051-5BB9-4DF9-8EAA-02D20FBB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B77F-6190-44B1-88EA-80F6DF7B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A9D2-3896-4D34-8639-6801C155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570-ABD0-4AB9-9611-FC6A71F3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DFF0-A083-4C1F-AC3F-DD7026AE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BB9C-8664-463B-BC76-867F294C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1B47-6602-4331-B86A-5F86D198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9E16D-2C29-4076-9D6F-ADC415D5CA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