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74717"/>
        <c:axId val="95330967"/>
      </c:barChart>
      <c:catAx>
        <c:axId val="23747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30967"/>
        <c:crosses val="autoZero"/>
        <c:auto val="1"/>
        <c:lblAlgn val="ctr"/>
        <c:lblOffset val="100"/>
        <c:noMultiLvlLbl val="0"/>
      </c:catAx>
      <c:valAx>
        <c:axId val="953309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47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CE5A-31F7-43E8-8CC1-E630DF47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D1DE-5EA7-4751-8AD5-4BDF8066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84C8-1FAD-4913-98E6-F46312F6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F585-32FC-4282-A726-96F41B91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A083-75A6-443A-8A77-7E70EEDC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4484-03F5-4F79-81FF-A5D51099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208B-56F7-42C7-9447-E10B989E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C432-6A25-45BA-8E74-10EDE8D1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204C-8A67-4598-B030-A0A12F52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3ECE-581E-4F7B-9F59-65D9109F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5A45-7B0C-4F2C-9B43-666B2F75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BB6E-7542-45CE-A338-D860556D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960DD-8DE6-4E10-8802-D83CD49554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