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32331"/>
        <c:axId val="61684144"/>
      </c:barChart>
      <c:catAx>
        <c:axId val="223323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84144"/>
        <c:crosses val="autoZero"/>
        <c:auto val="1"/>
        <c:lblAlgn val="ctr"/>
        <c:lblOffset val="100"/>
        <c:noMultiLvlLbl val="0"/>
      </c:catAx>
      <c:valAx>
        <c:axId val="61684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323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268-A461-49DF-BA72-06BD627B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0ED-EBEC-4A28-BA4E-E48EFAAE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6D2-FAE4-46B7-8D7B-805EA431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DCB-1C15-4E6A-89DC-87D88273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B7C-36AA-4977-BC9B-AFA51F1C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C93-05D5-42A0-ADC4-419FBED6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607-E001-47E6-AFA1-716969C9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955-C376-4FD3-B089-66179390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F9E-B59C-496A-A7A9-D7E2827E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B38-A6A5-4923-B58F-5584C0CA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38A-A531-4399-84E9-4504599E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B98-B8CA-466B-9DF1-DCF22DA5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CBE6C-10E0-4024-8F36-4196A61E20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