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3577"/>
        <c:axId val="28317206"/>
      </c:barChart>
      <c:catAx>
        <c:axId val="8513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17206"/>
        <c:crosses val="autoZero"/>
        <c:auto val="1"/>
        <c:lblAlgn val="ctr"/>
        <c:lblOffset val="100"/>
        <c:noMultiLvlLbl val="0"/>
      </c:catAx>
      <c:valAx>
        <c:axId val="28317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3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C0E-30AC-47C1-A504-8D137AA8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6AA-3B16-41FC-ACE7-D785C24F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519-BA9D-4E61-8518-63A53BB4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3BE0-8005-478C-85AC-2CC040DE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70B-5E65-4DF7-8FC6-B42FB509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C20-27B5-4985-8E19-A5F9F498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B55-6419-438C-9975-1AF368D0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37F-2040-4BB8-9D15-F96E3D21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2E9-2F0A-43EB-8A53-18414CE7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CC2-DD36-4E1B-97A1-E350FAC7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102-4857-40E6-A49E-2C25FB32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069-DE7C-4F5B-B92F-55E2FDFF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5CB99-E895-4C74-9D59-11C137A178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