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36786"/>
        <c:axId val="15528022"/>
      </c:barChart>
      <c:catAx>
        <c:axId val="13736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28022"/>
        <c:crosses val="autoZero"/>
        <c:auto val="1"/>
        <c:lblAlgn val="ctr"/>
        <c:lblOffset val="100"/>
        <c:noMultiLvlLbl val="0"/>
      </c:catAx>
      <c:valAx>
        <c:axId val="15528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36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C3E-B484-47EC-B79B-344B3958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153-1799-48F1-9D59-4B330EEC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498-348F-435E-9895-816C6C54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859-0F4E-46BC-BA49-873F0D56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6EA-FAB2-4959-A13D-1BE76159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77E-8ADD-4131-A5C4-B95BB72D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8E8-3E74-4E47-B483-AD89044A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E10-0E29-412D-84D9-5C06A6D8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4BC-E28F-41F3-BEF3-ECBC2219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5DD-C0AF-4BC7-8C85-6AD22E06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DEC-4E5D-49AA-BA2D-E316AFFE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71E-7125-4F05-A436-F6E2D542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0C063-1C1E-4247-9358-D07AE56014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