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814535"/>
        <c:axId val="38827098"/>
      </c:barChart>
      <c:catAx>
        <c:axId val="358145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27098"/>
        <c:crosses val="autoZero"/>
        <c:auto val="1"/>
        <c:lblAlgn val="ctr"/>
        <c:lblOffset val="100"/>
        <c:noMultiLvlLbl val="0"/>
      </c:catAx>
      <c:valAx>
        <c:axId val="388270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8145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673B-D135-4B82-9880-9FE54D1C3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E9DB-D7AB-444D-804B-A147CA67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3D5F-02B6-417F-9A8A-D2F92C789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AACC-EFA9-4754-8401-7666692DD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C826-A5D3-4F11-B803-9B1D19A7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247F-4451-4F60-BC38-9A017BE7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0389-4C49-4EFF-A6A2-AE4F92D8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A118-77C3-4523-90AB-9214FFC7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A597-7BDF-40D3-A4E2-99189DED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BE75-31CA-41AB-A55A-E1601DA7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1F1B-EC23-486E-A681-CEEAA33D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13C3-DABB-4AA5-9984-F188FA8A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271359-0A29-4E49-A6FB-2935915732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