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55788"/>
        <c:axId val="89565004"/>
      </c:barChart>
      <c:catAx>
        <c:axId val="174557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65004"/>
        <c:crosses val="autoZero"/>
        <c:auto val="1"/>
        <c:lblAlgn val="ctr"/>
        <c:lblOffset val="100"/>
        <c:noMultiLvlLbl val="0"/>
      </c:catAx>
      <c:valAx>
        <c:axId val="89565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557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010-37E5-4E96-BB01-07D9BDD8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1B6-5C88-4E1E-8C44-0BC18093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71AE-6D1C-4BF5-8ABE-7156184D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023-3202-47D3-9BCD-EFE6939F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5BA-4749-4756-92CC-57BCB40B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DC5-953A-4CA6-8F98-7805DFDC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0BDC-CF2D-438E-9F92-0D390105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967B-3CB3-4946-BA15-BA10DC9F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5003-4B81-427D-825E-478D3EC9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A72-4FBE-4453-B431-0F870DF5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558-FD7F-47DE-9931-1E9B2410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2CFB-6FFD-4FDC-A9E5-C74FEA24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1558A-484A-49A5-B510-952AEB0E7C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