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6539"/>
        <c:axId val="81319496"/>
      </c:barChart>
      <c:catAx>
        <c:axId val="7396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19496"/>
        <c:crosses val="autoZero"/>
        <c:auto val="1"/>
        <c:lblAlgn val="ctr"/>
        <c:lblOffset val="100"/>
        <c:noMultiLvlLbl val="0"/>
      </c:catAx>
      <c:valAx>
        <c:axId val="81319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6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4C0-95A0-4A46-812C-19C53008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80A-192C-4D11-B227-A30587A1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D34-C6EC-4C0A-91A4-602124B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2D5-D079-48FD-9D9F-074BA9FE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B1F-1872-41FB-891D-618D4D98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971-1996-47DC-823D-3D14CECE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4BF-BE94-4FE9-B60A-DC751B10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368-4019-401B-A040-4B358B4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B59-1701-40CC-BABE-59AAB65D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491-AFC9-4BC6-BE3D-ABA8329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983-FCBE-4FDD-9931-D84D828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3D0-2A24-4F30-9871-76C5207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A6E73-3A54-49D0-917B-03DD27CB87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