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745401"/>
        <c:axId val="51041737"/>
      </c:barChart>
      <c:catAx>
        <c:axId val="74745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41737"/>
        <c:crosses val="autoZero"/>
        <c:auto val="1"/>
        <c:lblAlgn val="ctr"/>
        <c:lblOffset val="100"/>
        <c:noMultiLvlLbl val="0"/>
      </c:catAx>
      <c:valAx>
        <c:axId val="51041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745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EC6-4E40-4562-9D9A-F3CBA000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745-CAAA-4330-B637-42326FDB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B2F5-A6A6-443E-A48F-CF35073C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A019-D995-4718-B21C-99E12D41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E60-2185-4668-9F4E-649F0F32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8FA-D8D8-41F1-934B-5844DFDC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617C-DE79-4596-AF4B-3E9286FF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C93D-50DD-41C9-B756-5F61D380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216-3485-49F9-8134-4139EDCC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719-19AB-4EC7-ABA1-2867758D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5D2-F153-4301-A4E0-37125FA9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B12-856A-4B32-8E57-9C8703D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190F6-9CCD-471E-BF79-37B0E04741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