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72385"/>
        <c:axId val="54183939"/>
      </c:barChart>
      <c:catAx>
        <c:axId val="75172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83939"/>
        <c:crosses val="autoZero"/>
        <c:auto val="1"/>
        <c:lblAlgn val="ctr"/>
        <c:lblOffset val="100"/>
        <c:noMultiLvlLbl val="0"/>
      </c:catAx>
      <c:valAx>
        <c:axId val="54183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72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EDB-D19B-4443-A1A9-6966EFCA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CD1-DD1F-44B8-80DF-5B61A1BD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C40-52AF-4DDA-AFFC-9575AEE7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4E1-9762-48EC-8FD4-57963802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380-BDCA-45D8-B523-0568F02D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FA0-F9FE-47FE-9369-033E4FD0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5C9-29E1-4016-B9C9-5C211CDA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530-CBCE-4509-A1A3-8F026929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1AE-F187-4E32-B00F-14C6EEDB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C32-46C8-44DE-ABA1-5B1079D8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69D-54A7-4B80-8B46-4342EB93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565-3987-4BD6-BEEC-051C265E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DAA06-ECF9-4998-A6EC-6F17BD2BAD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