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637145"/>
        <c:axId val="21279532"/>
      </c:barChart>
      <c:catAx>
        <c:axId val="166371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279532"/>
        <c:crosses val="autoZero"/>
        <c:auto val="1"/>
        <c:lblAlgn val="ctr"/>
        <c:lblOffset val="100"/>
        <c:noMultiLvlLbl val="0"/>
      </c:catAx>
      <c:valAx>
        <c:axId val="212795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6371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C19E-3B46-4714-A3D8-54D5C8073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B706-9EE5-4E27-A88E-BD5FC1EA3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9737-F53B-4E75-B76F-01BA513E3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52BA-81C9-4540-AC68-360824C58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E04D-DF4C-41E6-AC96-FF49739F6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15F9-23CF-4111-A8E2-B085A6BFB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FD5B-0EF7-484D-BDB5-7B4CCFE9B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DDC1-4620-4E02-86F8-AC7F98A58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6323-A89F-4BD6-B382-C293C96C2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50EC-07FF-4B82-BDD5-D2A67AE0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76BB-03DA-4177-AFE8-B4831839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94BE-1BE5-4A5F-92B9-47575152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EFD390-DC43-4CAF-A79C-04B8746DC1E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