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73911"/>
        <c:axId val="55804129"/>
      </c:barChart>
      <c:catAx>
        <c:axId val="10073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04129"/>
        <c:crosses val="autoZero"/>
        <c:auto val="1"/>
        <c:lblAlgn val="ctr"/>
        <c:lblOffset val="100"/>
        <c:noMultiLvlLbl val="0"/>
      </c:catAx>
      <c:valAx>
        <c:axId val="55804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73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3EE-4C23-4FF6-832C-584BC90E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952-E1DB-418D-B815-98944D40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3BC-D8AA-4E0E-B7F9-054C66C8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D1A-31AF-4A21-939F-CCF669A5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6D6-D447-48FA-8E95-F95E6251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59B-0AC9-470C-B7DC-305D51A0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87E-8573-4B2A-AB20-444BCBCC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BC7-033E-46B9-B7AB-D9EC7057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BBC-6099-4994-8E80-0C86DDC9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4F4-073B-4FB9-88F4-C20C532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CB2-7971-4C3A-86AD-C6854CE3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DC3-AF5F-4D87-8FDE-5551642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FB577-5D24-4EF7-8240-A272EB581E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