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79830"/>
        <c:axId val="66564124"/>
      </c:barChart>
      <c:catAx>
        <c:axId val="98779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4124"/>
        <c:crosses val="autoZero"/>
        <c:auto val="1"/>
        <c:lblAlgn val="ctr"/>
        <c:lblOffset val="100"/>
        <c:noMultiLvlLbl val="0"/>
      </c:catAx>
      <c:valAx>
        <c:axId val="66564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79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A44-5425-47B2-AD40-8B1981ED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1E2-6D4D-46FE-8924-5DBC13BF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17C-5F76-4676-8BF6-77909F58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46B-127B-4682-9248-DD5E7794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7C8-D378-437E-8F7B-5416CC81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CB2-95A1-4877-B024-E1550EE3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E93-03D7-4CBB-B4F0-AC58A8D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FDC-57C1-4AE0-9D8B-E24AF8DC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4CA-71B3-4470-9868-FAC1A783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1E4-3004-4FDE-815D-76384BB7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0DA-B500-4B5F-87E3-2ED839BE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295-509C-4739-B46A-9D547D6E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58DD4-68C7-4DCB-B801-45052EA17A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