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3225"/>
        <c:axId val="58089392"/>
      </c:barChart>
      <c:catAx>
        <c:axId val="9553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89392"/>
        <c:crosses val="autoZero"/>
        <c:auto val="1"/>
        <c:lblAlgn val="ctr"/>
        <c:lblOffset val="100"/>
        <c:noMultiLvlLbl val="0"/>
      </c:catAx>
      <c:valAx>
        <c:axId val="58089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AE-FD15-4E67-978E-45CF388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79E-E8A5-489D-A6F5-17D92EC3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60C-A593-4318-B9B8-74CE2160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53F-1154-4960-B43B-30C71ABC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3DA-C27D-4851-A540-F97FC90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BA-3988-47CB-8348-15137EC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CD8-9DAF-4DA0-A8C7-F7696AF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5E6-4772-4964-A78E-89FEA550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1E0-FB6C-4DAB-A3E3-89F6B4C8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6BE-AEFB-4D0A-BC21-307041F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90D-DA29-4A7B-AA5A-B926A0A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987-8D9F-44FA-BBDA-2B5450B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174C-24A8-4B69-8805-4F33E8888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