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69525"/>
        <c:axId val="76997497"/>
      </c:barChart>
      <c:catAx>
        <c:axId val="42969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97497"/>
        <c:crosses val="autoZero"/>
        <c:auto val="1"/>
        <c:lblAlgn val="ctr"/>
        <c:lblOffset val="100"/>
        <c:noMultiLvlLbl val="0"/>
      </c:catAx>
      <c:valAx>
        <c:axId val="76997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9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F7F-8AB3-44CF-89FC-FE76DB90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DFE-18CD-4D21-B506-C25BD1D1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F50-E95A-4819-B78C-35733F93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AB9-6B52-4CFF-ACDA-45B9FD26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86-8FAB-4B58-95D5-D2E9C3A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67A-6518-4D93-8ACF-D5A2D618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DBF-D44C-4D16-ADBF-A84B71F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F5D-C221-419F-A636-3EA390D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C4E-86DE-4428-AE67-455D209D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AD3-BFFC-4C86-A2DD-17F9B54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177-F3D6-4A09-9592-BCFF200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791-C090-4B48-A7B9-C443575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DFD7-B284-494A-9B3E-4FFFD2B22A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