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56336"/>
        <c:axId val="51342119"/>
      </c:barChart>
      <c:catAx>
        <c:axId val="84956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42119"/>
        <c:crosses val="autoZero"/>
        <c:auto val="1"/>
        <c:lblAlgn val="ctr"/>
        <c:lblOffset val="100"/>
        <c:noMultiLvlLbl val="0"/>
      </c:catAx>
      <c:valAx>
        <c:axId val="51342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56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943-FCF0-45A7-8BAF-91A8FFB1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07E-5BE2-4256-B6A8-D627B4F6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DA9-D106-4423-8681-4B838574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111-0465-43F3-A2AE-E230D0A2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5A6-B168-4EB3-AD1A-4295DB4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706-B237-435C-8355-12FA6526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604-9F4B-4AD7-93F1-C3BABDE6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48B-52D2-4E8B-9BDB-9DD17F69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E3F-69F2-470A-9CB4-B87B55E5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C0C-9B2A-4111-B586-C5D5AAA6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B75-A2DE-4936-9DD0-DC537D0A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FF1-F4AA-4472-B431-ADA97A5C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F474B-6835-4CBE-BF82-BEB1BB0BBC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