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90029"/>
        <c:axId val="22702872"/>
      </c:barChart>
      <c:catAx>
        <c:axId val="13390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02872"/>
        <c:crosses val="autoZero"/>
        <c:auto val="1"/>
        <c:lblAlgn val="ctr"/>
        <c:lblOffset val="100"/>
        <c:noMultiLvlLbl val="0"/>
      </c:catAx>
      <c:valAx>
        <c:axId val="22702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0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EF1-C59B-4AB3-9201-12B220D4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12D-2CE4-4BCE-8689-707B0F02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5FD-368E-4955-BFC6-8FD762F2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C28-107D-4440-B218-1B7F5C76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64B-5EA7-4353-AE90-6685C3E7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909-7EB0-461B-B832-4CB3C25F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003-BA66-47F6-A2E6-CAA4EB40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FC2-E216-46C6-B1B1-73871164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08A-DAEC-40B3-8F6D-5F1B9438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B82-3729-4D0E-BE11-2793ABA5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486-491D-49F4-844F-AF2D88A5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84D-A13C-4B60-8F73-23FB49FC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1C913-67D6-4DF4-B862-506847AB4E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