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736661"/>
        <c:axId val="71981389"/>
      </c:barChart>
      <c:catAx>
        <c:axId val="307366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81389"/>
        <c:crosses val="autoZero"/>
        <c:auto val="1"/>
        <c:lblAlgn val="ctr"/>
        <c:lblOffset val="100"/>
        <c:noMultiLvlLbl val="0"/>
      </c:catAx>
      <c:valAx>
        <c:axId val="719813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366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4A7-18A8-4A4F-BE2C-03ADB703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B6FF-4805-46FC-992C-5F0D18CD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761-7F26-4D9B-BA1F-80BCC4B6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7F0B-A399-47A3-9A68-A8F88C3C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26D-DB8C-409A-ABD6-9BC6B4A6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7C2E-B33D-44FD-9C74-FD0C2187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D49-FC60-45A6-B108-8BBEC29F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3BE-0AF6-4A9B-AFC7-B75FC422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A2FF-F144-434C-87D2-424B7801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4D0-58C6-4F2C-9371-DF634C01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0A2-E4F3-48F5-BD07-74DD4BBE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5ED-77E9-40BE-9F9C-A932D042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ADE84-1A15-49CC-BAE0-A1B777207B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