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44252"/>
        <c:axId val="74091923"/>
      </c:barChart>
      <c:catAx>
        <c:axId val="85144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91923"/>
        <c:crosses val="autoZero"/>
        <c:auto val="1"/>
        <c:lblAlgn val="ctr"/>
        <c:lblOffset val="100"/>
        <c:noMultiLvlLbl val="0"/>
      </c:catAx>
      <c:valAx>
        <c:axId val="74091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44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0B5-CEE1-47FD-8715-E603B351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22F-01CE-44CB-AA0F-C9773E5D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771-EF15-4A68-9936-83C0552A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419-8512-40FD-A714-9238E8E7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3C5-2C5D-41E9-B8B6-46223146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345-2C66-4E98-9A4E-D36536AC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6C6-8204-4459-9A2F-94E60CCD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984-58CB-42CE-A13F-A4A3A823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2C6-0E96-4835-A3DC-CC4F9A6F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B94-36E1-4CAF-94EE-7A4FE9D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ACE-9405-483E-BEC3-B47CFE95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806-1889-4D43-8B04-D15F633D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18409-54F1-4008-B8D2-74881AAAD6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