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635212"/>
        <c:axId val="10566206"/>
      </c:barChart>
      <c:catAx>
        <c:axId val="94635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66206"/>
        <c:crosses val="autoZero"/>
        <c:auto val="1"/>
        <c:lblAlgn val="ctr"/>
        <c:lblOffset val="100"/>
        <c:noMultiLvlLbl val="0"/>
      </c:catAx>
      <c:valAx>
        <c:axId val="10566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35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6382-4501-4789-AC57-AF0FD718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DB6-5360-4C99-9337-71675A8F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660-E89E-41BF-97C8-EC281086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906F-48F8-4162-8990-41BE9662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081D-3967-4A6B-ABD3-CDCDE299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1C4-F13A-41DA-9E29-4BB0D613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F7AF-93C3-4D58-AA9D-375FC991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928-13F8-4780-BEDF-C9185EA7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C35-B3E7-4F7B-BBF9-D51DB876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E99-0B13-4450-B520-E9268A61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85B-B559-4854-8C7E-EC201731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CBC8-3E13-41C4-951F-429281A4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7AA91-C564-4230-BEA0-5A999A895D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