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74055"/>
        <c:axId val="75910992"/>
      </c:barChart>
      <c:catAx>
        <c:axId val="348740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10992"/>
        <c:crosses val="autoZero"/>
        <c:auto val="1"/>
        <c:lblAlgn val="ctr"/>
        <c:lblOffset val="100"/>
        <c:noMultiLvlLbl val="0"/>
      </c:catAx>
      <c:valAx>
        <c:axId val="75910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740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C5B-D125-4B81-93E1-C9689A43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F0E-B39A-40CE-A4C5-0C1AFA1B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106-F888-41C4-BEAA-B9FAC1CC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5E9-42F9-4743-97D4-235CD42B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85B-D0EE-45B3-8428-83554402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C27-2FB3-493E-895C-FBEDA9E1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7B5-F52B-4FA0-AF1B-12443800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D9B-AD9D-4B30-BCCF-F89AA686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C11-E1C0-42B0-BE70-B1C214A6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9E2-ABC0-4809-89A9-8556127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AB8-A5C2-4E6E-8332-46EBC9B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6F7-25CA-4136-AA55-D3D84248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6F12F-9E14-4D72-B37A-311EA8BD92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