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17990"/>
        <c:axId val="19749894"/>
      </c:barChart>
      <c:catAx>
        <c:axId val="43017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49894"/>
        <c:crosses val="autoZero"/>
        <c:auto val="1"/>
        <c:lblAlgn val="ctr"/>
        <c:lblOffset val="100"/>
        <c:noMultiLvlLbl val="0"/>
      </c:catAx>
      <c:valAx>
        <c:axId val="19749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17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EEB-A559-448F-B252-62476292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DCE-2475-4EED-AED9-62FD09E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27E-C4D8-4349-9E23-AA3022ED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381-1895-4D4E-9AAF-CAD44A1D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160-C7B7-4D2C-8198-6597B30C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D1D-0DAD-483D-BFD4-03C410B9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99A-0D37-47C7-8A69-A4793FA7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5DF-F6F6-414D-9120-6CF60B8F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64C-AFE1-4A57-A49E-E237432A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414-71E7-48C3-9C99-EB910382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D4E-F198-41E5-A6B5-F78D694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065-CC79-4D8F-A904-0B8949D0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048AA-FF48-481B-8ECA-B6A67BA29D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