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26391"/>
        <c:axId val="69031051"/>
      </c:barChart>
      <c:catAx>
        <c:axId val="34263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031051"/>
        <c:crosses val="autoZero"/>
        <c:auto val="1"/>
        <c:lblAlgn val="ctr"/>
        <c:lblOffset val="100"/>
        <c:noMultiLvlLbl val="0"/>
      </c:catAx>
      <c:valAx>
        <c:axId val="690310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263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E90F-F158-450B-B2FF-EFC22CBF1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756E-662D-4447-AA24-E4D8609A4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DD91-3FE5-4074-9FC8-C01E9D3E1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2550-B772-4817-A06D-C74DDCE1E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1DE4-7934-40EB-A1F8-351BB2A85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A24B-BC8E-4BD9-8F90-4CB1A6CE9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74BF-97B6-4320-88A1-7436FAC21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EB7D-B717-42FB-A245-7E3142D52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30FF-3AD5-44FF-8F4F-B4A0FCEE6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E7DA-2BEF-4B8E-9B5D-E0686D75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88E2-6EDB-4F11-BF64-5DCE5F22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E11B-650E-4DCD-B05C-F68BFDD1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34A669-08AF-4A80-A610-469AAE61F23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