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30944"/>
        <c:axId val="27194639"/>
      </c:barChart>
      <c:catAx>
        <c:axId val="22330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94639"/>
        <c:crosses val="autoZero"/>
        <c:auto val="1"/>
        <c:lblAlgn val="ctr"/>
        <c:lblOffset val="100"/>
        <c:noMultiLvlLbl val="0"/>
      </c:catAx>
      <c:valAx>
        <c:axId val="271946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30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2CD-F69F-49F5-AD47-226DD4E3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E3BF-5125-480E-AA79-F6E834F7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2D4-BBE2-49A6-8808-3E0FB73F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858-4C01-42A8-801B-10EC4523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304-E746-4AAD-A0F3-95928EF3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1D1-0B10-41F6-BE6A-9F655472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623-5E1C-4DBC-99C4-C736EED2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860D-1891-48EE-99DA-E0A5B811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BB5-7F52-481D-AED5-4FEB10FF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ED64-A9EB-4D6A-A3B7-5F39A450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EE5-0A2C-46F9-9104-7E0FE3A2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C63-3DB4-48FA-821D-A324CC39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99466-C8F8-46B6-8AAF-37F4B8F037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