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27358"/>
        <c:axId val="30590787"/>
      </c:barChart>
      <c:catAx>
        <c:axId val="92827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90787"/>
        <c:crosses val="autoZero"/>
        <c:auto val="1"/>
        <c:lblAlgn val="ctr"/>
        <c:lblOffset val="100"/>
        <c:noMultiLvlLbl val="0"/>
      </c:catAx>
      <c:valAx>
        <c:axId val="30590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27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3F50-3A08-4016-BF12-AD8B4B78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6B8A-BA1A-4F29-8192-31A95DD2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59BE-9D13-4D27-A48A-62D5D5A4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070-BECC-4585-94A8-AE65FACE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41F4-5EE9-4379-AFD2-4B4C016F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BEB-010B-40D5-956D-ABB8DC5F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0124-1D2B-44DA-931B-2E21EAAE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91E-1F7B-4513-87D2-BDDB5D98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701-33BF-43C2-A53D-782A4B3F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59A8-D370-4FFC-B2C3-D8B1106A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D042-C2DC-4B99-B3B7-53894B42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6BDE-CD76-472B-95B4-E8EBF9FC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37757-D88D-4103-BA9E-87FA6CF7E9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