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11026"/>
        <c:axId val="26846785"/>
      </c:barChart>
      <c:catAx>
        <c:axId val="92411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46785"/>
        <c:crosses val="autoZero"/>
        <c:auto val="1"/>
        <c:lblAlgn val="ctr"/>
        <c:lblOffset val="100"/>
        <c:noMultiLvlLbl val="0"/>
      </c:catAx>
      <c:valAx>
        <c:axId val="26846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11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B8A-0A04-4D37-B66B-8862D2F2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2D8-E874-4FF2-9853-3785FCEC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F67-747E-4613-B40B-F8F8129D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51A-52A5-4C2F-97CE-C1399F6B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404-65EA-4188-A69E-4DFAE926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A56-CA75-4BB9-9F28-885BCA3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178-67D4-435D-AE1C-7EB811E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192-D31A-4037-8118-756E157D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F3B-AB9C-4964-B7D3-3D38A56A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A67-152B-4491-8B56-3999658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726-F355-45E2-AF52-A2BD6487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92D-15F2-4BAA-AE58-B00ABAF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31CB3-DBC8-46C4-8F87-DC890667A3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