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72401"/>
        <c:axId val="83300922"/>
      </c:barChart>
      <c:catAx>
        <c:axId val="45872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00922"/>
        <c:crosses val="autoZero"/>
        <c:auto val="1"/>
        <c:lblAlgn val="ctr"/>
        <c:lblOffset val="100"/>
        <c:noMultiLvlLbl val="0"/>
      </c:catAx>
      <c:valAx>
        <c:axId val="83300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2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C87-3BFF-4FF3-9660-0663A1A9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9CF-A0A0-4790-9A8B-133B771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662-5AA7-43A8-8074-E94E72AC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0C2-23AF-424A-96E9-77912EFD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EF9-3261-4C12-8F99-7D4A324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1A4-0814-4737-B60F-30F0F99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31A-BE64-47D6-9CE5-FB0DCFA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109-8311-40ED-AB5C-70C3D2C4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334-4501-48E7-87B8-4D4D713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74C-5D15-43CD-A18B-B257ED8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8F1-B563-4F9E-8DC8-DC74A1C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E9D-B280-43B6-9EF7-C346127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8676-29ED-497D-9048-B58141E85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