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86941"/>
        <c:axId val="62621112"/>
      </c:barChart>
      <c:catAx>
        <c:axId val="188869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21112"/>
        <c:crosses val="autoZero"/>
        <c:auto val="1"/>
        <c:lblAlgn val="ctr"/>
        <c:lblOffset val="100"/>
        <c:noMultiLvlLbl val="0"/>
      </c:catAx>
      <c:valAx>
        <c:axId val="62621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869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EBA6-AA2D-4D2E-9F29-7D71C078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E87B-5143-43F8-929B-BDAA7817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EE8E-D989-4D6D-A266-E9C3C832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696B-094E-4D84-B478-DAB23266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A29-7749-495C-88AE-3EC736D2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283A-9AE3-46EF-BCEB-2B2CFF6D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9DB6-C829-4C24-A8A0-26805C70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121-A308-4323-B51C-FBD7B8AF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EB2-DA4B-4DEC-A718-1EB64BD7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F051-E28F-4400-B1B3-BE73E893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DF10-B649-4546-95F9-EF957E38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4B3-A7F8-4E68-B09E-4A3510E3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696EB-F02D-4E2C-82E7-904E3E9FE2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