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30951"/>
        <c:axId val="84654819"/>
      </c:barChart>
      <c:catAx>
        <c:axId val="28330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54819"/>
        <c:crosses val="autoZero"/>
        <c:auto val="1"/>
        <c:lblAlgn val="ctr"/>
        <c:lblOffset val="100"/>
        <c:noMultiLvlLbl val="0"/>
      </c:catAx>
      <c:valAx>
        <c:axId val="84654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30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398-D824-48E6-8674-83E3144B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FE6-D070-42D7-80F4-8F41142F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122-3B47-478F-A6A4-A4F38C9E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835-D6B1-4A62-9352-BA2BFACE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EB8-4CBB-43F3-92D5-A90F4B37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C2C-3019-4AA6-A859-ECB6C458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150-F121-48F2-B192-243EA07C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D1E-25F4-43E5-99F2-F635CE0D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76E-78E7-4326-8A4B-23648B09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3D3-C90B-4982-A827-285824B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60A-5471-44BC-8CCD-2362102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3FC-4C80-4AE3-9DF1-EA1AFECC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D3F4A-705A-4105-A3C4-327F5A0D9D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