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06779"/>
        <c:axId val="70610708"/>
      </c:barChart>
      <c:catAx>
        <c:axId val="11006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10708"/>
        <c:crosses val="autoZero"/>
        <c:auto val="1"/>
        <c:lblAlgn val="ctr"/>
        <c:lblOffset val="100"/>
        <c:noMultiLvlLbl val="0"/>
      </c:catAx>
      <c:valAx>
        <c:axId val="70610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06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489-169A-44BA-976B-A4D4DDB4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512-7B7E-4D32-B177-057CF7F9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224-C8BA-43A4-AE0E-B2299EA7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6A4-753A-47FB-A616-66AFCC5B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515-5A5D-48A1-9E64-B08D751B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F37-42EC-4DB1-9CB7-AC324D2E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B1A-88A5-4625-93E5-97BFE875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212-ABC9-4375-BF70-D60AF10D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6FC-68A4-4320-A512-0CC5C989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401-ED26-443D-BECB-44250BAB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1B3-97DD-4A41-91DB-EB38B8FE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2C1-F816-4F1A-A172-55606AF5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1D0E1-BD06-4298-B221-D70C25743A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