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48637"/>
        <c:axId val="64965407"/>
      </c:barChart>
      <c:catAx>
        <c:axId val="28248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65407"/>
        <c:crosses val="autoZero"/>
        <c:auto val="1"/>
        <c:lblAlgn val="ctr"/>
        <c:lblOffset val="100"/>
        <c:noMultiLvlLbl val="0"/>
      </c:catAx>
      <c:valAx>
        <c:axId val="64965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48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F063-504B-479D-A665-076575A7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965-F33B-4AB1-A613-EDCD279F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ED6-7A35-4048-8978-A91E56F6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32F-EDE5-40B3-88F6-3832CC34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9EC-1CB1-4402-A8AE-7A42DABF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238-E618-4C2E-89A4-EF53ED4C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0A2-D70D-4C59-9D0C-318D9C8C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A7B-33AA-4DEE-B35E-C068D5D3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9BA-DB6D-4EEC-B69F-7120BEAF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836-6820-4056-9DD9-FA7B5144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91F-1499-4176-BA00-6F6DF98F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F44-B6D0-4D33-87CA-A34869B7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DC790-E67A-4143-A5D2-EF40EE6014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