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50258"/>
        <c:axId val="47965582"/>
      </c:barChart>
      <c:catAx>
        <c:axId val="32350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5582"/>
        <c:crosses val="autoZero"/>
        <c:auto val="1"/>
        <c:lblAlgn val="ctr"/>
        <c:lblOffset val="100"/>
        <c:noMultiLvlLbl val="0"/>
      </c:catAx>
      <c:valAx>
        <c:axId val="47965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0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4E9-FA97-479B-8BD0-001C6A87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C34-CC71-4888-A2AE-B247938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45A-FBEC-4E5C-9683-358208F6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F07-9046-485E-8FEF-98994B24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825-EEA3-4174-8162-AF85CCEF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00B-60B8-4AF3-990B-DC41BAC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DB7-5C2C-4170-BB52-934FE2D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509-C053-4583-A8C9-7280B960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CCE-97C1-4AD7-92E9-C649AF90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9AB-4FBF-4F79-95C1-1791677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245-05EF-4319-96B1-E9F8A04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2DE-911B-4A3E-A670-4391CE6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EA11-E8DD-49C8-BE8A-1B86C689B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