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75417"/>
        <c:axId val="86869779"/>
      </c:barChart>
      <c:catAx>
        <c:axId val="10275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9779"/>
        <c:crosses val="autoZero"/>
        <c:auto val="1"/>
        <c:lblAlgn val="ctr"/>
        <c:lblOffset val="100"/>
        <c:noMultiLvlLbl val="0"/>
      </c:catAx>
      <c:valAx>
        <c:axId val="86869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75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7CE-5E5F-4409-9697-2BDA68EC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BEC-FDD1-4151-8405-54F5354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F04-0A64-4CE7-949B-04E846FC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9FF-6945-4A62-A711-975C9A93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C35-FBF1-4098-8227-2723120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60B-A5DF-4BBD-86C9-2338E72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75C-CFB4-4AAE-8F31-4098AC4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299-2DD5-4EB2-9C44-E20D957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0CA-8E57-4DC8-ABD9-C6E86AEA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CA0-D477-433D-A4E3-DC6474EF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1B3-EF79-4A41-A1C1-A9B3A82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DCF-5591-4D4C-B00A-122F382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542E5-6BC3-4A95-885F-BA3255002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