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37460"/>
        <c:axId val="69010682"/>
      </c:barChart>
      <c:catAx>
        <c:axId val="47137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10682"/>
        <c:crosses val="autoZero"/>
        <c:auto val="1"/>
        <c:lblAlgn val="ctr"/>
        <c:lblOffset val="100"/>
        <c:noMultiLvlLbl val="0"/>
      </c:catAx>
      <c:valAx>
        <c:axId val="6901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37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673-041E-468A-8B87-F3A0A559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D87-1125-4222-B5AB-56FEC22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F9C-9E98-4170-89C3-E0E1C831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236-D1A4-428C-B6AB-C5AC5708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C22-E613-496E-96CA-8CFC36A4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D4D-0ACF-4737-9FCC-419CE52D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915-D6F5-4475-A567-FD3B439C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10D-AF60-4BFD-B2A2-BCAB52F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A8E-6398-4627-B922-7448497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BA8-3A4A-4324-8D0E-6BC0912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34C-3286-4717-AB2D-0C12631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32B-FC51-4E27-936A-09CE0916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68FF9-DCE4-4FED-8A8D-E6DFA2D45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