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54989"/>
        <c:axId val="84335640"/>
      </c:barChart>
      <c:catAx>
        <c:axId val="45054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35640"/>
        <c:crosses val="autoZero"/>
        <c:auto val="1"/>
        <c:lblAlgn val="ctr"/>
        <c:lblOffset val="100"/>
        <c:noMultiLvlLbl val="0"/>
      </c:catAx>
      <c:valAx>
        <c:axId val="84335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4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180-1E66-4848-81A7-BB1E557C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32F-3B61-49B4-8C91-6DBB5F15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24C-CEAC-4806-B035-87EAEF21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1FD-790F-469F-B0E3-39A3DFD8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A4F-D51A-418B-B15D-B9FDE5D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1F1-C8A8-4E1F-AF86-4B9C4625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6C0-7DCD-46EB-8B7F-AE63BE9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AC7-90D7-4329-BB3B-E3793959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8C9-F07F-473C-BA7E-7F8C9C2F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9DF-9B88-4159-8870-3B677F6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8DD-BFCD-475C-B7FD-9DCAADA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40B-ABA8-447B-A915-5655C9B2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3615E-370C-4996-A2B9-40F19D8FC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