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71329"/>
        <c:axId val="18631366"/>
      </c:barChart>
      <c:catAx>
        <c:axId val="35071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31366"/>
        <c:crosses val="autoZero"/>
        <c:auto val="1"/>
        <c:lblAlgn val="ctr"/>
        <c:lblOffset val="100"/>
        <c:noMultiLvlLbl val="0"/>
      </c:catAx>
      <c:valAx>
        <c:axId val="18631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1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7BF-4E5B-45E0-9D1E-CEB9DC6F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BFB-91EF-4BE8-89CE-B1C148C6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786-AF78-436E-87E2-76CBEF1C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3F5-EAF3-469B-9579-FB83E296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B08-7833-43DE-B1BE-A30B07F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E13-77C0-4B0D-A90C-8FFBACBB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A87-1540-4859-9CAA-9A1FB71D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BF2-FF92-40B5-B69B-8E3E135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184-23F5-430A-964F-E261F82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DE0-E3DD-4FFE-A7C6-C4084D6B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24A-46A4-4242-BFF1-9437CF2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163-93F3-4AB9-B21F-98126D6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1A7F7-D9C4-4700-B417-B65D9F05C3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