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44340"/>
        <c:axId val="83412611"/>
      </c:barChart>
      <c:catAx>
        <c:axId val="55344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12611"/>
        <c:crosses val="autoZero"/>
        <c:auto val="1"/>
        <c:lblAlgn val="ctr"/>
        <c:lblOffset val="100"/>
        <c:noMultiLvlLbl val="0"/>
      </c:catAx>
      <c:valAx>
        <c:axId val="83412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44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196-94D1-4422-84B3-473277AE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B6D-BF9C-43F5-A000-D795443B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E6E-2FD6-43D1-852F-52FC8ED3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607E-C5E2-4051-BEB0-AA38D0AE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1A7-4A83-4460-B20A-1EDBDC08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4D7-3C39-485B-84BC-075F0A60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DDB-8847-47E6-8EFB-2C76AA8C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F86-C88D-4064-B7CF-C560A23E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E27-6768-4717-AAF9-36CAFA14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754-490B-43D5-A7FD-A05FD49E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505-5A85-4A17-AC2E-076E9E23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FFB-A572-4292-AEC7-72CE9AF2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2F2CA-DCC7-4E16-BBF4-C83547DAF0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